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9A1-35D5-41E4-8793-B3D36582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051-C5C9-4130-8D36-CA88C83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BE8-2D56-4E98-84EB-50663505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F0E-1506-4E21-9DE4-7FB27FA0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B90-B617-4881-95B0-9D846F38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161-4E25-4282-8469-A323E50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745-0B12-4B8E-9229-9959F44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4A5-4B93-43C3-8D9E-5A25279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AD7-1D79-4925-914E-ED2DAD3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0BD-3955-4371-8E70-12089709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F57-467F-4062-B11F-1060995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A27-9F5F-44CB-9DE4-DB6DEE6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6268-F885-4183-AB35-F91B41233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pa casa de Tex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yúdate con el odómetro de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ro para que sea más fácil ll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3080" y="458136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uidado al t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retorno a Tex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4:09:54Z</dcterms:created>
  <dc:creator>Omega García</dc:creator>
  <dc:description/>
  <dc:language>en-US</dc:language>
  <cp:lastModifiedBy>Omega García</cp:lastModifiedBy>
  <dcterms:modified xsi:type="dcterms:W3CDTF">2007-05-29T04:13:15Z</dcterms:modified>
  <cp:revision>3</cp:revision>
  <dc:subject/>
  <dc:title>Mapa casa de Texcoco</dc:title>
</cp:coreProperties>
</file>