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F6C2-DF3B-46CE-AD34-2A1512CE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E34F-F566-48C9-8410-A1DF1487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DC1-A455-49BA-BF96-D6BB80DF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9C1-724D-4F4E-A83A-FD6EC89B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0AE9-1B3F-4D4A-A68F-87043445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1B2C-2B18-49AF-BD91-BE9FCEB0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9AAE-D613-4382-ADE5-8483CBC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48F0-A218-41FC-883B-DBED4B2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EC21-A1F2-4160-9D46-C4796FE7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0D44-FE6D-4136-9B83-2A328BE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EBD9-AF65-44FD-AD53-173089F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832-DF8D-4CF7-8E71-3FBB9082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B633-1F44-4E9A-85BC-3B725CC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B8D9-C9A9-47F4-81EC-EF201CE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BEC4-7411-4432-A5B1-8F7FDDB0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AB53-41EF-4A47-BBA0-DDC1650B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5D50-9B6A-431B-8DE6-1482C00A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5A1-FDFC-423A-891F-F1D5CFA4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8C5-F610-4502-BC18-E6FDCDD9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382-C933-4395-8E3A-30D23C01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370-6D82-4859-9FB7-ADA77457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372-6DEA-4094-B1D0-ECDA4B6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F14-F3E3-4D97-8E1D-646FF307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2F5-0728-4078-A190-8666EE4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1134-822B-4FEF-8ABF-7A2630F51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6209-C517-4959-90D7-69FDE53D7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ypical.jpg" TargetMode="External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oftentimes.jpg" TargetMode="External"/><Relationship Id="rId2" Type="http://schemas.openxmlformats.org/officeDocument/2006/relationships/hyperlink" Target="file:///oftentimes.jpg" TargetMode="External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idlemachine.jpg" TargetMode="External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phasizing Manufacturing Planning and 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up T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429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 Different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Stock o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9720" y="3429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apabilities vary by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4038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Needs Difficult to Forec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sh 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34290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e Drive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RP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4038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ea typeface="Arial"/>
                <a:hlinkClick r:id="rId1"/>
              </a:rPr>
              <a:t>Kanban compa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46483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bor Inten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2819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ly No Min Stock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429000"/>
            <a:ext cx="4419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ning/Scheduling Dri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erial &amp; Labor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P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fety Stock / Drop 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5720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ea typeface="Arial"/>
                <a:hlinkClick r:id="rId1"/>
              </a:rPr>
              <a:t>Increasing Amount of Unplan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   and Unscheduled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819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Build Qua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819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ea typeface="Arial"/>
                <a:hlinkClick r:id="rId1"/>
              </a:rPr>
              <a:t>Planning Determines 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3429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city Levels Vary Hou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L-3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Material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P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Stock / Drop 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0292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dle 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4114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chine Controller Types V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e Newer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rate from History to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lcome Inno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State of 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19520" y="4800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earch Before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mental Steps Can Lessen 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60199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asure Often to Check Progr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342900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48769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 Costs to Remain Compet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irect as well as indir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 only what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imize warehou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ize pro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962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ion Floor Lay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ing Setup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veling of Capacity L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5715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duling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54100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s what gets built and w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izes pro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lanning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 Whit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ry F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6019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yota Motor 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4267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stic, often second 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876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 product, right place, right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5486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ximize produ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60958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te Wa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unct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al Constra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 Buy-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Just In Time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uced Inven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5410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d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6019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•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Support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15238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5:41:10Z</dcterms:created>
  <dc:creator>lewimt</dc:creator>
  <dc:description/>
  <dc:language>en-US</dc:language>
  <cp:lastModifiedBy>LewisMT</cp:lastModifiedBy>
  <dcterms:modified xsi:type="dcterms:W3CDTF">2004-04-12T14:02:40Z</dcterms:modified>
  <cp:revision>9</cp:revision>
  <dc:subject/>
  <dc:title>Just In Time</dc:title>
</cp:coreProperties>
</file>