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35BA-CBE7-4115-B778-7BE8CC9A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6ED2-217C-44AD-9BF3-4CB2FD8F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20AE-788D-446B-95AB-53234137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450D-A5DD-4BEB-BA98-5779297D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8EC-58A6-45BD-A861-1E6845BA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820F-E9B9-4CA3-AC65-2378B48E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4AB-59EC-4174-B6FB-6F5D56B7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51D-7839-4DD0-A9BA-5AB7DD2F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9C6-8D6E-41AF-8054-C1634EB9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833F-4D25-4609-8BAE-D82E7897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676-435F-4122-B03E-46E7233D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B9E-FEFF-4A04-BEC5-67D45AE8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7920" y="-1619280"/>
            <a:ext cx="9524880" cy="84772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4B72-C509-43DD-B479-076AD1EEE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380880"/>
            <a:ext cx="510516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Mercurius Script MT Bold"/>
              </a:rPr>
              <a:t>Tiles ~ Linole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Tahoma"/>
              </a:rPr>
              <a:t>Contractors prices to the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9520" y="1676520"/>
            <a:ext cx="2743200" cy="22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Talav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alt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onterr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allas Ceram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zt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id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Quality Mar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2286000"/>
            <a:ext cx="2210040" cy="237816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Institution"/>
              </a:rPr>
              <a:t>LARGE SELECTION OF TILES ON DISPL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4114800"/>
            <a:ext cx="541008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c0c0c0"/>
                </a:solidFill>
                <a:latin typeface="Tahoma"/>
              </a:rPr>
              <a:t>ANCIENT CIT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ile &amp; Interi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776 Cupertino Road   ~   </a:t>
            </a:r>
            <a:r>
              <a:rPr b="1" lang="en-GB" sz="20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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982 72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[across from high school next to Easy Prin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Santa Ana’s Interior Headquar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1814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HOURS: 8:30–5:00 Mon–F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9:00–1:00 S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6400800"/>
            <a:ext cx="198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PARKING IN R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tile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1289160" cy="4695840"/>
          </a:xfrm>
          <a:prstGeom prst="rect">
            <a:avLst/>
          </a:prstGeom>
          <a:ln w="0">
            <a:noFill/>
          </a:ln>
        </p:spPr>
      </p:pic>
      <p:pic>
        <p:nvPicPr>
          <p:cNvPr id="51" name="mastercard" descr=""/>
          <p:cNvPicPr/>
          <p:nvPr/>
        </p:nvPicPr>
        <p:blipFill>
          <a:blip r:embed="rId2"/>
          <a:stretch/>
        </p:blipFill>
        <p:spPr>
          <a:xfrm>
            <a:off x="914400" y="5791320"/>
            <a:ext cx="571680" cy="342720"/>
          </a:xfrm>
          <a:prstGeom prst="rect">
            <a:avLst/>
          </a:prstGeom>
          <a:ln w="0">
            <a:noFill/>
          </a:ln>
        </p:spPr>
      </p:pic>
      <p:pic>
        <p:nvPicPr>
          <p:cNvPr id="52" name="visa" descr=""/>
          <p:cNvPicPr/>
          <p:nvPr/>
        </p:nvPicPr>
        <p:blipFill>
          <a:blip r:embed="rId3"/>
          <a:stretch/>
        </p:blipFill>
        <p:spPr>
          <a:xfrm>
            <a:off x="1676520" y="5791320"/>
            <a:ext cx="57132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6T01:46:40Z</dcterms:created>
  <dc:creator>.</dc:creator>
  <dc:description/>
  <dc:language>en-US</dc:language>
  <cp:lastModifiedBy>.</cp:lastModifiedBy>
  <dcterms:modified xsi:type="dcterms:W3CDTF">1999-04-18T09:53:55Z</dcterms:modified>
  <cp:revision>27</cp:revision>
  <dc:subject/>
  <dc:title>No Slide Title</dc:title>
</cp:coreProperties>
</file>