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F44-D2D5-467E-B7E4-4E3992FE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46C-DBAB-4B85-BEAE-4B2BBA1C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890-BEF2-44BB-9643-A909484D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783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426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783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426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F7C-EBF8-4869-9B36-AF86381A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FDCD-DC80-48C6-93B2-4E317996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A6F6-34F8-4222-AFD9-D7FDA174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B3F0-C38B-454D-BA30-257BDDAB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F054-317E-4E74-8A7A-F014F6C3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1A85-1149-4886-A07B-EE699FB9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F019-3AB3-4113-8470-956DEE90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C717-7A32-4B87-8C75-A0B3491E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A92-D45F-42E2-A036-E7079CBC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749A-98AF-4F07-8984-A4169A21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08DD-0A2C-4DF5-A968-813BF92D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E4ED-45E6-43C4-87A1-94A0C46E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D560-E003-48BC-BB21-BBE3A0B2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783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26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783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426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DDF4-0D11-4D60-98D3-69B37E9D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953-FE5E-4897-9B26-8BF70B0B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3EF-7BC6-483F-96B3-848CE678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DF4-7B34-4FC1-89B2-028EC2A2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722-DCF2-4EC0-8139-DDE78E82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0D7-9D94-469E-A655-F6FD7866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943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110-0B40-4F55-ABAF-BEC3123D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943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CF1-85FB-45CB-96B0-AF43A214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7195-BF2C-40A7-973E-13646C2B40D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28BD-ADA7-4F3C-A398-85BC19AEA36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648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Mercurius Script MT Bold"/>
              </a:rPr>
              <a:t>Tiles ~ Linoleum</a:t>
            </a:r>
            <a:br>
              <a:rPr sz="4800"/>
            </a:b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Contractors prices to the public</a:t>
            </a:r>
            <a:endParaRPr b="0" lang="en-US" sz="2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8600"/>
            <a:ext cx="1295280" cy="4800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1676520"/>
            <a:ext cx="259056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alav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ltil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onterr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allas Ceram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zt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ids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Quality Marbl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209680"/>
            <a:ext cx="2057400" cy="237816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Institution"/>
              </a:rPr>
              <a:t>LARGE SELECTION OF TILES ON DISPLA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4038480"/>
            <a:ext cx="5257800" cy="11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c0c0c0"/>
                </a:solidFill>
                <a:latin typeface="Tahoma"/>
              </a:rPr>
              <a:t>ANCIENT CITY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ile &amp; Interi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257800"/>
            <a:ext cx="586764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776 Cupertino Road   ~   </a:t>
            </a:r>
            <a:r>
              <a:rPr b="1" lang="en-GB" sz="2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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982 72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[across from high school next to Easy Print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Santa Ana’s Interior Headquar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63849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PARKING IN R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5257800"/>
            <a:ext cx="20574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HOURS: 8:30–5:00 Mon–Fr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9:00–1:00 S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tiles%20trace" descr=""/>
          <p:cNvPicPr/>
          <p:nvPr/>
        </p:nvPicPr>
        <p:blipFill>
          <a:blip r:embed="rId1"/>
          <a:stretch/>
        </p:blipFill>
        <p:spPr>
          <a:xfrm>
            <a:off x="998640" y="304920"/>
            <a:ext cx="1149120" cy="4647960"/>
          </a:xfrm>
          <a:prstGeom prst="rect">
            <a:avLst/>
          </a:prstGeom>
          <a:ln w="0">
            <a:noFill/>
          </a:ln>
        </p:spPr>
      </p:pic>
      <p:pic>
        <p:nvPicPr>
          <p:cNvPr id="97" name="master%20card%201" descr=""/>
          <p:cNvPicPr/>
          <p:nvPr/>
        </p:nvPicPr>
        <p:blipFill>
          <a:blip r:embed="rId2"/>
          <a:stretch/>
        </p:blipFill>
        <p:spPr>
          <a:xfrm>
            <a:off x="914400" y="5867280"/>
            <a:ext cx="571680" cy="343080"/>
          </a:xfrm>
          <a:prstGeom prst="rect">
            <a:avLst/>
          </a:prstGeom>
          <a:ln w="0">
            <a:noFill/>
          </a:ln>
        </p:spPr>
      </p:pic>
      <p:pic>
        <p:nvPicPr>
          <p:cNvPr id="98" name="visa2" descr=""/>
          <p:cNvPicPr/>
          <p:nvPr/>
        </p:nvPicPr>
        <p:blipFill>
          <a:blip r:embed="rId3"/>
          <a:stretch/>
        </p:blipFill>
        <p:spPr>
          <a:xfrm>
            <a:off x="1752480" y="5867280"/>
            <a:ext cx="57168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7T09:56:32Z</dcterms:created>
  <dc:creator>.</dc:creator>
  <dc:description/>
  <dc:language>en-US</dc:language>
  <cp:lastModifiedBy>.</cp:lastModifiedBy>
  <cp:lastPrinted>1999-03-30T08:38:10Z</cp:lastPrinted>
  <dcterms:modified xsi:type="dcterms:W3CDTF">1999-04-17T12:54:53Z</dcterms:modified>
  <cp:revision>19</cp:revision>
  <dc:subject/>
  <dc:title>Selling Your Ideas</dc:title>
</cp:coreProperties>
</file>