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C9B-9B14-4CAF-B2FE-FB2FDB2E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DA1-5D3A-4321-867A-7A579342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E69-8878-4BAE-8A04-A5D8887B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90D-E0E6-4506-9840-1E0B46C6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256-3D38-4354-B06C-0E5F6C09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E80-852F-42A0-B016-DF791172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D0A-8FC0-44DC-822E-6ADBA364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DEF-B7D1-4FEF-9363-CDBD4B6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9B7-5EBA-47B6-9146-49051A3E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A91-39DD-4681-8A99-D80F77F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C17-1F88-460A-B605-129AD468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93B-8AC0-4BBB-B856-DA29F5F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7920" y="-1619280"/>
            <a:ext cx="9524880" cy="84772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3144-F7DE-416E-8E61-855C6754F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80880"/>
            <a:ext cx="51051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Mercurius Script MT Bold"/>
              </a:rPr>
              <a:t>Tiles ~ Linole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Contractors prices to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676520"/>
            <a:ext cx="274320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alav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lt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onterr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allas Cer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z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id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Quality Mar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286000"/>
            <a:ext cx="2210040" cy="237816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Institution"/>
              </a:rPr>
              <a:t>LARGE SELECTION OF TILES ON DISPL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114800"/>
            <a:ext cx="541008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c0c0c0"/>
                </a:solidFill>
                <a:latin typeface="Tahoma"/>
              </a:rPr>
              <a:t>ANCIENT CIT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ile &amp; Interi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776 Cupertino Road   ~   </a:t>
            </a:r>
            <a:r>
              <a:rPr b="1" lang="en-GB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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982 72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[across from high school next to Easy Pri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anta Ana’s Interior Headquar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181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HOURS: 8:30–5:00 Mon–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9:00–1:00 S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40080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PARKING IN R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ile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433520" cy="5222880"/>
          </a:xfrm>
          <a:prstGeom prst="rect">
            <a:avLst/>
          </a:prstGeom>
          <a:ln w="0">
            <a:noFill/>
          </a:ln>
        </p:spPr>
      </p:pic>
      <p:pic>
        <p:nvPicPr>
          <p:cNvPr id="51" name="mastercard" descr=""/>
          <p:cNvPicPr/>
          <p:nvPr/>
        </p:nvPicPr>
        <p:blipFill>
          <a:blip r:embed="rId2"/>
          <a:stretch/>
        </p:blipFill>
        <p:spPr>
          <a:xfrm>
            <a:off x="762120" y="5791320"/>
            <a:ext cx="571320" cy="342720"/>
          </a:xfrm>
          <a:prstGeom prst="rect">
            <a:avLst/>
          </a:prstGeom>
          <a:ln w="0">
            <a:noFill/>
          </a:ln>
        </p:spPr>
      </p:pic>
      <p:pic>
        <p:nvPicPr>
          <p:cNvPr id="52" name="visa" descr=""/>
          <p:cNvPicPr/>
          <p:nvPr/>
        </p:nvPicPr>
        <p:blipFill>
          <a:blip r:embed="rId3"/>
          <a:stretch/>
        </p:blipFill>
        <p:spPr>
          <a:xfrm>
            <a:off x="1523880" y="5791320"/>
            <a:ext cx="57168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6T01:46:40Z</dcterms:created>
  <dc:creator>.</dc:creator>
  <dc:description/>
  <dc:language>en-US</dc:language>
  <cp:lastModifiedBy>.</cp:lastModifiedBy>
  <dcterms:modified xsi:type="dcterms:W3CDTF">1999-04-17T12:54:47Z</dcterms:modified>
  <cp:revision>25</cp:revision>
  <dc:subject/>
  <dc:title>No Slide Title</dc:title>
</cp:coreProperties>
</file>