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21A1-FB7D-4FB6-9A3E-1EFBC5350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s though China was to thank Japan for invading the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 Troops sent, nobles captured, then rescued. Also, China must pay indemnities.  Much like when they lost the Opium war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Opium wars were from the 1800s.  In the may fourth mvt, china protests that Japan was given German-controlled land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demands: some dropped, some forced under threat of further invas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apan and china have a precarious/dynamic relationship, at times looking up to one another, at times butting heads/clashing.  Sometimes Japan bows to China, sometimes China is looking at how Japan made so much progress/modernized.  Manchukuo=puppet gov.  Avoid European-influenced areas.  It was at first thought that Japan and China would be friendly, esp since Japan knew China be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sia Common Culture Academy, graduates could be hired by JPN foreign ministry; in-dept studies of modern China and Japan.  However, ignorance and tension persisted.  Opium still seems to be a problem.  The students studied language (anthropology-like), but the officials did not.  They assumed they had the correct understanding of kanji, and ended up with wrong idea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id not want Chiang and Zhang to get into a battle, because Zhang’s army may be followed by Chiang’s if retreating; Japan threatened not to give them refuge.  Japan kills Zhang as he tries to return home, and his sons succeeds him.  Japan recognizes Chiang’s gov in 1929.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F2566-6AC3-4D58-83F3-46F1A0A12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ECCA4-C37D-4FD2-9BBF-77A3D5E97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ED30D-A35E-4E70-9581-FB3568694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83430-DE7E-433D-9A57-BBDB55F5F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46A97-C30A-4329-A480-D837CC1EF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1F810-9BEA-4D80-8207-FDFF0D770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32F48-C5CA-4631-9809-88843D697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8609C-5B7E-4390-9AFA-E45277838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804D6-E724-4C6B-9BF2-672D1B1AF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B49D5-43AA-4909-9598-6DFE92E9B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A5470-93C8-4DC0-9D33-DB31473F0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238BF-0AED-454A-9EDC-14A1B3056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10EC7-9D70-4276-97F7-A34DBC3F2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884D6-7CCA-44AB-9C9B-8A200370B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42212-EF4D-42E6-B9D0-BCD83EFDA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9EA95-DC6B-4795-92EF-F87BC9EED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3AB90-CC37-4D99-A690-F7AF68ECC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E4B31-5E5D-4B39-B3B2-065511E0E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5DAE0-22C9-4C83-AD9E-9D412809D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B70BD-A153-4053-90FF-04B911372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9F5A3-3AF9-4966-80A3-C36040E56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A7FE3-1EE0-42F3-BAB1-8A33D8592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23E80-D535-401E-A995-57FD5BBEB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41B19-4ED5-4725-A733-B4FB8E465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F240-D2C3-4C6B-9A3E-3B6C7883E88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64CC-74AC-45FF-A1A7-4E5C31F499A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Bradley Hand ITC"/>
              </a:rPr>
              <a:t>Japanese Imperialism and    </a:t>
            </a:r>
            <a:r>
              <a:rPr b="1" lang="en-US" sz="4000" spc="-1" strike="noStrike">
                <a:solidFill>
                  <a:srgbClr val="f7d47d"/>
                </a:solidFill>
                <a:latin typeface="Bradley Hand ITC"/>
              </a:rPr>
              <a:t>	</a:t>
            </a:r>
            <a:r>
              <a:rPr b="1" lang="en-US" sz="4000" spc="-1" strike="noStrike">
                <a:solidFill>
                  <a:srgbClr val="f7d47d"/>
                </a:solidFill>
                <a:latin typeface="Bradley Hand ITC"/>
              </a:rPr>
              <a:t>Identity Clashes</a:t>
            </a:r>
            <a:br>
              <a:rPr sz="4000"/>
            </a:br>
            <a:r>
              <a:rPr b="0" lang="en-US" sz="4000" spc="-1" strike="noStrike">
                <a:solidFill>
                  <a:srgbClr val="f7d47d"/>
                </a:solidFill>
                <a:latin typeface="Bradley Hand ITC"/>
              </a:rPr>
              <a:t>Schoppa Chapter 13</a:t>
            </a:r>
            <a:endParaRPr b="0" lang="en-US" sz="4000" spc="-1" strike="noStrike">
              <a:solidFill>
                <a:srgbClr val="f7d47d"/>
              </a:solidFill>
              <a:latin typeface="Arial"/>
            </a:endParaRPr>
          </a:p>
        </p:txBody>
      </p:sp>
      <p:sp>
        <p:nvSpPr>
          <p:cNvPr id="200" name="PlaceHolder 2"/>
          <p:cNvSpPr>
            <a:spLocks noGrp="1"/>
          </p:cNvSpPr>
          <p:nvPr>
            <p:ph type="subTitle"/>
          </p:nvPr>
        </p:nvSpPr>
        <p:spPr>
          <a:xfrm>
            <a:off x="1904760" y="3962160"/>
            <a:ext cx="4319640" cy="6858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The   1920s and 1930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53f35"/>
                </a:solidFill>
                <a:latin typeface="Arial"/>
              </a:rPr>
              <a:t>Japanese marching into China</a:t>
            </a: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9" name="" descr=""/>
          <p:cNvPicPr/>
          <p:nvPr/>
        </p:nvPicPr>
        <p:blipFill>
          <a:blip r:embed="rId1"/>
          <a:stretch/>
        </p:blipFill>
        <p:spPr>
          <a:xfrm>
            <a:off x="228600" y="1371600"/>
            <a:ext cx="7429680" cy="487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53f35"/>
                </a:solidFill>
                <a:latin typeface="Bradley Hand ITC"/>
              </a:rPr>
              <a:t>Chinese Counter-Aggression</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In 1931, the Chinese effectively boycott Japanese goods (by 2/3!), which the Japanese see as an act of aggression.  </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kirmishes break out in 1932, and many Chinese die compared to few Japanese.  </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rom 1933-1937, more anti-Japanese aggression occurs, with the Chinese citizens angry at Chiang’s refusal to act.  </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The Japanese won: Shanhaiguan (important pass), Rehe Province (large land loss), Tanggu truce (negotiated DMZ), Eastern Chahar (lost terr.), Am</a:t>
            </a:r>
            <a:r>
              <a:rPr b="0" lang="en-US" sz="2000" spc="-1" strike="noStrike">
                <a:solidFill>
                  <a:srgbClr val="2f1311"/>
                </a:solidFill>
                <a:latin typeface="Arial"/>
                <a:ea typeface="Arial"/>
              </a:rPr>
              <a:t>ō</a:t>
            </a:r>
            <a:r>
              <a:rPr b="0" lang="en-US" sz="2000" spc="-1" strike="noStrike">
                <a:solidFill>
                  <a:srgbClr val="2f1311"/>
                </a:solidFill>
                <a:latin typeface="Arial"/>
              </a:rPr>
              <a:t> doctrine,  He-Umezu (weaken gov.), Qin-Doihara (Jpn free run), Demand for northern 5 province autonomy, Hebei-Cahar council (lose Hebei province; schools close).  </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ang slowly begins to consider resisting, but did not want war.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605a"/>
                </a:solidFill>
                <a:latin typeface="Bradley Hand ITC"/>
              </a:rPr>
              <a:t>The Xi’an Incident</a:t>
            </a:r>
            <a:endParaRPr b="0" lang="en-US" sz="4000" spc="-1" strike="noStrike">
              <a:solidFill>
                <a:srgbClr val="f7d47d"/>
              </a:solidFill>
              <a:latin typeface="Arial"/>
            </a:endParaRPr>
          </a:p>
        </p:txBody>
      </p:sp>
      <p:sp>
        <p:nvSpPr>
          <p:cNvPr id="223" name="PlaceHolder 2"/>
          <p:cNvSpPr>
            <a:spLocks noGrp="1"/>
          </p:cNvSpPr>
          <p:nvPr>
            <p:ph/>
          </p:nvPr>
        </p:nvSpPr>
        <p:spPr>
          <a:xfrm>
            <a:off x="304920" y="1294920"/>
            <a:ext cx="7386480" cy="449748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nese found it foolish to fight themselves (the Communists) when they had the Japanese to worry about, but Chiang still sends his troops and Zhang Xueliang against them.  (1936)</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hang refuses to act, so Chiang relieves him and orders further attacks on the Communists.  Instead, Zhang and some troops show up and attack Chiang’s resort.  He escapes, but is later captured and given demands to deal with Japan.  National Salvation Conference, the will of Sun Yat-sen.  </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njin prepares to both negotiate and fight for Chiang.  The Communists also consider how to react; under Stalin’s opinion, they choose to let him live.  Others push for a KMT/CCP united front.  </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ang is released on the condition of a UF, but fails to follow through.  He takes Xhang captive/custody.</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KMT loses (late 1940s), he goes to Taiwan, and later to Hawai’i.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Site of the Xi’an incident</a:t>
            </a:r>
            <a:endParaRPr b="0" lang="en-US" sz="4000" spc="-1" strike="noStrike">
              <a:solidFill>
                <a:srgbClr val="f7d47d"/>
              </a:solidFill>
              <a:latin typeface="Arial"/>
            </a:endParaRPr>
          </a:p>
        </p:txBody>
      </p:sp>
      <p:pic>
        <p:nvPicPr>
          <p:cNvPr id="225" name="" descr=""/>
          <p:cNvPicPr/>
          <p:nvPr/>
        </p:nvPicPr>
        <p:blipFill>
          <a:blip r:embed="rId1"/>
          <a:stretch/>
        </p:blipFill>
        <p:spPr>
          <a:xfrm>
            <a:off x="152280" y="1371600"/>
            <a:ext cx="7543800" cy="525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bc40"/>
                </a:solidFill>
                <a:latin typeface="Bradley Hand ITC"/>
              </a:rPr>
              <a:t>Marco Polo Bridge</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37, shots fired at Japanese soldiers, who demand to search a town.  Battle breaks out, , and Japan gains control of Tianjin and Beiping.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pan says it will seek a ‘fundamental solution’, and Chiang decides that China must struggle together against them.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panese is never truly appeased, and demands full respect out of China.  War seems inevitable.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merchant in murdered in Shanghai, Japan sees it as Anti-Japanese, necessitating action.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na, especially Chiang, is left unable to back down.  They can only continue to resist Japan.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ebc3"/>
                </a:solidFill>
                <a:latin typeface="Bradley Hand ITC"/>
              </a:rPr>
              <a:t>The Second Japanese War</a:t>
            </a:r>
            <a:r>
              <a:rPr b="1" lang="en-US" sz="4000" spc="-1" strike="noStrike">
                <a:solidFill>
                  <a:srgbClr val="fbebc3"/>
                </a:solidFill>
                <a:latin typeface="Bradley Hand ITC"/>
              </a:rPr>
              <a:t>	</a:t>
            </a:r>
            <a:endParaRPr b="0" lang="en-US" sz="40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lso called Chinese People's Anti-Japanese War of Resistance, Anti-Japanese War of Resistance, War of Resistance, or Eight Years' War of Resistance in China.</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Japanese called it HEI, the "C" Operation, Chinese Invasion, or the Japanese-Chinese War.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1937-1945, Japan is invading Eastern China, hoping to control the Asian mainland.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ncludes "China Incidents“, the Mukden Incident (Manchuria), and 'Lukouchiao‘ (Marco Polo Incident).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Japanese did not intend to rule directly.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ebc3"/>
                </a:solidFill>
                <a:latin typeface="Bradley Hand ITC"/>
              </a:rPr>
              <a:t>The Second Japanese War</a:t>
            </a:r>
            <a:r>
              <a:rPr b="1" lang="en-US" sz="4000" spc="-1" strike="noStrike">
                <a:solidFill>
                  <a:srgbClr val="fbebc3"/>
                </a:solidFill>
                <a:latin typeface="Bradley Hand ITC"/>
              </a:rPr>
              <a:t>	</a:t>
            </a: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a could not defend itself, and hoped for help from the League of Nations.  They endured many defeats, and only managed to stall Japanese progress while waiting for help.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corched Earth strategy: self-sabotage, including a flood from the Yellow river that killed hundreds of thousands.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The Japanese commit many atrocities, especially in 1940.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provokes America into fighting (1941), and China reduces its activity.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surrenders in 1945 due to America’s atom bombs.  </a:t>
            </a:r>
            <a:endParaRPr b="0" lang="en-US" sz="2000" spc="-1" strike="noStrike">
              <a:solidFill>
                <a:srgbClr val="2f1311"/>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a is left “economically prostrate (Wikipedia.com)”, with high inflation, starvation, homelessness and threats of civil war; Kuomintang and Communists.  </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bc40"/>
                </a:solidFill>
                <a:latin typeface="Bradley Hand ITC"/>
              </a:rPr>
              <a:t>The Foundation of Imperialism</a:t>
            </a:r>
            <a:endParaRPr b="0" lang="en-US" sz="4000" spc="-1" strike="noStrike">
              <a:solidFill>
                <a:srgbClr val="f7d47d"/>
              </a:solidFill>
              <a:latin typeface="Arial"/>
            </a:endParaRPr>
          </a:p>
        </p:txBody>
      </p:sp>
      <p:sp>
        <p:nvSpPr>
          <p:cNvPr id="202" name="PlaceHolder 2"/>
          <p:cNvSpPr>
            <a:spLocks noGrp="1"/>
          </p:cNvSpPr>
          <p:nvPr>
            <p:ph/>
          </p:nvPr>
        </p:nvSpPr>
        <p:spPr>
          <a:xfrm>
            <a:off x="263520" y="1143000"/>
            <a:ext cx="7386480" cy="5486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had once paid tribute to China, and looked to them for culture, authority and respect.</a:t>
            </a:r>
            <a:r>
              <a:rPr b="0" lang="en-US" sz="2400" spc="-1" strike="noStrike">
                <a:solidFill>
                  <a:srgbClr val="ffffff"/>
                </a:solidFill>
                <a:latin typeface="Arial"/>
              </a:rPr>
              <a:t> </a:t>
            </a:r>
            <a:r>
              <a:rPr b="0" i="1" lang="en-US" sz="2400" spc="-1" strike="noStrike">
                <a:solidFill>
                  <a:srgbClr val="ffffff"/>
                </a:solidFill>
                <a:latin typeface="Arial"/>
                <a:ea typeface="ＭＳ Ｐゴシック"/>
              </a:rPr>
              <a:t>Wei zhi, third century CE.  First contact around 57 CE.  </a:t>
            </a:r>
            <a:r>
              <a:rPr b="0" lang="en-US" sz="3200" spc="-1" strike="noStrike">
                <a:solidFill>
                  <a:srgbClr val="ffffff"/>
                </a:solidFill>
                <a:latin typeface="Arial"/>
                <a:ea typeface="ＭＳ Ｐゴシック"/>
              </a:rPr>
              <a:t> </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na loses Ryukyu Islands (Liuqiu/Okinawa) to Japan, 1879. </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na loses Korea as a tribute state due to the first Sino-Japanese war, 1894-1895.  </a:t>
            </a:r>
            <a:r>
              <a:rPr b="0" lang="en-US" sz="2400" spc="-1" strike="noStrike">
                <a:solidFill>
                  <a:srgbClr val="ffffff"/>
                </a:solidFill>
                <a:latin typeface="Arial"/>
              </a:rPr>
              <a:t>Both China and Japan sent troops to quell a Japan-inspired revolt in Korea.  Shimonoseki treaty makes Korea independent</a:t>
            </a:r>
            <a:r>
              <a:rPr b="0" lang="en-US" sz="3200" spc="-1" strike="noStrike">
                <a:solidFill>
                  <a:srgbClr val="ffffff"/>
                </a:solidFill>
                <a:latin typeface="Arial"/>
              </a:rPr>
              <a:t>.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63520" y="144792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pan’s revolution and constitution becomes a model for China, early 1900s.</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pan sends troops to quell Boxers in 1900.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15, Japan submits the 21 demands to China, including demands for territory.  Yuan Shi-kai almost agreed, but citizen refusal and Western pressure forced Japan to rescind in part.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China’s Warlords period (1917-1927), Japan is putting pressure on China.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19, China protests Japan receiving Chinese land (Treaty of Versailles, May Fourth Mvt.).  </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04"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bc40"/>
                </a:solidFill>
                <a:latin typeface="Bradley Hand ITC"/>
              </a:rPr>
              <a:t>The Foundation of Imperialism</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Bradley Hand ITC"/>
              </a:rPr>
              <a:t>Chapter 13: Identity Clash</a:t>
            </a:r>
            <a:endParaRPr b="0" lang="en-US" sz="4000" spc="-1" strike="noStrike">
              <a:solidFill>
                <a:srgbClr val="f7d47d"/>
              </a:solidFill>
              <a:latin typeface="Arial"/>
            </a:endParaRPr>
          </a:p>
        </p:txBody>
      </p:sp>
      <p:sp>
        <p:nvSpPr>
          <p:cNvPr id="206" name="PlaceHolder 2"/>
          <p:cNvSpPr>
            <a:spLocks noGrp="1"/>
          </p:cNvSpPr>
          <p:nvPr>
            <p:ph/>
          </p:nvPr>
        </p:nvSpPr>
        <p:spPr>
          <a:xfrm>
            <a:off x="263520" y="1143000"/>
            <a:ext cx="7386480" cy="495288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borrowed a lot culturally from China in the past, but now they are trying to assert superiority.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ese dehumanization on the part of the Japanese.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a is powerless in the face of decades of imperialism, “a limp and passive victim (Schoppa 241).”  Still, Japan’s invasion acts as a catalyst for Chinese nationalism; coming together against the invasion.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s imperial period lasts from 1871 (Meiji Rest.)-1945, and served to both jumpstart the economy and providing a means of obtaining the natural resources needed for growth.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takes Korea (1910) and Formosa/Taiwan (1895), claiming that they are liberating or protecting them.  (Also, SE Asia).  They take Manchuria in 1931 and set up Manchukuo, and invade main China in 1937.  </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623960" y="0"/>
            <a:ext cx="58960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Bradley Hand ITC"/>
              </a:rPr>
              <a:t>Chapter 13: Identity Clash</a:t>
            </a:r>
            <a:r>
              <a:rPr b="1" lang="en-US" sz="4000" spc="-1" strike="noStrike">
                <a:solidFill>
                  <a:srgbClr val="f7d47d"/>
                </a:solidFill>
                <a:latin typeface="Bradley Hand ITC"/>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T</a:t>
            </a:r>
            <a:r>
              <a:rPr b="0" lang="en-US" sz="2000" spc="-1" strike="noStrike">
                <a:solidFill>
                  <a:srgbClr val="2f1311"/>
                </a:solidFill>
                <a:latin typeface="Arial"/>
                <a:ea typeface="Arial"/>
              </a:rPr>
              <a:t>ō</a:t>
            </a:r>
            <a:r>
              <a:rPr b="0" lang="en-US" sz="2000" spc="-1" strike="noStrike">
                <a:solidFill>
                  <a:srgbClr val="2f1311"/>
                </a:solidFill>
                <a:latin typeface="Arial"/>
              </a:rPr>
              <a:t>a D</a:t>
            </a:r>
            <a:r>
              <a:rPr b="0" lang="en-US" sz="2000" spc="-1" strike="noStrike">
                <a:solidFill>
                  <a:srgbClr val="2f1311"/>
                </a:solidFill>
                <a:latin typeface="Arial"/>
                <a:ea typeface="Arial"/>
              </a:rPr>
              <a:t>ō</a:t>
            </a:r>
            <a:r>
              <a:rPr b="0" lang="en-US" sz="2000" spc="-1" strike="noStrike">
                <a:solidFill>
                  <a:srgbClr val="2f1311"/>
                </a:solidFill>
                <a:latin typeface="Arial"/>
              </a:rPr>
              <a:t>bun Shoin (</a:t>
            </a:r>
            <a:r>
              <a:rPr b="0" lang="ja-JP" sz="2000" spc="-1" strike="noStrike">
                <a:solidFill>
                  <a:srgbClr val="2f1311"/>
                </a:solidFill>
                <a:latin typeface="Arial"/>
                <a:ea typeface="ＭＳ Ｐゴシック"/>
              </a:rPr>
              <a:t>東亞同文書院</a:t>
            </a:r>
            <a:r>
              <a:rPr b="0" lang="en-US" sz="2000" spc="-1" strike="noStrike">
                <a:solidFill>
                  <a:srgbClr val="2f1311"/>
                </a:solidFill>
                <a:latin typeface="Arial"/>
                <a:ea typeface="ＭＳ Ｐゴシック"/>
              </a:rPr>
              <a:t>)</a:t>
            </a:r>
            <a:r>
              <a:rPr b="0" lang="en-US" sz="2000" spc="-1" strike="noStrike">
                <a:solidFill>
                  <a:srgbClr val="2f1311"/>
                </a:solidFill>
                <a:latin typeface="Arial"/>
              </a:rPr>
              <a:t>, Shanghai 1901; Japanese and Chinese studies.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anguage barrier remained a problem, especially via the kanji.  They began to see China as “unchanging”, ignoring evidence that China was indeed transforming.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focused on the north and ignored the Nationalist revolution in the south.  They had little involvement with policies at first.</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In the 1920s, China’s nationalists became aggressive against warlords and imperialists.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1929, Jinan Incident: fighting breaks out among troops, killing thousands of Chinese, who come to hate and boycott the Japanese.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53f35"/>
                </a:solidFill>
                <a:latin typeface="Bradley Hand ITC"/>
              </a:rPr>
              <a:t>Japanese Aggression: Manchukuo</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ecall </a:t>
            </a:r>
            <a:r>
              <a:rPr b="0" lang="en-US" sz="1800" spc="-1" strike="noStrike" u="sng">
                <a:solidFill>
                  <a:srgbClr val="2f1311"/>
                </a:solidFill>
                <a:uFillTx/>
                <a:latin typeface="Arial"/>
              </a:rPr>
              <a:t>Wild Swans</a:t>
            </a:r>
            <a:r>
              <a:rPr b="0" lang="en-US" sz="1800" spc="-1" strike="noStrike">
                <a:solidFill>
                  <a:srgbClr val="2f1311"/>
                </a:solidFill>
                <a:latin typeface="Arial"/>
              </a:rPr>
              <a:t>.  </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ince Manchuria was restricted from Chinese settlement, Japan desired it for emigration and raw materials.  Also, a base for further mainland expansion.  </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s Chiang Kai-shek moves north, Japan perceives him as a threat (1928).  </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Zhang Zuolin: warlord of Manchuria, ‘scapegoat’ of the Japanese.  They warned him and Chiang not to ‘force’ Japan to defend ‘peace in Manchuria’.  </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Zhang Xueliang is named commander of the Northeastern Frontier Army, and China tries to establish itself in Manchuria.  </a:t>
            </a:r>
            <a:endParaRPr b="0" lang="en-US" sz="18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1928-1931, tensions increase over small things.  Incidents are blown out of proportion and Japan wants stricter control.  Tokyo loses cotrol over the Japanese actually in the field.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53f35"/>
                </a:solidFill>
                <a:latin typeface="Bradley Hand ITC"/>
              </a:rPr>
              <a:t>Japanese Aggression: Manchukuo</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ang angers his people by letting Manchuria slip into Japanese control and continuing relations.  But he was also trying to deal with the Jiangxi Soviet.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ese: Skin disease; Communists: heart disease.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1932: Japan’s Manchurian conquest is complete.  Set up puppet government to reduce negative reactions.  Hence Manchukuo “Land of the Manchus”.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quits the League of Nations when they are criticized, and Japan has a condemning attitude towards the world.  The Chinese are also angry at Chiang for letting this happen/not being responsible.  </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53f35"/>
                </a:solidFill>
                <a:latin typeface="Arial"/>
              </a:rPr>
              <a:t>Manchukuo Propoganda Posters</a:t>
            </a:r>
            <a:endParaRPr b="0" lang="en-US" sz="3600" spc="-1" strike="noStrike">
              <a:solidFill>
                <a:srgbClr val="f7d47d"/>
              </a:solidFill>
              <a:latin typeface="Arial"/>
            </a:endParaRPr>
          </a:p>
        </p:txBody>
      </p:sp>
      <p:pic>
        <p:nvPicPr>
          <p:cNvPr id="215" name="" descr=""/>
          <p:cNvPicPr/>
          <p:nvPr/>
        </p:nvPicPr>
        <p:blipFill>
          <a:blip r:embed="rId1"/>
          <a:stretch/>
        </p:blipFill>
        <p:spPr>
          <a:xfrm>
            <a:off x="5334120" y="1625760"/>
            <a:ext cx="3578040" cy="5232240"/>
          </a:xfrm>
          <a:prstGeom prst="rect">
            <a:avLst/>
          </a:prstGeom>
          <a:ln w="0">
            <a:noFill/>
          </a:ln>
        </p:spPr>
      </p:pic>
      <p:pic>
        <p:nvPicPr>
          <p:cNvPr id="216" name="" descr=""/>
          <p:cNvPicPr/>
          <p:nvPr/>
        </p:nvPicPr>
        <p:blipFill>
          <a:blip r:embed="rId2"/>
          <a:stretch/>
        </p:blipFill>
        <p:spPr>
          <a:xfrm>
            <a:off x="0" y="2914560"/>
            <a:ext cx="529596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ialla</cp:lastModifiedBy>
  <dcterms:modified xsi:type="dcterms:W3CDTF">2005-10-25T06:29:49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