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bmp" ContentType="image/bmp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bmp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tile tx="0" ty="0" sx="3528125" sy="352812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93640" y="503280"/>
            <a:ext cx="46753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 Product of base vec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46680" y="1127160"/>
            <a:ext cx="2409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*i = j*j = k*k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946680" y="974880"/>
            <a:ext cx="1881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^ ^   ^ ^    ^  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46680" y="1660680"/>
            <a:ext cx="2749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*j =k;  j*k=i;  k*i =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46680" y="1508040"/>
            <a:ext cx="2766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^ ^   ^   ^ ^  ^   ^ ^   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69960" y="2484360"/>
            <a:ext cx="1865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 Giv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55960" y="287964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641760" y="2865600"/>
            <a:ext cx="33894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= A i + A j + A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546880" y="307800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537240" y="3078000"/>
            <a:ext cx="297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641760" y="2604960"/>
            <a:ext cx="31496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&gt;    -&gt;       -&gt;       -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32480" y="307800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41760" y="356544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718080" y="3551400"/>
            <a:ext cx="3197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=B i + B j + B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56160" y="376380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470560" y="376380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384960" y="3763800"/>
            <a:ext cx="297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718080" y="3290760"/>
            <a:ext cx="2971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&gt;    -&gt;      -&gt;       -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74880" y="4937040"/>
            <a:ext cx="73785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an be shown that the vector product can be obtain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ing the solution to the following determin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98560" y="1081080"/>
            <a:ext cx="1324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*B 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762120"/>
            <a:ext cx="0" cy="1600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762120"/>
            <a:ext cx="0" cy="1600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270160" y="868320"/>
            <a:ext cx="1496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   j       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193840" y="716040"/>
            <a:ext cx="15573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^       ^        ^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270160" y="1325520"/>
            <a:ext cx="1496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    A     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422440" y="14018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32280" y="14018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5440" y="1401840"/>
            <a:ext cx="297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270160" y="1935000"/>
            <a:ext cx="15177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     B     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422440" y="201132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955960" y="201132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5440" y="2011320"/>
            <a:ext cx="297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69960" y="2484360"/>
            <a:ext cx="8389800" cy="30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rder used to write the elements of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nts should be noted.  It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write the base vectors in the top row, the fir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ctor of the product in the second row, and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vector of the product in the last row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cause the vector product 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nticommuta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669960" y="960480"/>
            <a:ext cx="82072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 If the vector product equals zero and bo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ctors are ont equal to zero, they are parall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ave a ques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17680" y="1995480"/>
            <a:ext cx="53103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worry!  Ask the Physics Gu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17680" y="2452680"/>
            <a:ext cx="70484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question is a dumb question”  Physics Gu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879640" y="3214800"/>
            <a:ext cx="6248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 him now he will answer any ques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ithout charg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ou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93640" y="4433760"/>
            <a:ext cx="639612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 meet him at the following addr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130.111.68.40/physhome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 aparad61@maine.maine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1141560"/>
            <a:ext cx="83818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nt to make a Science Fair Projec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736640" y="2055960"/>
            <a:ext cx="62406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ideas and ask questions f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cience Club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76320" y="3497400"/>
            <a:ext cx="78469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ct them @ http://www.halcyon.com/sciclub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to:sciclub@halcyon.c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867280" y="3683160"/>
            <a:ext cx="2819520" cy="248904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 txBox="1"/>
          <p:nvPr/>
        </p:nvSpPr>
        <p:spPr>
          <a:xfrm>
            <a:off x="517680" y="1995480"/>
            <a:ext cx="50115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, I am your Compan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an I do for you, maste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Vector Analysis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19320" y="914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27160" y="3168720"/>
            <a:ext cx="21034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dd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60880" y="3154320"/>
            <a:ext cx="10033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175280" y="3154320"/>
            <a:ext cx="27525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ubtr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42160" y="3154320"/>
            <a:ext cx="6080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641760" y="3840120"/>
            <a:ext cx="1847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Ve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1920" y="5668920"/>
            <a:ext cx="47401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740000"/>
                </a:solidFill>
                <a:latin typeface="Times New Roman"/>
                <a:ea typeface="Times New Roman"/>
              </a:rPr>
              <a:t>©</a:t>
            </a:r>
            <a:r>
              <a:rPr b="0" lang="en-US" sz="4000" spc="-1" strike="noStrike">
                <a:solidFill>
                  <a:srgbClr val="740000"/>
                </a:solidFill>
                <a:latin typeface="Times New Roman"/>
                <a:ea typeface="Times New Roman"/>
              </a:rPr>
              <a:t> Physics Compan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117880" y="1127160"/>
            <a:ext cx="184320" cy="8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517680" y="563400"/>
            <a:ext cx="51069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Laws of Vector Algeb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65040" y="1569960"/>
            <a:ext cx="71373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Commutative property of the addi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251240" y="2193840"/>
            <a:ext cx="1735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&gt; -&gt;    -&gt; -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17680" y="3246480"/>
            <a:ext cx="66056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Associative property of the addit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51240" y="3794040"/>
            <a:ext cx="3043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&gt;   -&gt;   -&gt;      -&gt;  -&gt;  -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42800" y="4923000"/>
            <a:ext cx="84675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 Commutative property of a product by a scal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327560" y="5470560"/>
            <a:ext cx="1111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&gt;  -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251240" y="2422440"/>
            <a:ext cx="1698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+B = B+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251240" y="4022640"/>
            <a:ext cx="30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+(B + C) = (A+B)+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27560" y="5699160"/>
            <a:ext cx="1270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=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517680" y="503280"/>
            <a:ext cx="8174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 Associative Property of a product by a scal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861080" y="974880"/>
            <a:ext cx="1949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&gt;          -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95440" y="2255760"/>
            <a:ext cx="83995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 Distributive property of the product by a sca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respect to the sum of scala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861080" y="3184560"/>
            <a:ext cx="2757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&gt;       -&gt;     -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20560" y="4465800"/>
            <a:ext cx="85122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 Distributive property of the product by a scal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861080" y="5089680"/>
            <a:ext cx="2801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&gt;  -&gt;        -&gt;      -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861080" y="120348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(nA)=mn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861080" y="3413160"/>
            <a:ext cx="2722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+n) A = mA +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784760" y="5318280"/>
            <a:ext cx="2765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(A+B) = mA +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ector Analysis I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371600" y="335268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oducts Involving Ve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65040" y="5516640"/>
            <a:ext cx="47401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740000"/>
                </a:solidFill>
                <a:latin typeface="Times New Roman"/>
                <a:ea typeface="Times New Roman"/>
              </a:rPr>
              <a:t>©</a:t>
            </a:r>
            <a:r>
              <a:rPr b="0" lang="en-US" sz="4000" spc="-1" strike="noStrike">
                <a:solidFill>
                  <a:srgbClr val="740000"/>
                </a:solidFill>
                <a:latin typeface="Times New Roman"/>
                <a:ea typeface="Times New Roman"/>
              </a:rPr>
              <a:t> Physics Compan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517680" y="563400"/>
            <a:ext cx="59259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operties of scalar produc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46280" y="1446120"/>
            <a:ext cx="1843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822240" y="1341360"/>
            <a:ext cx="45864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Commutative Proper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46680" y="1812960"/>
            <a:ext cx="1658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&gt; -&gt;   -&gt; -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22240" y="2789280"/>
            <a:ext cx="77119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Distributive property of the scalar produ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respect to the addi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946680" y="3794040"/>
            <a:ext cx="3241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&gt;  -&gt;  -&gt;     -&gt; -&gt;    -&gt; -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822240" y="4770360"/>
            <a:ext cx="50371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 Multiplication by a scal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794040" y="5165640"/>
            <a:ext cx="388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&gt;  -&gt;         -&gt;  -&gt;    -&gt;      -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946680" y="3946680"/>
            <a:ext cx="3138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*(B+C) = A*B + A*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946680" y="2041560"/>
            <a:ext cx="1660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*B = B*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794040" y="5394240"/>
            <a:ext cx="3879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(A*B) = (mA)*B = A*(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517680" y="731880"/>
            <a:ext cx="45626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 Product of base v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193840" y="82224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^ ^   ^ ^   ^  ^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270160" y="1355760"/>
            <a:ext cx="2409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*i = j*j = k*k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93640" y="2255760"/>
            <a:ext cx="18543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 Gi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32480" y="315432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641760" y="2941560"/>
            <a:ext cx="33894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= A i + A j + A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546880" y="315432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537240" y="3154320"/>
            <a:ext cx="297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641760" y="2681280"/>
            <a:ext cx="31496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&gt;    -&gt;       -&gt;       -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17680" y="4008600"/>
            <a:ext cx="7915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 If the scalar product of two vectors is 0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vectors are perpendicul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41360" y="487440"/>
            <a:ext cx="6137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operties of vector produc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22240" y="1494000"/>
            <a:ext cx="71690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The vector product is anticommutati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336840" y="2193840"/>
            <a:ext cx="1762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*B = -B*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6840" y="1965240"/>
            <a:ext cx="1811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&gt; -&gt;     -&gt; -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22240" y="2789280"/>
            <a:ext cx="7677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Distributive property of the vector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respect to addi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413160" y="3946680"/>
            <a:ext cx="3443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* (B + C) = A*B + A*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413160" y="3718080"/>
            <a:ext cx="354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&gt;    -&gt;    -&gt;    -&gt;  -&gt;   -&gt;  -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22240" y="4618080"/>
            <a:ext cx="50371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 Multiplication by a scal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413160" y="5318280"/>
            <a:ext cx="3879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(A*B) = (mA)*B = A*(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718080" y="5089680"/>
            <a:ext cx="3500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&gt;  -&gt;         -&gt;  -&gt;     -&gt;    -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ajpal</dc:creator>
  <dc:description/>
  <dc:language>en-US</dc:language>
  <cp:lastModifiedBy>Rajpal</cp:lastModifiedBy>
  <cp:revision>0</cp:revision>
  <dc:subject/>
  <dc:title>Welcome to Your own Physics Compananion </dc:title>
</cp:coreProperties>
</file>