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0040" y="239760"/>
            <a:ext cx="1505160" cy="1665720"/>
            <a:chOff x="230040" y="239760"/>
            <a:chExt cx="1505160" cy="1665720"/>
          </a:xfrm>
        </p:grpSpPr>
        <p:grpSp>
          <p:nvGrpSpPr>
            <p:cNvPr id="1" name=""/>
            <p:cNvGrpSpPr/>
            <p:nvPr/>
          </p:nvGrpSpPr>
          <p:grpSpPr>
            <a:xfrm>
              <a:off x="230040" y="304920"/>
              <a:ext cx="1267200" cy="1600560"/>
              <a:chOff x="230040" y="304920"/>
              <a:chExt cx="1267200" cy="1600560"/>
            </a:xfrm>
          </p:grpSpPr>
          <p:sp>
            <p:nvSpPr>
              <p:cNvPr id="2" name=""/>
              <p:cNvSpPr/>
              <p:nvPr/>
            </p:nvSpPr>
            <p:spPr>
              <a:xfrm>
                <a:off x="349200" y="460440"/>
                <a:ext cx="1029240" cy="1292760"/>
              </a:xfrm>
              <a:custGeom>
                <a:avLst/>
                <a:gdLst/>
                <a:ahLst/>
                <a:rect l="0" t="0" r="r" b="b"/>
                <a:pathLst>
                  <a:path w="2859" h="3591">
                    <a:moveTo>
                      <a:pt x="1429" y="0"/>
                    </a:moveTo>
                    <a:lnTo>
                      <a:pt x="0" y="1795"/>
                    </a:lnTo>
                    <a:lnTo>
                      <a:pt x="1429" y="3591"/>
                    </a:lnTo>
                    <a:lnTo>
                      <a:pt x="2859" y="1795"/>
                    </a:lnTo>
                    <a:lnTo>
                      <a:pt x="14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0044"/>
                  </a:gs>
                  <a:gs pos="100000">
                    <a:srgbClr val="7b00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63640" y="304920"/>
                <a:ext cx="633600" cy="800640"/>
              </a:xfrm>
              <a:custGeom>
                <a:avLst/>
                <a:gdLst/>
                <a:ahLst/>
                <a:rect l="0" t="0" r="r" b="b"/>
                <a:pathLst>
                  <a:path w="1760" h="2224">
                    <a:moveTo>
                      <a:pt x="0" y="444"/>
                    </a:moveTo>
                    <a:lnTo>
                      <a:pt x="0" y="0"/>
                    </a:lnTo>
                    <a:lnTo>
                      <a:pt x="1760" y="2224"/>
                    </a:lnTo>
                    <a:lnTo>
                      <a:pt x="1408" y="222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30040" y="304920"/>
                <a:ext cx="633600" cy="800640"/>
              </a:xfrm>
              <a:custGeom>
                <a:avLst/>
                <a:gdLst/>
                <a:ahLst/>
                <a:rect l="0" t="0" r="r" b="b"/>
                <a:pathLst>
                  <a:path w="1760" h="2224">
                    <a:moveTo>
                      <a:pt x="1760" y="0"/>
                    </a:moveTo>
                    <a:lnTo>
                      <a:pt x="1760" y="444"/>
                    </a:lnTo>
                    <a:lnTo>
                      <a:pt x="351" y="2224"/>
                    </a:lnTo>
                    <a:lnTo>
                      <a:pt x="0" y="2224"/>
                    </a:lnTo>
                    <a:lnTo>
                      <a:pt x="1760" y="0"/>
                    </a:lnTo>
                    <a:close/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3640" y="1104840"/>
                <a:ext cx="633600" cy="800640"/>
              </a:xfrm>
              <a:custGeom>
                <a:avLst/>
                <a:gdLst/>
                <a:ahLst/>
                <a:rect l="0" t="0" r="r" b="b"/>
                <a:pathLst>
                  <a:path w="1760" h="2224">
                    <a:moveTo>
                      <a:pt x="1408" y="0"/>
                    </a:moveTo>
                    <a:lnTo>
                      <a:pt x="1760" y="0"/>
                    </a:lnTo>
                    <a:lnTo>
                      <a:pt x="0" y="2224"/>
                    </a:lnTo>
                    <a:lnTo>
                      <a:pt x="0" y="1779"/>
                    </a:lnTo>
                    <a:lnTo>
                      <a:pt x="1408" y="0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30040" y="1104840"/>
                <a:ext cx="633600" cy="800640"/>
              </a:xfrm>
              <a:custGeom>
                <a:avLst/>
                <a:gdLst/>
                <a:ahLst/>
                <a:rect l="0" t="0" r="r" b="b"/>
                <a:pathLst>
                  <a:path w="1760" h="2224">
                    <a:moveTo>
                      <a:pt x="351" y="0"/>
                    </a:moveTo>
                    <a:lnTo>
                      <a:pt x="1760" y="1779"/>
                    </a:lnTo>
                    <a:lnTo>
                      <a:pt x="1760" y="2224"/>
                    </a:lnTo>
                    <a:lnTo>
                      <a:pt x="0" y="0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577800" y="239760"/>
              <a:ext cx="1157400" cy="10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19320" y="60948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IERARCHICAL OBJECT ORIENTED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81080"/>
            <a:ext cx="7543800" cy="35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280049"/>
                </a:solidFill>
                <a:latin typeface="Book Antiqua"/>
                <a:ea typeface="Book Antiqua"/>
              </a:rPr>
              <a:t>- an overview and cas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Anindya Mitra (427/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99200" y="2438280"/>
            <a:ext cx="26319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Obj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981080"/>
            <a:ext cx="77724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 line with the Grady Booch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“ 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An object is a model of a real world entity which combines both data and operation working on the data”   - </a:t>
            </a:r>
            <a:r>
              <a:rPr b="0" i="1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OOD Reference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ncapsulates data - may encapsulate  hardwar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vides operations to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attributes are type-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98108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ay require and use operations of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as restricted visibility of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an be decomposed into objects providing the sam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odel of a real-world entity or a softwar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noted by a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ay be an instance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ay be implemented by an abstract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ay ha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7772400" cy="49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HOOD tex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formation solu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uns/ noun phrase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uns analyzed into objects/othe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similar objects - parameterisation/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verbs selected - analyzed into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Operation Table ( OO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other sources - informal discussion, problem domain, solutio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F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eful when requirements specified in a set of DF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op level DFD/ context diagram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ternal interfaces/ datasources grouped with associated  process bubbles to form initial se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rol processes correspond to constraine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680" y="1981080"/>
            <a:ext cx="7772400" cy="532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rol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assiv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vides sequential contro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activ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vides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as its own contro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straine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ighly/loosely synchronous - constrained b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asynchronous - constrained by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ime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1981080"/>
            <a:ext cx="7772400" cy="47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clud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ierarchical decomposition of parent into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functionality of parent provided by chi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mplemented_by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arent operation mapped to child objec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ne to on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both operations constrained/uncons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981080"/>
            <a:ext cx="7772400" cy="47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ing object to use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seniority hierarchy - top left to bottom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assive objects cannot use each other in a cycle -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a passive object cannot use constrained operations of an activ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unc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 set - shorthand for set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680" y="1665360"/>
            <a:ext cx="7772400" cy="532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ata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an exist only if one object uses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arameters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presented as a named arrow to a Us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cep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las with error/exception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an only be raised if one object uses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andled by an exception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irection of flow opposite to Us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9560" y="677880"/>
            <a:ext cx="7337520" cy="581976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1330200"/>
            <a:ext cx="73375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44880" y="733320"/>
            <a:ext cx="239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heating_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54080" y="2090880"/>
            <a:ext cx="1222200" cy="652320"/>
          </a:xfrm>
          <a:prstGeom prst="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57320" y="214956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switch_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61040" y="1735200"/>
            <a:ext cx="2771640" cy="1324080"/>
            <a:chOff x="4361040" y="1735200"/>
            <a:chExt cx="2771640" cy="1324080"/>
          </a:xfrm>
        </p:grpSpPr>
        <p:sp>
          <p:nvSpPr>
            <p:cNvPr id="158" name=""/>
            <p:cNvSpPr/>
            <p:nvPr/>
          </p:nvSpPr>
          <p:spPr>
            <a:xfrm>
              <a:off x="4589640" y="1735200"/>
              <a:ext cx="2543040" cy="1324080"/>
            </a:xfrm>
            <a:prstGeom prst="round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1040" y="2158920"/>
              <a:ext cx="573120" cy="5284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4325760" y="2236680"/>
            <a:ext cx="620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08360" y="2035080"/>
            <a:ext cx="24847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75160" y="170964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57560" y="2370240"/>
            <a:ext cx="2082600" cy="0"/>
          </a:xfrm>
          <a:prstGeom prst="line">
            <a:avLst/>
          </a:prstGeom>
          <a:ln w="12600">
            <a:solidFill>
              <a:srgbClr val="280049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62360" y="5027760"/>
            <a:ext cx="2771640" cy="1324080"/>
            <a:chOff x="3762360" y="5027760"/>
            <a:chExt cx="2771640" cy="1324080"/>
          </a:xfrm>
        </p:grpSpPr>
        <p:sp>
          <p:nvSpPr>
            <p:cNvPr id="165" name=""/>
            <p:cNvSpPr/>
            <p:nvPr/>
          </p:nvSpPr>
          <p:spPr>
            <a:xfrm>
              <a:off x="3990960" y="5027760"/>
              <a:ext cx="2543040" cy="1324080"/>
            </a:xfrm>
            <a:prstGeom prst="round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62360" y="5451480"/>
              <a:ext cx="573120" cy="5284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801720" y="112680"/>
            <a:ext cx="8555040" cy="66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verhe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emperature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91120" y="3408480"/>
            <a:ext cx="2771640" cy="1324080"/>
            <a:chOff x="5991120" y="3408480"/>
            <a:chExt cx="2771640" cy="1324080"/>
          </a:xfrm>
        </p:grpSpPr>
        <p:sp>
          <p:nvSpPr>
            <p:cNvPr id="169" name=""/>
            <p:cNvSpPr/>
            <p:nvPr/>
          </p:nvSpPr>
          <p:spPr>
            <a:xfrm>
              <a:off x="6219720" y="3408480"/>
              <a:ext cx="2543040" cy="1324080"/>
            </a:xfrm>
            <a:prstGeom prst="round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1120" y="3832200"/>
              <a:ext cx="573120" cy="5284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28004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219400" y="3408480"/>
            <a:ext cx="2541600" cy="132408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3832200"/>
            <a:ext cx="573120" cy="528480"/>
          </a:xfrm>
          <a:prstGeom prst="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39920" y="3711600"/>
            <a:ext cx="250344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32680" y="3711600"/>
            <a:ext cx="254160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7960" y="5316480"/>
            <a:ext cx="254016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68560" y="340200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84760" y="49546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8640" y="3365640"/>
            <a:ext cx="1030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t_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7480" y="2970360"/>
            <a:ext cx="386280" cy="829080"/>
          </a:xfrm>
          <a:custGeom>
            <a:avLst/>
            <a:gdLst/>
            <a:ahLst/>
            <a:rect l="0" t="0" r="r" b="b"/>
            <a:pathLst>
              <a:path w="1073" h="2303">
                <a:moveTo>
                  <a:pt x="357" y="0"/>
                </a:moveTo>
                <a:lnTo>
                  <a:pt x="714" y="0"/>
                </a:lnTo>
                <a:lnTo>
                  <a:pt x="714" y="1612"/>
                </a:lnTo>
                <a:lnTo>
                  <a:pt x="1073" y="1612"/>
                </a:lnTo>
                <a:lnTo>
                  <a:pt x="536" y="2303"/>
                </a:lnTo>
                <a:lnTo>
                  <a:pt x="0" y="1612"/>
                </a:lnTo>
                <a:lnTo>
                  <a:pt x="357" y="1612"/>
                </a:lnTo>
                <a:lnTo>
                  <a:pt x="357" y="0"/>
                </a:lnTo>
                <a:close/>
              </a:path>
            </a:pathLst>
          </a:custGeom>
          <a:solidFill>
            <a:srgbClr val="280049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67320" y="3003480"/>
            <a:ext cx="389160" cy="829080"/>
          </a:xfrm>
          <a:custGeom>
            <a:avLst/>
            <a:gdLst/>
            <a:ahLst/>
            <a:rect l="0" t="0" r="r" b="b"/>
            <a:pathLst>
              <a:path w="1081" h="2303">
                <a:moveTo>
                  <a:pt x="359" y="0"/>
                </a:moveTo>
                <a:lnTo>
                  <a:pt x="720" y="0"/>
                </a:lnTo>
                <a:lnTo>
                  <a:pt x="720" y="1612"/>
                </a:lnTo>
                <a:lnTo>
                  <a:pt x="1081" y="1612"/>
                </a:lnTo>
                <a:lnTo>
                  <a:pt x="541" y="2303"/>
                </a:lnTo>
                <a:lnTo>
                  <a:pt x="0" y="1612"/>
                </a:lnTo>
                <a:lnTo>
                  <a:pt x="359" y="1612"/>
                </a:lnTo>
                <a:lnTo>
                  <a:pt x="359" y="0"/>
                </a:lnTo>
                <a:close/>
              </a:path>
            </a:pathLst>
          </a:custGeom>
          <a:solidFill>
            <a:srgbClr val="280049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5120" y="2811600"/>
            <a:ext cx="573480" cy="2223000"/>
          </a:xfrm>
          <a:custGeom>
            <a:avLst/>
            <a:gdLst/>
            <a:ahLst/>
            <a:rect l="0" t="0" r="r" b="b"/>
            <a:pathLst>
              <a:path w="1593" h="6175">
                <a:moveTo>
                  <a:pt x="531" y="0"/>
                </a:moveTo>
                <a:lnTo>
                  <a:pt x="1061" y="0"/>
                </a:lnTo>
                <a:lnTo>
                  <a:pt x="1061" y="4322"/>
                </a:lnTo>
                <a:lnTo>
                  <a:pt x="1593" y="4322"/>
                </a:lnTo>
                <a:lnTo>
                  <a:pt x="796" y="6175"/>
                </a:lnTo>
                <a:lnTo>
                  <a:pt x="0" y="4322"/>
                </a:lnTo>
                <a:lnTo>
                  <a:pt x="531" y="4322"/>
                </a:lnTo>
                <a:lnTo>
                  <a:pt x="531" y="0"/>
                </a:lnTo>
                <a:close/>
              </a:path>
            </a:pathLst>
          </a:custGeom>
          <a:solidFill>
            <a:srgbClr val="280049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253200" y="3129120"/>
            <a:ext cx="515880" cy="17604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9000" y="3287880"/>
            <a:ext cx="96840" cy="69840"/>
          </a:xfrm>
          <a:prstGeom prst="ellipse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64480" y="3146400"/>
            <a:ext cx="95040" cy="12384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5400" y="3129120"/>
            <a:ext cx="19080" cy="7128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5400" y="3111480"/>
            <a:ext cx="74520" cy="5256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environmen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signed to allow definition of context in which design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51200" y="4064040"/>
            <a:ext cx="2427120" cy="66996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52960" y="4081320"/>
            <a:ext cx="0" cy="63504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74960" y="4156200"/>
            <a:ext cx="40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94000" y="4121280"/>
            <a:ext cx="1824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OS_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Origin of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981080"/>
            <a:ext cx="7772400" cy="47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result of an ES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o evaluate existing design methods for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f necessary to develop a new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velop a training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mpleted in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HOOD toolset &amp; user manual developed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first used by Columbus Space Station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94000" y="476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BJECT DESCRIPTION SKEL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198108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Structured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Transition from the formal diagram to Ada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Can be checked for completeness and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Purpose is to refine the data obtained in HOOD dia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Ada code generator uses this to generate the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CONTENTS OF AN 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676520" y="1066680"/>
            <a:ext cx="8001000" cy="689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DESCRIPTION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nam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S 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[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Class_formal parameters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[PRAGMA TARGET_LANGUAGE 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language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description_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MPLEMENTATION_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implementation_constraint_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VIDED_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provided_interface_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_CONTROL_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cs_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00200" y="1447920"/>
            <a:ext cx="7238880" cy="5334120"/>
          </a:xfrm>
          <a:prstGeom prst="rect">
            <a:avLst/>
          </a:prstGeom>
          <a:noFill/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CONTENTS OF AN 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52480" y="914400"/>
            <a:ext cx="7696080" cy="689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QUIRED_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required_interface_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ATA_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data_flow_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CEPTION_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exception_flow_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TE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internals_definitions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_CONTROL_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cs_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_CONTROL_ST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peration_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ND_OBJECT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 </a:t>
            </a:r>
            <a:r>
              <a:rPr b="0" lang="en-US" sz="24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nam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76520" y="990720"/>
            <a:ext cx="6477120" cy="5791320"/>
          </a:xfrm>
          <a:prstGeom prst="rect">
            <a:avLst/>
          </a:prstGeom>
          <a:noFill/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1522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SYNTAX REQUIREMENT  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FOR 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680" y="1447920"/>
            <a:ext cx="7772400" cy="56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formation has to be entered as a list of declarations or definitions with each separated by semi-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default values of the parameters has to be in Ada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CS occurs only in an activ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CS occurs only in termin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quired interface may be NONE only for root or serve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se syntax's can be checked using the ODS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BJEC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680" y="1219320"/>
            <a:ext cx="8381880" cy="58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object name and object type are direct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tained from the HOOD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pending on object type, some parts of ODS become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ifferent types of objects ar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ACTIVE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 O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PASSIVE 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ains O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ENVIRONMENT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PROVIDED_INTERF.. 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CLASS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ains 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FORMAL_PAR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OP_CONTROL 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 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PROVIDED_INTERF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VIRTUAL_NODE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always a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280"/>
            <a:ext cx="86868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    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IMPLEMENTATION  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       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ains synchronization, control sequence and other special desig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Applies to active object and virtual nod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Has to be formalized in O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76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PROVIDED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143000"/>
            <a:ext cx="8381880" cy="66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Gives formal description of th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vided by this object to other objects that us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types with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contents with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operations with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exceptions with Raising operations&amp;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94000" y="476280"/>
            <a:ext cx="65311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REQUIRED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198108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fines the services of other objects that are used by thi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FORMAL_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types with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contents with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operations with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8080" y="152280"/>
            <a:ext cx="71629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REQUIRED INTERFACE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 cont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1981080"/>
            <a:ext cx="7772400" cy="47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 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types with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contents with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operations with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exceptions with Raising operations&amp;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632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DATA AND EXCEPTION 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680" y="1219320"/>
            <a:ext cx="8381880" cy="64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   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(Data_name Direction Object_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   </a:t>
            </a: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EXCEPTION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(Exception_name &lt;= used_Object_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MODE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OUT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IRECTION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=&gt;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&lt;=&gt;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lour =&gt; lights       --|from object seconds to colour|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Bus_Error &lt;= IO_Bus --|declared in object LAN|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95280" y="1219320"/>
            <a:ext cx="7848720" cy="2133720"/>
          </a:xfrm>
          <a:prstGeom prst="rect">
            <a:avLst/>
          </a:prstGeom>
          <a:noFill/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  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OD and the Software 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     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523880"/>
            <a:ext cx="7772400" cy="55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er requirements                                                        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Software requirements                                 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Architectural Design                       Integr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tailed Design              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HOOD developed to fit into the ESA software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rom architectural design to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78040" y="1868400"/>
            <a:ext cx="2654280" cy="2660760"/>
            <a:chOff x="1778040" y="1868400"/>
            <a:chExt cx="2654280" cy="2660760"/>
          </a:xfrm>
        </p:grpSpPr>
        <p:sp>
          <p:nvSpPr>
            <p:cNvPr id="55" name=""/>
            <p:cNvSpPr/>
            <p:nvPr/>
          </p:nvSpPr>
          <p:spPr>
            <a:xfrm>
              <a:off x="1778040" y="1868400"/>
              <a:ext cx="495360" cy="4572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8240" y="2567160"/>
              <a:ext cx="495000" cy="4572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16240" y="3321000"/>
              <a:ext cx="495360" cy="4572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36960" y="4071960"/>
              <a:ext cx="495360" cy="4572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87880" y="1841400"/>
            <a:ext cx="2387520" cy="2700360"/>
            <a:chOff x="5087880" y="1841400"/>
            <a:chExt cx="2387520" cy="2700360"/>
          </a:xfrm>
        </p:grpSpPr>
        <p:sp>
          <p:nvSpPr>
            <p:cNvPr id="60" name=""/>
            <p:cNvSpPr/>
            <p:nvPr/>
          </p:nvSpPr>
          <p:spPr>
            <a:xfrm flipH="1">
              <a:off x="7064280" y="1841400"/>
              <a:ext cx="411120" cy="50328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438960" y="2554200"/>
              <a:ext cx="409680" cy="50328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761080" y="3305160"/>
              <a:ext cx="409680" cy="50328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087880" y="4038480"/>
              <a:ext cx="409680" cy="50328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60720" y="1700280"/>
            <a:ext cx="3611520" cy="0"/>
          </a:xfrm>
          <a:prstGeom prst="line">
            <a:avLst/>
          </a:prstGeom>
          <a:ln w="12600">
            <a:solidFill>
              <a:srgbClr val="280049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9280" y="2459160"/>
            <a:ext cx="2101680" cy="0"/>
          </a:xfrm>
          <a:prstGeom prst="line">
            <a:avLst/>
          </a:prstGeom>
          <a:ln w="12600">
            <a:solidFill>
              <a:srgbClr val="280049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9320" y="3164040"/>
            <a:ext cx="1414440" cy="0"/>
          </a:xfrm>
          <a:prstGeom prst="line">
            <a:avLst/>
          </a:prstGeom>
          <a:ln w="12600">
            <a:solidFill>
              <a:srgbClr val="280049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7920" y="3922560"/>
            <a:ext cx="782640" cy="0"/>
          </a:xfrm>
          <a:prstGeom prst="line">
            <a:avLst/>
          </a:prstGeom>
          <a:ln w="12600">
            <a:solidFill>
              <a:srgbClr val="280049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66680" y="380880"/>
            <a:ext cx="71629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BJECT CONTROL   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1981080"/>
            <a:ext cx="777240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CONTROL_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5fb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--obcs_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CONSTRAINED_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Operations [CONSTRAINED_BY Labe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60240" y="2362320"/>
            <a:ext cx="8502480" cy="3809880"/>
          </a:xfrm>
          <a:prstGeom prst="rect">
            <a:avLst/>
          </a:prstGeom>
          <a:noFill/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240" y="3505320"/>
            <a:ext cx="850284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66680" y="380880"/>
            <a:ext cx="71629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BJECT CONTROL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66680" y="1981080"/>
            <a:ext cx="777240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OBJECT_CONTROL_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--obcs_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PSEUDO_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seudocode description of Object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Source code in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848500"/>
                </a:solidFill>
                <a:latin typeface="Book Antiqua"/>
                <a:ea typeface="Book Antiqua"/>
              </a:rPr>
              <a:t>IMPLEMENTED_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List of Active Chil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60240" y="1981080"/>
            <a:ext cx="8089920" cy="4191120"/>
          </a:xfrm>
          <a:prstGeom prst="rect">
            <a:avLst/>
          </a:prstGeom>
          <a:noFill/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0240" y="2971800"/>
            <a:ext cx="80899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66680" y="1981080"/>
            <a:ext cx="777240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rresponds to the body of the package in Ada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PERATION CONTROL</a:t>
            </a:r>
            <a:br>
              <a:rPr sz="4400"/>
            </a:b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1600200"/>
            <a:ext cx="83818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tailed design of a termi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Each operation has an O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ed_Operations --|list of ops. of other objects|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pagated_Exceptions --|excep. raised by the op.|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Handled_Exceptions --|excep. handled by the op.|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seudo_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666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RAFFIC SIGNAL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- A CASE STUDY ILLUSTRATING THE USE OF HOOD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Problem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43000" y="190512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traffic light system controls four traffic lights at a crossroads ( roads A,B,C,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colour of  light depends on presence of traffic &amp; some prese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system driven by  one second interru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itially, the AC lights are set to  green, the BD lights are set to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raffic sensors are checked to inform the system of waiting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0666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Problem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680" y="1371600"/>
            <a:ext cx="7772400" cy="60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main road AC is given 40 seconds of green light each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f traffic is waiting for BD, then the side roads BD are given 20 seconds of green light each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f traffic is waiting in only one direction, the light stays green in tha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f there is no traffic waiting the main road AC is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The traffic lights are changed in the cycle from green to amber to red, and from red to amber to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   </a:t>
            </a: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solution strategy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752480"/>
            <a:ext cx="7772400" cy="4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Start with the base object ,which is the syste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peat the following sequence iteratively till the terminal object is reac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quirem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FORMAL SOLU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scription of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solution strategy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SATION OF TH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oper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Graphical Description (HOOD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SATION OF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description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Generated Ada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HOOD 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198108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imarily top down - hierarchical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ject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llows Structural Analysis and Desig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zes object-oriented design into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builds object hierarch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built into the standard software development life-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HOOD 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1600200"/>
            <a:ext cx="7772400" cy="51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OOD paradi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support for complex s/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280049"/>
                </a:solidFill>
                <a:latin typeface="Book Antiqua"/>
                <a:ea typeface="Book Antiqu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43000" y="3809880"/>
            <a:ext cx="228600" cy="228600"/>
            <a:chOff x="1143000" y="3809880"/>
            <a:chExt cx="228600" cy="228600"/>
          </a:xfrm>
        </p:grpSpPr>
        <p:sp>
          <p:nvSpPr>
            <p:cNvPr id="75" name=""/>
            <p:cNvSpPr/>
            <p:nvPr/>
          </p:nvSpPr>
          <p:spPr>
            <a:xfrm flipV="1">
              <a:off x="1219320" y="3809880"/>
              <a:ext cx="152280" cy="2286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3000" y="3962520"/>
              <a:ext cx="76320" cy="7596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43000" y="4343400"/>
            <a:ext cx="228600" cy="228600"/>
            <a:chOff x="1143000" y="4343400"/>
            <a:chExt cx="228600" cy="228600"/>
          </a:xfrm>
        </p:grpSpPr>
        <p:sp>
          <p:nvSpPr>
            <p:cNvPr id="78" name=""/>
            <p:cNvSpPr/>
            <p:nvPr/>
          </p:nvSpPr>
          <p:spPr>
            <a:xfrm flipV="1">
              <a:off x="1219320" y="4343400"/>
              <a:ext cx="152280" cy="2286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3000" y="4495680"/>
              <a:ext cx="76320" cy="7632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43000" y="4952880"/>
            <a:ext cx="228600" cy="228600"/>
            <a:chOff x="1143000" y="4952880"/>
            <a:chExt cx="228600" cy="228600"/>
          </a:xfrm>
        </p:grpSpPr>
        <p:sp>
          <p:nvSpPr>
            <p:cNvPr id="81" name=""/>
            <p:cNvSpPr/>
            <p:nvPr/>
          </p:nvSpPr>
          <p:spPr>
            <a:xfrm flipV="1">
              <a:off x="1219320" y="4952880"/>
              <a:ext cx="152280" cy="2286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43000" y="5105520"/>
              <a:ext cx="76320" cy="7596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43000" y="6095880"/>
            <a:ext cx="228600" cy="228600"/>
            <a:chOff x="1143000" y="6095880"/>
            <a:chExt cx="228600" cy="228600"/>
          </a:xfrm>
        </p:grpSpPr>
        <p:sp>
          <p:nvSpPr>
            <p:cNvPr id="84" name=""/>
            <p:cNvSpPr/>
            <p:nvPr/>
          </p:nvSpPr>
          <p:spPr>
            <a:xfrm flipV="1">
              <a:off x="1219320" y="6095880"/>
              <a:ext cx="152280" cy="2286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6248520"/>
              <a:ext cx="76320" cy="7596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028880" y="5486400"/>
            <a:ext cx="304560" cy="304920"/>
            <a:chOff x="1028880" y="5486400"/>
            <a:chExt cx="304560" cy="304920"/>
          </a:xfrm>
        </p:grpSpPr>
        <p:sp>
          <p:nvSpPr>
            <p:cNvPr id="87" name=""/>
            <p:cNvSpPr/>
            <p:nvPr/>
          </p:nvSpPr>
          <p:spPr>
            <a:xfrm flipV="1">
              <a:off x="1066680" y="5486400"/>
              <a:ext cx="228600" cy="30492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28880" y="5524560"/>
              <a:ext cx="304560" cy="228600"/>
            </a:xfrm>
            <a:prstGeom prst="line">
              <a:avLst/>
            </a:prstGeom>
            <a:ln w="12600">
              <a:solidFill>
                <a:srgbClr val="2800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HOO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1981080"/>
            <a:ext cx="777240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uses the BASIC DESIGN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result -  a hierarchical decomposition of the program into a set of interdepend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successive decomposition - the HOOD t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root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arent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       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uncle</a:t>
            </a: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9280" y="4292640"/>
            <a:ext cx="1433520" cy="44136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00560" y="5264280"/>
            <a:ext cx="1166760" cy="36972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43120" y="6058080"/>
            <a:ext cx="919080" cy="35244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4880" y="4226040"/>
            <a:ext cx="1389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70160" y="5222880"/>
            <a:ext cx="1165320" cy="36972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92560" y="5160960"/>
            <a:ext cx="81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obj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57880" y="5195880"/>
            <a:ext cx="81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81400" y="6086520"/>
            <a:ext cx="917640" cy="352440"/>
          </a:xfrm>
          <a:prstGeom prst="roundRect">
            <a:avLst/>
          </a:prstGeom>
          <a:solidFill>
            <a:srgbClr val="e3beff"/>
          </a:solidFill>
          <a:ln w="12600">
            <a:solidFill>
              <a:srgbClr val="28004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62280" y="5972040"/>
            <a:ext cx="717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o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44840" y="6006960"/>
            <a:ext cx="717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80049"/>
                </a:solidFill>
                <a:latin typeface="Times New Roman"/>
                <a:ea typeface="Times New Roman"/>
              </a:rPr>
              <a:t>o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4680" y="4734000"/>
            <a:ext cx="0" cy="26496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63880" y="5016600"/>
            <a:ext cx="18925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63880" y="5016600"/>
            <a:ext cx="0" cy="21096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37320" y="5016600"/>
            <a:ext cx="0" cy="24768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5616720"/>
            <a:ext cx="0" cy="24588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46240" y="5881680"/>
            <a:ext cx="170028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5880240"/>
            <a:ext cx="0" cy="17784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880240"/>
            <a:ext cx="0" cy="21276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42880" y="695160"/>
            <a:ext cx="885492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softwar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fin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duce a solu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identify objects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no child    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ze solution in Parent 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ze solution in terminal 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3800" y="1558800"/>
            <a:ext cx="0" cy="565200"/>
          </a:xfrm>
          <a:prstGeom prst="line">
            <a:avLst/>
          </a:prstGeom>
          <a:ln w="12600">
            <a:solidFill>
              <a:srgbClr val="2800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67280" y="2374920"/>
            <a:ext cx="0" cy="565200"/>
          </a:xfrm>
          <a:prstGeom prst="line">
            <a:avLst/>
          </a:prstGeom>
          <a:ln w="12600">
            <a:solidFill>
              <a:srgbClr val="2800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8960" y="3278160"/>
            <a:ext cx="0" cy="565200"/>
          </a:xfrm>
          <a:prstGeom prst="line">
            <a:avLst/>
          </a:prstGeom>
          <a:ln w="12600">
            <a:solidFill>
              <a:srgbClr val="2800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94280" y="4146480"/>
            <a:ext cx="0" cy="565200"/>
          </a:xfrm>
          <a:prstGeom prst="line">
            <a:avLst/>
          </a:prstGeom>
          <a:ln w="12600">
            <a:solidFill>
              <a:srgbClr val="2800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71960" y="5140440"/>
            <a:ext cx="0" cy="63504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71960" y="5775480"/>
            <a:ext cx="31147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67600" y="1824120"/>
            <a:ext cx="0" cy="395136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3800" y="1789200"/>
            <a:ext cx="3114720" cy="0"/>
          </a:xfrm>
          <a:prstGeom prst="line">
            <a:avLst/>
          </a:prstGeom>
          <a:ln w="12600">
            <a:solidFill>
              <a:srgbClr val="28004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69960" y="4011480"/>
            <a:ext cx="1300320" cy="0"/>
          </a:xfrm>
          <a:prstGeom prst="line">
            <a:avLst/>
          </a:prstGeom>
          <a:ln w="12600">
            <a:solidFill>
              <a:srgbClr val="280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1760" y="4011480"/>
            <a:ext cx="0" cy="1570320"/>
          </a:xfrm>
          <a:prstGeom prst="line">
            <a:avLst/>
          </a:prstGeom>
          <a:ln w="12600">
            <a:solidFill>
              <a:srgbClr val="2800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Basic Design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Problem definition - context of object to be designed is s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statement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analysis and structuring of require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Development of solution strategy - outline solution of problem is s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940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  <a:ea typeface="Book Antiqua"/>
              </a:rPr>
              <a:t>The Basic Design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630440"/>
            <a:ext cx="7772400" cy="532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sation of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bje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peration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grouping objects and operations - 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graphical description - HOOD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justification of design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isation of the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 definition of Provided object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formal description of OBCS and O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009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  <a:ea typeface="Book Antiqua"/>
              </a:rPr>
              <a:t>ODS - visible part and inte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21840" y="54000"/>
            <a:ext cx="134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_p_rep</dc:creator>
  <dc:description/>
  <dc:language>en-US</dc:language>
  <cp:lastModifiedBy>D. P. Rep</cp:lastModifiedBy>
  <cp:revision>0</cp:revision>
  <dc:subject/>
  <dc:title/>
</cp:coreProperties>
</file>