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74.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66.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4.xml" ContentType="application/vnd.openxmlformats-officedocument.presentationml.notesSlide+xml"/>
  <Override PartName="/ppt/notesSlides/notesSlide72.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8E4A79B-FFE8-43A7-BA7F-41D1D2D6A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371600" y="768240"/>
            <a:ext cx="5029200" cy="3767400"/>
          </a:xfrm>
          <a:prstGeom prst="rect">
            <a:avLst/>
          </a:prstGeom>
          <a:ln w="0">
            <a:noFill/>
          </a:ln>
        </p:spPr>
      </p:sp>
      <p:sp>
        <p:nvSpPr>
          <p:cNvPr id="8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371600" y="768240"/>
            <a:ext cx="5029200" cy="3767400"/>
          </a:xfrm>
          <a:prstGeom prst="rect">
            <a:avLst/>
          </a:prstGeom>
          <a:ln w="0">
            <a:noFill/>
          </a:ln>
        </p:spPr>
      </p:sp>
      <p:sp>
        <p:nvSpPr>
          <p:cNvPr id="8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hy Microcomme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eb is a great vehicle for delivering content -- Dataques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comes in small pieces on the Internet</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agazines by the articl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usic by the song</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Video by the minut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Software by the apple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partly driven by how content is modularized, but largely driven by the bandwidth and performance limitations of the Internet itself.</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providers want to be compensated -- irrespective of whether their content is primarily textual like a newspaper, photographs, video, audio, or even soft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The opportunity is enormous, but what’s the Internet business mod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371600" y="768240"/>
            <a:ext cx="5029200" cy="3767400"/>
          </a:xfrm>
          <a:prstGeom prst="rect">
            <a:avLst/>
          </a:prstGeom>
          <a:ln w="0">
            <a:noFill/>
          </a:ln>
        </p:spPr>
      </p:sp>
      <p:sp>
        <p:nvSpPr>
          <p:cNvPr id="8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371600" y="768240"/>
            <a:ext cx="5029200" cy="3767400"/>
          </a:xfrm>
          <a:prstGeom prst="rect">
            <a:avLst/>
          </a:prstGeom>
          <a:ln w="0">
            <a:noFill/>
          </a:ln>
        </p:spPr>
      </p:sp>
      <p:sp>
        <p:nvSpPr>
          <p:cNvPr id="8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371600" y="768240"/>
            <a:ext cx="5029200" cy="3767400"/>
          </a:xfrm>
          <a:prstGeom prst="rect">
            <a:avLst/>
          </a:prstGeom>
          <a:ln w="0">
            <a:noFill/>
          </a:ln>
        </p:spPr>
      </p:sp>
      <p:sp>
        <p:nvSpPr>
          <p:cNvPr id="8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371600" y="768240"/>
            <a:ext cx="5029200" cy="3767400"/>
          </a:xfrm>
          <a:prstGeom prst="rect">
            <a:avLst/>
          </a:prstGeom>
          <a:ln w="0">
            <a:noFill/>
          </a:ln>
        </p:spPr>
      </p:sp>
      <p:sp>
        <p:nvSpPr>
          <p:cNvPr id="8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371600" y="768240"/>
            <a:ext cx="5029200" cy="3767400"/>
          </a:xfrm>
          <a:prstGeom prst="rect">
            <a:avLst/>
          </a:prstGeom>
          <a:ln w="0">
            <a:noFill/>
          </a:ln>
        </p:spPr>
      </p:sp>
      <p:sp>
        <p:nvSpPr>
          <p:cNvPr id="8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371600" y="768240"/>
            <a:ext cx="5029200" cy="3767400"/>
          </a:xfrm>
          <a:prstGeom prst="rect">
            <a:avLst/>
          </a:prstGeom>
          <a:ln w="0">
            <a:noFill/>
          </a:ln>
        </p:spPr>
      </p:sp>
      <p:sp>
        <p:nvSpPr>
          <p:cNvPr id="8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371600" y="768240"/>
            <a:ext cx="5029200" cy="3767400"/>
          </a:xfrm>
          <a:prstGeom prst="rect">
            <a:avLst/>
          </a:prstGeom>
          <a:ln w="0">
            <a:noFill/>
          </a:ln>
        </p:spPr>
      </p:sp>
      <p:sp>
        <p:nvSpPr>
          <p:cNvPr id="8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371600" y="768240"/>
            <a:ext cx="5029200" cy="3767400"/>
          </a:xfrm>
          <a:prstGeom prst="rect">
            <a:avLst/>
          </a:prstGeom>
          <a:ln w="0">
            <a:noFill/>
          </a:ln>
        </p:spPr>
      </p:sp>
      <p:sp>
        <p:nvSpPr>
          <p:cNvPr id="8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371600" y="768240"/>
            <a:ext cx="5029200" cy="3767400"/>
          </a:xfrm>
          <a:prstGeom prst="rect">
            <a:avLst/>
          </a:prstGeom>
          <a:ln w="0">
            <a:noFill/>
          </a:ln>
        </p:spPr>
      </p:sp>
      <p:sp>
        <p:nvSpPr>
          <p:cNvPr id="8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371600" y="768240"/>
            <a:ext cx="5029200" cy="3767400"/>
          </a:xfrm>
          <a:prstGeom prst="rect">
            <a:avLst/>
          </a:prstGeom>
          <a:ln w="0">
            <a:noFill/>
          </a:ln>
        </p:spPr>
      </p:sp>
      <p:sp>
        <p:nvSpPr>
          <p:cNvPr id="8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371600" y="768240"/>
            <a:ext cx="5029200" cy="3767400"/>
          </a:xfrm>
          <a:prstGeom prst="rect">
            <a:avLst/>
          </a:prstGeom>
          <a:ln w="0">
            <a:noFill/>
          </a:ln>
        </p:spPr>
      </p:sp>
      <p:sp>
        <p:nvSpPr>
          <p:cNvPr id="8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371600" y="768240"/>
            <a:ext cx="5029200" cy="3767400"/>
          </a:xfrm>
          <a:prstGeom prst="rect">
            <a:avLst/>
          </a:prstGeom>
          <a:ln w="0">
            <a:noFill/>
          </a:ln>
        </p:spPr>
      </p:sp>
      <p:sp>
        <p:nvSpPr>
          <p:cNvPr id="8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371600" y="768240"/>
            <a:ext cx="5029200" cy="3767400"/>
          </a:xfrm>
          <a:prstGeom prst="rect">
            <a:avLst/>
          </a:prstGeom>
          <a:ln w="0">
            <a:noFill/>
          </a:ln>
        </p:spPr>
      </p:sp>
      <p:sp>
        <p:nvSpPr>
          <p:cNvPr id="8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371600" y="768240"/>
            <a:ext cx="5029200" cy="3767400"/>
          </a:xfrm>
          <a:prstGeom prst="rect">
            <a:avLst/>
          </a:prstGeom>
          <a:ln w="0">
            <a:noFill/>
          </a:ln>
        </p:spPr>
      </p:sp>
      <p:sp>
        <p:nvSpPr>
          <p:cNvPr id="8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371600" y="768240"/>
            <a:ext cx="5029200" cy="3767400"/>
          </a:xfrm>
          <a:prstGeom prst="rect">
            <a:avLst/>
          </a:prstGeom>
          <a:ln w="0">
            <a:noFill/>
          </a:ln>
        </p:spPr>
      </p:sp>
      <p:sp>
        <p:nvSpPr>
          <p:cNvPr id="8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371600" y="768240"/>
            <a:ext cx="5029200" cy="3767400"/>
          </a:xfrm>
          <a:prstGeom prst="rect">
            <a:avLst/>
          </a:prstGeom>
          <a:ln w="0">
            <a:noFill/>
          </a:ln>
        </p:spPr>
      </p:sp>
      <p:sp>
        <p:nvSpPr>
          <p:cNvPr id="8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371600" y="768240"/>
            <a:ext cx="5029200" cy="3767400"/>
          </a:xfrm>
          <a:prstGeom prst="rect">
            <a:avLst/>
          </a:prstGeom>
          <a:ln w="0">
            <a:noFill/>
          </a:ln>
        </p:spPr>
      </p:sp>
      <p:sp>
        <p:nvSpPr>
          <p:cNvPr id="8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371600" y="768240"/>
            <a:ext cx="5029200" cy="3767400"/>
          </a:xfrm>
          <a:prstGeom prst="rect">
            <a:avLst/>
          </a:prstGeom>
          <a:ln w="0">
            <a:noFill/>
          </a:ln>
        </p:spPr>
      </p:sp>
      <p:sp>
        <p:nvSpPr>
          <p:cNvPr id="8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371600" y="768240"/>
            <a:ext cx="5029200" cy="3767400"/>
          </a:xfrm>
          <a:prstGeom prst="rect">
            <a:avLst/>
          </a:prstGeom>
          <a:ln w="0">
            <a:noFill/>
          </a:ln>
        </p:spPr>
      </p:sp>
      <p:sp>
        <p:nvSpPr>
          <p:cNvPr id="8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371600" y="768240"/>
            <a:ext cx="5029200" cy="3767400"/>
          </a:xfrm>
          <a:prstGeom prst="rect">
            <a:avLst/>
          </a:prstGeom>
          <a:ln w="0">
            <a:noFill/>
          </a:ln>
        </p:spPr>
      </p:sp>
      <p:sp>
        <p:nvSpPr>
          <p:cNvPr id="8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slideLayout" Target="../slideLayouts/slideLayout1.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1430280"/>
            <a:ext cx="7772400" cy="1868760"/>
          </a:xfrm>
          <a:prstGeom prst="rect">
            <a:avLst/>
          </a:prstGeom>
          <a:noFill/>
          <a:ln w="0">
            <a:noFill/>
          </a:ln>
        </p:spPr>
        <p:txBody>
          <a:bodyPr lIns="0" rIns="0" tIns="0" bIns="0" anchor="t">
            <a:noAutofit/>
          </a:bodyPr>
          <a:p>
            <a:pPr algn="ctr">
              <a:lnSpc>
                <a:spcPct val="100000"/>
              </a:lnSpc>
            </a:pPr>
            <a:r>
              <a:rPr b="0" i="1" lang="en-US" sz="5400" spc="-1" strike="noStrike">
                <a:solidFill>
                  <a:srgbClr val="000000"/>
                </a:solidFill>
                <a:latin typeface="Monotype Corsiva"/>
                <a:ea typeface="Monotype Corsiva"/>
              </a:rPr>
              <a:t>Electronic Payment Systems</a:t>
            </a:r>
            <a:endParaRPr b="0" lang="en-US" sz="5400" spc="-1" strike="noStrike">
              <a:solidFill>
                <a:srgbClr val="000000"/>
              </a:solidFill>
              <a:latin typeface="Arial"/>
            </a:endParaRPr>
          </a:p>
        </p:txBody>
      </p:sp>
      <p:pic>
        <p:nvPicPr>
          <p:cNvPr id="45" name="" descr=""/>
          <p:cNvPicPr/>
          <p:nvPr/>
        </p:nvPicPr>
        <p:blipFill>
          <a:blip r:embed="rId1"/>
          <a:stretch/>
        </p:blipFill>
        <p:spPr>
          <a:xfrm>
            <a:off x="3390840" y="3657600"/>
            <a:ext cx="2486160" cy="24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y</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volution of the information society- global surveillan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entral tool for mantaining privacy &amp; confidentialit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need for </a:t>
            </a:r>
            <a:r>
              <a:rPr b="0" i="1" lang="en-US" sz="3200" spc="-1" strike="noStrike">
                <a:solidFill>
                  <a:srgbClr val="000000"/>
                </a:solidFill>
                <a:latin typeface="Times New Roman"/>
                <a:ea typeface="Times New Roman"/>
              </a:rPr>
              <a:t>strong</a:t>
            </a:r>
            <a:r>
              <a:rPr b="0" lang="en-US" sz="3200" spc="-1" strike="noStrike">
                <a:solidFill>
                  <a:srgbClr val="000000"/>
                </a:solidFill>
                <a:latin typeface="Times New Roman"/>
                <a:ea typeface="Times New Roman"/>
              </a:rPr>
              <a:t> encry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73"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or eps to succeed, macro and micro electronic payment systems on the Internet mus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velop and become secure and efficient, an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yber buyers and sellers must be able to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duct commercial transactions from</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d to end, over the Internet.</a:t>
            </a:r>
            <a:endParaRPr b="0" lang="en-US" sz="2800" spc="-1" strike="noStrike">
              <a:solidFill>
                <a:srgbClr val="000000"/>
              </a:solidFill>
              <a:latin typeface="Arial"/>
            </a:endParaRPr>
          </a:p>
        </p:txBody>
      </p:sp>
      <p:grpSp>
        <p:nvGrpSpPr>
          <p:cNvPr id="774" name=""/>
          <p:cNvGrpSpPr/>
          <p:nvPr/>
        </p:nvGrpSpPr>
        <p:grpSpPr>
          <a:xfrm>
            <a:off x="5562720" y="4363920"/>
            <a:ext cx="3124080" cy="2125800"/>
            <a:chOff x="5562720" y="4363920"/>
            <a:chExt cx="3124080" cy="2125800"/>
          </a:xfrm>
        </p:grpSpPr>
        <p:sp>
          <p:nvSpPr>
            <p:cNvPr id="775"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76" name=""/>
            <p:cNvGrpSpPr/>
            <p:nvPr/>
          </p:nvGrpSpPr>
          <p:grpSpPr>
            <a:xfrm>
              <a:off x="5562720" y="5124600"/>
              <a:ext cx="972720" cy="561600"/>
              <a:chOff x="5562720" y="5124600"/>
              <a:chExt cx="972720" cy="561600"/>
            </a:xfrm>
          </p:grpSpPr>
          <p:sp>
            <p:nvSpPr>
              <p:cNvPr id="777"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80"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83"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85" name=""/>
            <p:cNvGrpSpPr/>
            <p:nvPr/>
          </p:nvGrpSpPr>
          <p:grpSpPr>
            <a:xfrm>
              <a:off x="7548480" y="4826160"/>
              <a:ext cx="971640" cy="584280"/>
              <a:chOff x="7548480" y="4826160"/>
              <a:chExt cx="971640" cy="584280"/>
            </a:xfrm>
          </p:grpSpPr>
          <p:sp>
            <p:nvSpPr>
              <p:cNvPr id="786"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88"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789"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794" name="" descr=""/>
            <p:cNvPicPr/>
            <p:nvPr/>
          </p:nvPicPr>
          <p:blipFill>
            <a:blip r:embed="rId1"/>
            <a:stretch/>
          </p:blipFill>
          <p:spPr>
            <a:xfrm>
              <a:off x="6067440" y="4676760"/>
              <a:ext cx="2224080" cy="1812960"/>
            </a:xfrm>
            <a:prstGeom prst="rect">
              <a:avLst/>
            </a:prstGeom>
            <a:ln w="0">
              <a:noFill/>
            </a:ln>
          </p:spPr>
        </p:pic>
        <p:grpSp>
          <p:nvGrpSpPr>
            <p:cNvPr id="795" name=""/>
            <p:cNvGrpSpPr/>
            <p:nvPr/>
          </p:nvGrpSpPr>
          <p:grpSpPr>
            <a:xfrm>
              <a:off x="5996160" y="5378400"/>
              <a:ext cx="2669040" cy="689400"/>
              <a:chOff x="5996160" y="5378400"/>
              <a:chExt cx="2669040" cy="689400"/>
            </a:xfrm>
          </p:grpSpPr>
          <p:sp>
            <p:nvSpPr>
              <p:cNvPr id="796"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99" name=""/>
            <p:cNvGrpSpPr/>
            <p:nvPr/>
          </p:nvGrpSpPr>
          <p:grpSpPr>
            <a:xfrm>
              <a:off x="5981760" y="5861160"/>
              <a:ext cx="973080" cy="584280"/>
              <a:chOff x="5981760" y="5861160"/>
              <a:chExt cx="973080" cy="584280"/>
            </a:xfrm>
          </p:grpSpPr>
          <p:sp>
            <p:nvSpPr>
              <p:cNvPr id="800"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2"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3"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4"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7516800" y="5716440"/>
              <a:ext cx="977760" cy="520920"/>
              <a:chOff x="7516800" y="5716440"/>
              <a:chExt cx="977760" cy="520920"/>
            </a:xfrm>
          </p:grpSpPr>
          <p:sp>
            <p:nvSpPr>
              <p:cNvPr id="809"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12"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815"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818" name="" descr=""/>
          <p:cNvPicPr/>
          <p:nvPr/>
        </p:nvPicPr>
        <p:blipFill>
          <a:blip r:embed="rId1"/>
          <a:stretch/>
        </p:blipFill>
        <p:spPr>
          <a:xfrm>
            <a:off x="5981760" y="4133880"/>
            <a:ext cx="3098880" cy="2660760"/>
          </a:xfrm>
          <a:prstGeom prst="rect">
            <a:avLst/>
          </a:prstGeom>
          <a:ln w="0">
            <a:noFill/>
          </a:ln>
        </p:spPr>
      </p:pic>
      <p:sp>
        <p:nvSpPr>
          <p:cNvPr id="819"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jor Internet players will introduce or acquire new technology products and services, and a shakeout is likely a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yber market settles on technologies and industry play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Web innovators will form the critical mass     necessary to serve the needs of global businesses, making mission-critical applications and Internet-based electronic payments a re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finally...</a:t>
            </a:r>
            <a:endParaRPr b="0" lang="en-US" sz="4400" spc="-1" strike="noStrike">
              <a:solidFill>
                <a:srgbClr val="000000"/>
              </a:solidFill>
              <a:latin typeface="Arial"/>
            </a:endParaRPr>
          </a:p>
        </p:txBody>
      </p:sp>
      <p:sp>
        <p:nvSpPr>
          <p:cNvPr id="82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new systems must be designed with the consumer in mind, and not just to push new technologies</a:t>
            </a:r>
            <a:endParaRPr b="0" lang="en-US" sz="3200" spc="-1" strike="noStrike">
              <a:solidFill>
                <a:srgbClr val="000000"/>
              </a:solidFill>
              <a:latin typeface="Arial"/>
            </a:endParaRPr>
          </a:p>
        </p:txBody>
      </p:sp>
      <p:pic>
        <p:nvPicPr>
          <p:cNvPr id="822" name="" descr=""/>
          <p:cNvPicPr/>
          <p:nvPr/>
        </p:nvPicPr>
        <p:blipFill>
          <a:blip r:embed="rId1"/>
          <a:stretch/>
        </p:blipFill>
        <p:spPr>
          <a:xfrm>
            <a:off x="1981080" y="1403280"/>
            <a:ext cx="4844880" cy="3321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questions for discussion.....</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ow will businesses be paid? Or will consumers pay for what they buy?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form and characteristics of payment instruments, for example, electronic cash, electronic checks, credit/debit cards, will consumers use?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on-line markets, how can we manage the financial risk associated with various payment instruments, privacy, fraud, mistakes, as well as other risks like bank failure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security features (authentication, privacy, anonymity) need to be designed to reduce these risk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are the step-by-step procedures and institutional arrangements that form the fabric of the electronic payment business processes that link consumers and organiz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Artist's impression on future use of electronic wallets</a:t>
            </a:r>
            <a:endParaRPr b="0" lang="en-US" sz="4400" spc="-1" strike="noStrike">
              <a:solidFill>
                <a:srgbClr val="000000"/>
              </a:solidFill>
              <a:latin typeface="Arial"/>
            </a:endParaRPr>
          </a:p>
        </p:txBody>
      </p:sp>
      <p:pic>
        <p:nvPicPr>
          <p:cNvPr id="826" name="" descr=""/>
          <p:cNvPicPr/>
          <p:nvPr/>
        </p:nvPicPr>
        <p:blipFill>
          <a:blip r:embed="rId1"/>
          <a:stretch/>
        </p:blipFill>
        <p:spPr>
          <a:xfrm>
            <a:off x="2057400" y="1978200"/>
            <a:ext cx="5410080" cy="40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erminology</a:t>
            </a:r>
            <a:endParaRPr b="0" lang="en-US" sz="44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ipher text</a:t>
            </a:r>
            <a:r>
              <a:rPr b="0" lang="en-US" sz="3200" spc="-1" strike="noStrike">
                <a:solidFill>
                  <a:srgbClr val="000000"/>
                </a:solidFill>
                <a:latin typeface="Times New Roman"/>
                <a:ea typeface="Times New Roman"/>
              </a:rPr>
              <a:t> &amp; </a:t>
            </a:r>
            <a:r>
              <a:rPr b="0" i="1" lang="en-US" sz="3200" spc="-1" strike="noStrike">
                <a:solidFill>
                  <a:srgbClr val="000000"/>
                </a:solidFill>
                <a:latin typeface="Times New Roman"/>
                <a:ea typeface="Times New Roman"/>
              </a:rPr>
              <a:t>plain tex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keys -</a:t>
            </a:r>
            <a:r>
              <a:rPr b="0" lang="en-US" sz="3200" spc="-1" strike="noStrike">
                <a:solidFill>
                  <a:srgbClr val="000000"/>
                </a:solidFill>
                <a:latin typeface="Times New Roman"/>
                <a:ea typeface="Times New Roman"/>
              </a:rPr>
              <a:t>digital data,the name derives solely from their function</a:t>
            </a:r>
            <a:r>
              <a:rPr b="0" i="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ryptography ,cryptanalysis,crypt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methods</a:t>
            </a:r>
            <a:endParaRPr b="0" lang="en-US" sz="4400" spc="-1" strike="noStrike">
              <a:solidFill>
                <a:srgbClr val="000000"/>
              </a:solidFill>
              <a:latin typeface="Arial"/>
            </a:endParaRPr>
          </a:p>
        </p:txBody>
      </p:sp>
      <p:sp>
        <p:nvSpPr>
          <p:cNvPr id="85" name=""/>
          <p:cNvSpPr txBox="1"/>
          <p:nvPr/>
        </p:nvSpPr>
        <p:spPr>
          <a:xfrm>
            <a:off x="685800" y="19810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pendant on secrecy of algorithm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key based algorithm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ymmetric/secret algorithms [DES, IDEA]</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ock cipher [typically 64 bi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am ciph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symmetric /public algorithms [RSA]</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public [encryption] &amp; private [decryption]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7" name=""/>
          <p:cNvSpPr txBox="1"/>
          <p:nvPr/>
        </p:nvSpPr>
        <p:spPr>
          <a:xfrm>
            <a:off x="685800" y="1371600"/>
            <a:ext cx="77724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ock of data created using a private key, verified using a public ke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ret key signatures - significantly risk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 key signatures - expensiv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entication of sender and messag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ime stamp</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ifcation of public ke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 &amp; electronic che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9"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ssage digest [signature function] + signer information + time stamp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crypt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verification func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y verifica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cry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ind sign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304920"/>
            <a:ext cx="7772400" cy="1295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hash function</a:t>
            </a:r>
            <a:endParaRPr b="0" lang="en-US" sz="4400" spc="-1" strike="noStrike">
              <a:solidFill>
                <a:srgbClr val="000000"/>
              </a:solidFill>
              <a:latin typeface="Arial"/>
            </a:endParaRPr>
          </a:p>
        </p:txBody>
      </p:sp>
      <p:sp>
        <p:nvSpPr>
          <p:cNvPr id="91" name=""/>
          <p:cNvSpPr txBox="1"/>
          <p:nvPr/>
        </p:nvSpPr>
        <p:spPr>
          <a:xfrm>
            <a:off x="685800" y="16765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used to compute message diges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mpresses message bits to a fixed size hash valu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of 128 or more bit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D5, S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703440" y="39852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random number generators</a:t>
            </a:r>
            <a:endParaRPr b="0" lang="en-US" sz="4400" spc="-1" strike="noStrike">
              <a:solidFill>
                <a:srgbClr val="000000"/>
              </a:solidFill>
              <a:latin typeface="Arial"/>
            </a:endParaRPr>
          </a:p>
        </p:txBody>
      </p:sp>
      <p:sp>
        <p:nvSpPr>
          <p:cNvPr id="93" name=""/>
          <p:cNvSpPr txBox="1"/>
          <p:nvPr/>
        </p:nvSpPr>
        <p:spPr>
          <a:xfrm>
            <a:off x="196920" y="1947960"/>
            <a:ext cx="8713800" cy="4532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andom number generation for cryptographic application e.g. key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resist prediction by cryptanalysts - conventional generators assure statistical randomness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true physical sources of randomness -</a:t>
            </a:r>
            <a:r>
              <a:rPr b="0" i="1" lang="en-US" sz="3200" spc="-1" strike="noStrike">
                <a:solidFill>
                  <a:srgbClr val="000000"/>
                </a:solidFill>
                <a:latin typeface="Times New Roman"/>
                <a:ea typeface="Times New Roman"/>
              </a:rPr>
              <a:t>distilled</a:t>
            </a:r>
            <a:r>
              <a:rPr b="0" lang="en-US" sz="3200" spc="-1" strike="noStrike">
                <a:solidFill>
                  <a:srgbClr val="000000"/>
                </a:solidFill>
                <a:latin typeface="Times New Roman"/>
                <a:ea typeface="Times New Roman"/>
              </a:rPr>
              <a:t> to obtain a </a:t>
            </a:r>
            <a:r>
              <a:rPr b="0" i="1" lang="en-US" sz="3200" spc="-1" strike="noStrike">
                <a:solidFill>
                  <a:srgbClr val="000000"/>
                </a:solidFill>
                <a:latin typeface="Times New Roman"/>
                <a:ea typeface="Times New Roman"/>
              </a:rPr>
              <a:t>pool</a:t>
            </a:r>
            <a:r>
              <a:rPr b="0" lang="en-US" sz="3200" spc="-1" strike="noStrike">
                <a:solidFill>
                  <a:srgbClr val="000000"/>
                </a:solidFill>
                <a:latin typeface="Times New Roman"/>
                <a:ea typeface="Times New Roman"/>
              </a:rPr>
              <a:t> of bi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latively easy to design but often overloo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5" name=""/>
          <p:cNvSpPr txBox="1"/>
          <p:nvPr/>
        </p:nvSpPr>
        <p:spPr>
          <a:xfrm>
            <a:off x="685800" y="198108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rength equals the weakest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hould be diffcult to break</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significant increase in implementation effort </a:t>
            </a:r>
            <a:r>
              <a:rPr b="0" i="1" lang="en-US" sz="3200" spc="-1" strike="noStrike">
                <a:solidFill>
                  <a:srgbClr val="000000"/>
                </a:solidFill>
                <a:latin typeface="Times New Roman"/>
                <a:ea typeface="Times New Roman"/>
              </a:rPr>
              <a:t>but </a:t>
            </a:r>
            <a:r>
              <a:rPr b="0" lang="en-US" sz="3200" spc="-1" strike="noStrike">
                <a:solidFill>
                  <a:srgbClr val="000000"/>
                </a:solidFill>
                <a:latin typeface="Times New Roman"/>
                <a:ea typeface="Times New Roman"/>
              </a:rPr>
              <a:t>requires expertise and c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chanisms allowing circumvention of security should be documemnt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eaking a key - trying all sequenc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ength of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7"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symmetric method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nger key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rivation of secret k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ryptanalysi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ipher text only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known-plain text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hosen plain text attack [RSA]</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in-the-middle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ing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638280" y="289080"/>
            <a:ext cx="7920000" cy="62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of money and payment system</a:t>
            </a:r>
            <a:endParaRPr b="0" lang="en-US" sz="3600" spc="-1" strike="noStrike">
              <a:solidFill>
                <a:srgbClr val="000000"/>
              </a:solidFill>
              <a:latin typeface="Arial"/>
            </a:endParaRPr>
          </a:p>
        </p:txBody>
      </p:sp>
      <p:sp>
        <p:nvSpPr>
          <p:cNvPr id="47"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Transactional nee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ention of a money system</a:t>
            </a:r>
            <a:endParaRPr b="0" lang="en-US" sz="24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imitation of the existing standard        Increased need of the society (as a result of the developements and the rising complexities)                </a:t>
            </a:r>
            <a:r>
              <a:rPr b="0" i="1" lang="en-US" sz="2400" spc="-1" strike="noStrike">
                <a:solidFill>
                  <a:srgbClr val="000000"/>
                </a:solidFill>
                <a:latin typeface="Times New Roman"/>
                <a:ea typeface="Times New Roman"/>
              </a:rPr>
              <a:t>Evolution of money towards newer standard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8" name=""/>
          <p:cNvSpPr/>
          <p:nvPr/>
        </p:nvSpPr>
        <p:spPr>
          <a:xfrm>
            <a:off x="3200400" y="2209680"/>
            <a:ext cx="609840" cy="152640"/>
          </a:xfrm>
          <a:custGeom>
            <a:avLst/>
            <a:gdLst/>
            <a:ahLst/>
            <a:rect l="0" t="0" r="r" b="b"/>
            <a:pathLst>
              <a:path fill="none" w="1694" h="424">
                <a:moveTo>
                  <a:pt x="1694" y="424"/>
                </a:moveTo>
                <a:lnTo>
                  <a:pt x="1694" y="424"/>
                </a:lnTo>
                <a:lnTo>
                  <a:pt x="1694" y="424"/>
                </a:lnTo>
                <a:cubicBezTo>
                  <a:pt x="1694" y="350"/>
                  <a:pt x="1616" y="276"/>
                  <a:pt x="1467" y="212"/>
                </a:cubicBezTo>
                <a:cubicBezTo>
                  <a:pt x="1318" y="148"/>
                  <a:pt x="1105" y="94"/>
                  <a:pt x="847" y="57"/>
                </a:cubicBezTo>
                <a:cubicBezTo>
                  <a:pt x="589" y="20"/>
                  <a:pt x="297"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2819520" y="4419720"/>
            <a:ext cx="1067040" cy="305280"/>
          </a:xfrm>
          <a:custGeom>
            <a:avLst/>
            <a:gdLst/>
            <a:ahLst/>
            <a:rect l="0" t="0" r="r" b="b"/>
            <a:pathLst>
              <a:path w="2964" h="848">
                <a:moveTo>
                  <a:pt x="0" y="282"/>
                </a:moveTo>
                <a:lnTo>
                  <a:pt x="0" y="564"/>
                </a:lnTo>
                <a:lnTo>
                  <a:pt x="2075" y="564"/>
                </a:lnTo>
                <a:lnTo>
                  <a:pt x="2075" y="848"/>
                </a:lnTo>
                <a:lnTo>
                  <a:pt x="2964" y="424"/>
                </a:lnTo>
                <a:lnTo>
                  <a:pt x="2075" y="0"/>
                </a:lnTo>
                <a:lnTo>
                  <a:pt x="2075" y="282"/>
                </a:lnTo>
                <a:lnTo>
                  <a:pt x="0"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5100480" y="3711600"/>
            <a:ext cx="317880" cy="352800"/>
          </a:xfrm>
          <a:custGeom>
            <a:avLst/>
            <a:gdLst/>
            <a:ahLst/>
            <a:rect l="0" t="0" r="r" b="b"/>
            <a:pathLst>
              <a:path w="883" h="980">
                <a:moveTo>
                  <a:pt x="0" y="195"/>
                </a:moveTo>
                <a:lnTo>
                  <a:pt x="0" y="785"/>
                </a:lnTo>
                <a:lnTo>
                  <a:pt x="176" y="785"/>
                </a:lnTo>
                <a:lnTo>
                  <a:pt x="176" y="980"/>
                </a:lnTo>
                <a:lnTo>
                  <a:pt x="707" y="980"/>
                </a:lnTo>
                <a:lnTo>
                  <a:pt x="707" y="785"/>
                </a:lnTo>
                <a:lnTo>
                  <a:pt x="883" y="785"/>
                </a:lnTo>
                <a:lnTo>
                  <a:pt x="883" y="195"/>
                </a:lnTo>
                <a:lnTo>
                  <a:pt x="707" y="195"/>
                </a:lnTo>
                <a:lnTo>
                  <a:pt x="707" y="0"/>
                </a:lnTo>
                <a:lnTo>
                  <a:pt x="176" y="0"/>
                </a:lnTo>
                <a:lnTo>
                  <a:pt x="176" y="195"/>
                </a:lnTo>
                <a:lnTo>
                  <a:pt x="0" y="1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edit Card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A common payment mode for real shopping as well as cyber shopping, therefore tends to bring them closer.</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w does it work?</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mote mode : on the Credit Card Network servers</a:t>
            </a:r>
            <a:endParaRPr b="0" lang="en-US" sz="20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al mode : does not leave the merchant’s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yment verification/access control </a:t>
            </a:r>
            <a:endParaRPr b="0" lang="en-US" sz="28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The two payment verification/access control methods of implementing Credit Card Subscription Sales: </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1) </a:t>
            </a:r>
            <a:r>
              <a:rPr b="0" i="1" lang="en-US" sz="2200" spc="-1" strike="noStrike" u="sng">
                <a:solidFill>
                  <a:srgbClr val="000000"/>
                </a:solidFill>
                <a:uFillTx/>
                <a:latin typeface="Times New Roman"/>
                <a:ea typeface="Times New Roman"/>
              </a:rPr>
              <a:t>The PIN Code method</a:t>
            </a:r>
            <a:r>
              <a:rPr b="0" lang="en-US" sz="2200" spc="-1" strike="noStrike">
                <a:solidFill>
                  <a:srgbClr val="000000"/>
                </a:solidFill>
                <a:latin typeface="Times New Roman"/>
                <a:ea typeface="Times New Roman"/>
              </a:rPr>
              <a:t>: Unique username and password  after payment verification. Used where repeated transactions are required (</a:t>
            </a:r>
            <a:r>
              <a:rPr b="0" i="1" lang="en-US" sz="2200" spc="-1" strike="noStrike">
                <a:solidFill>
                  <a:srgbClr val="000000"/>
                </a:solidFill>
                <a:latin typeface="Times New Roman"/>
                <a:ea typeface="Times New Roman"/>
              </a:rPr>
              <a:t>e.g. service based products</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a:t>
            </a:r>
            <a:r>
              <a:rPr b="0" i="1" lang="en-US" sz="2200" spc="-1" strike="noStrike" u="sng">
                <a:solidFill>
                  <a:srgbClr val="000000"/>
                </a:solidFill>
                <a:uFillTx/>
                <a:latin typeface="Times New Roman"/>
                <a:ea typeface="Times New Roman"/>
              </a:rPr>
              <a:t>The Hardcode method</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generally for one time transactions. Generic username &amp; passwo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typical transaction (</a:t>
            </a:r>
            <a:r>
              <a:rPr b="1" lang="en-US" sz="2800" spc="-1" strike="noStrike">
                <a:solidFill>
                  <a:srgbClr val="000000"/>
                </a:solidFill>
                <a:latin typeface="Times New Roman"/>
                <a:ea typeface="Times New Roman"/>
              </a:rPr>
              <a:t>ibill</a:t>
            </a:r>
            <a:r>
              <a:rPr b="0" lang="en-US" sz="2800" spc="-1" strike="noStrike">
                <a:solidFill>
                  <a:srgbClr val="000000"/>
                </a:solidFill>
                <a:latin typeface="Times New Roman"/>
                <a:ea typeface="Times New Roman"/>
              </a:rPr>
              <a:t> example)</a:t>
            </a:r>
            <a:endParaRPr b="0" lang="en-US" sz="28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1) User visits the site and decides to make a purchas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He/she selects the mode of paymen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3) End-user is presented with ibill's Processing Pag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4) Relevant informations are filled up and submitted by the user</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a) Credit card verified as good: The end-user taken to a </a:t>
            </a:r>
            <a:r>
              <a:rPr b="0" i="1" lang="en-US" sz="2200" spc="-1" strike="noStrike">
                <a:solidFill>
                  <a:srgbClr val="000000"/>
                </a:solidFill>
                <a:latin typeface="Times New Roman"/>
                <a:ea typeface="Times New Roman"/>
              </a:rPr>
              <a:t>Webgoo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b)</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 card verified as bad: The end-user taken to a </a:t>
            </a:r>
            <a:r>
              <a:rPr b="0" i="1" lang="en-US" sz="2200" spc="-1" strike="noStrike">
                <a:solidFill>
                  <a:srgbClr val="000000"/>
                </a:solidFill>
                <a:latin typeface="Times New Roman"/>
                <a:ea typeface="Times New Roman"/>
              </a:rPr>
              <a:t>Webba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p:txBody>
      </p:sp>
      <p:pic>
        <p:nvPicPr>
          <p:cNvPr id="106" name="" descr=""/>
          <p:cNvPicPr/>
          <p:nvPr/>
        </p:nvPicPr>
        <p:blipFill>
          <a:blip r:embed="rId1"/>
          <a:stretch/>
        </p:blipFill>
        <p:spPr>
          <a:xfrm>
            <a:off x="550800" y="5051520"/>
            <a:ext cx="7972560" cy="179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1800"/>
            </a:br>
            <a:r>
              <a:rPr b="0" lang="en-US" sz="2800" spc="-1" strike="noStrike">
                <a:solidFill>
                  <a:srgbClr val="000000"/>
                </a:solidFill>
                <a:latin typeface="Times New Roman"/>
                <a:ea typeface="Times New Roman"/>
              </a:rPr>
              <a:t>The Benifits</a:t>
            </a:r>
            <a:endParaRPr b="0" lang="en-US" sz="2800" spc="-1" strike="noStrike">
              <a:solidFill>
                <a:srgbClr val="000000"/>
              </a:solidFill>
              <a:latin typeface="Arial"/>
            </a:endParaRPr>
          </a:p>
        </p:txBody>
      </p:sp>
      <p:sp>
        <p:nvSpPr>
          <p:cNvPr id="108"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On-line realtime credit card authorization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Money in your checking account in 48 hour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email receipt </a:t>
            </a:r>
            <a:r>
              <a:rPr b="0" lang="en-US" sz="2200" spc="-1" strike="noStrike">
                <a:solidFill>
                  <a:srgbClr val="000000"/>
                </a:solidFill>
                <a:latin typeface="Times New Roman"/>
                <a:ea typeface="Times New Roman"/>
              </a:rPr>
              <a:t>(both for the merchant and the customer)</a:t>
            </a:r>
            <a:endParaRPr b="0" lang="en-US" sz="22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Daily transaction report for each merchant ( password protected )</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updation of accounts as well  </a:t>
            </a:r>
            <a:r>
              <a:rPr b="0" lang="en-US" sz="2200" spc="-1" strike="noStrike">
                <a:solidFill>
                  <a:srgbClr val="000000"/>
                </a:solidFill>
                <a:latin typeface="Times New Roman"/>
                <a:ea typeface="Times New Roman"/>
              </a:rPr>
              <a:t>(therefore a/c clearance is more frequ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ecure Electronic Transaction Specifications [SET]</a:t>
            </a:r>
            <a:endParaRPr b="0" lang="en-US" sz="4400" spc="-1" strike="noStrike">
              <a:solidFill>
                <a:srgbClr val="000000"/>
              </a:solidFill>
              <a:latin typeface="Arial"/>
            </a:endParaRPr>
          </a:p>
        </p:txBody>
      </p:sp>
      <p:sp>
        <p:nvSpPr>
          <p:cNvPr id="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 open industry standard, - expected to accelerate development of electronic commer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tails how bankcard transactions on the Internet and other open networks will be secured using encryption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68160" y="2221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2" name=""/>
          <p:cNvSpPr txBox="1"/>
          <p:nvPr/>
        </p:nvSpPr>
        <p:spPr>
          <a:xfrm>
            <a:off x="303120" y="1235160"/>
            <a:ext cx="8572680" cy="5510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ains an integrated microprocessor chip for secure information storag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intelligent </a:t>
            </a:r>
            <a:r>
              <a:rPr b="0" lang="en-US" sz="3200" spc="-1" strike="noStrike">
                <a:solidFill>
                  <a:srgbClr val="000000"/>
                </a:solidFill>
                <a:latin typeface="Times New Roman"/>
                <a:ea typeface="Times New Roman"/>
              </a:rPr>
              <a:t>cards - contains CPU and allows read/wri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ergence of technological standards - the smart card foru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gulation 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lti application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ybrid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676 million cards issued in 1996</a:t>
            </a:r>
            <a:endParaRPr b="0" lang="en-US" sz="3200" spc="-1" strike="noStrike">
              <a:solidFill>
                <a:srgbClr val="000000"/>
              </a:solidFill>
              <a:latin typeface="Arial"/>
            </a:endParaRPr>
          </a:p>
        </p:txBody>
      </p:sp>
      <p:pic>
        <p:nvPicPr>
          <p:cNvPr id="113" name="" descr=""/>
          <p:cNvPicPr/>
          <p:nvPr/>
        </p:nvPicPr>
        <p:blipFill>
          <a:blip r:embed="rId1"/>
          <a:stretch/>
        </p:blipFill>
        <p:spPr>
          <a:xfrm>
            <a:off x="6107040" y="4292640"/>
            <a:ext cx="3024360" cy="253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5" name=""/>
          <p:cNvSpPr txBox="1"/>
          <p:nvPr/>
        </p:nvSpPr>
        <p:spPr>
          <a:xfrm>
            <a:off x="685800" y="12193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gital signatures used to authorise pay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ing of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rification by mercha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secret key method </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ster key- signature creation &amp; verific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 card specifi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public key metho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ublic and private key stored in car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us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requirement - high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digital signature</a:t>
            </a:r>
            <a:endParaRPr b="0" lang="en-US" sz="4400" spc="-1" strike="noStrike">
              <a:solidFill>
                <a:srgbClr val="000000"/>
              </a:solidFill>
              <a:latin typeface="Arial"/>
            </a:endParaRPr>
          </a:p>
        </p:txBody>
      </p:sp>
      <p:sp>
        <p:nvSpPr>
          <p:cNvPr id="117"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cre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ne at the moment of authoris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s storage of secret key in card - security ris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power required for signature function</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transport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ature creation divided into two par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csssing intensive part done offline [pre-sign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9" name=""/>
          <p:cNvSpPr txBox="1"/>
          <p:nvPr/>
        </p:nvSpPr>
        <p:spPr>
          <a:xfrm>
            <a:off x="685800" y="1676520"/>
            <a:ext cx="7772400" cy="4419720"/>
          </a:xfrm>
          <a:prstGeom prst="rect">
            <a:avLst/>
          </a:prstGeom>
          <a:noFill/>
          <a:ln w="0">
            <a:noFill/>
          </a:ln>
        </p:spPr>
        <p:txBody>
          <a:bodyPr lIns="0" rIns="0" tIns="0" bIns="0" anchor="t">
            <a:noAutofit/>
          </a:bodyPr>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t done by the card - less processing intensive &amp; risk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amount of non-volatile memory - </a:t>
            </a:r>
            <a:r>
              <a:rPr b="0" i="1" lang="en-US" sz="2400" spc="-1" strike="noStrike">
                <a:solidFill>
                  <a:srgbClr val="000000"/>
                </a:solidFill>
                <a:latin typeface="Times New Roman"/>
                <a:ea typeface="Times New Roman"/>
              </a:rPr>
              <a:t>Compact Endorsement</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future : public key coin transporting system</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 bank produced signatures attached to fixed amoun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eater security - balance cannot be tamper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memory requir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1" name=""/>
          <p:cNvSpPr txBox="1"/>
          <p:nvPr/>
        </p:nvSpPr>
        <p:spPr>
          <a:xfrm>
            <a:off x="685800" y="144792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stablished in July 1996 </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esently controlling stake held by MasterCard</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ers the advantages of paying by cash with the convenience of paying by card</a:t>
            </a:r>
            <a:endParaRPr b="0" lang="en-US" sz="2800" spc="-1" strike="noStrike">
              <a:solidFill>
                <a:srgbClr val="000000"/>
              </a:solidFill>
              <a:latin typeface="Arial"/>
            </a:endParaRPr>
          </a:p>
        </p:txBody>
      </p:sp>
      <p:pic>
        <p:nvPicPr>
          <p:cNvPr id="122" name="" descr=""/>
          <p:cNvPicPr/>
          <p:nvPr/>
        </p:nvPicPr>
        <p:blipFill>
          <a:blip r:embed="rId1"/>
          <a:stretch/>
        </p:blipFill>
        <p:spPr>
          <a:xfrm>
            <a:off x="0" y="5703840"/>
            <a:ext cx="9131400" cy="113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barter system</a:t>
            </a:r>
            <a:endParaRPr b="0" lang="en-US" sz="3600" spc="-1" strike="noStrike">
              <a:solidFill>
                <a:srgbClr val="000000"/>
              </a:solidFill>
              <a:latin typeface="Arial"/>
            </a:endParaRPr>
          </a:p>
        </p:txBody>
      </p:sp>
      <p:sp>
        <p:nvSpPr>
          <p:cNvPr id="52" name=""/>
          <p:cNvSpPr txBox="1"/>
          <p:nvPr/>
        </p:nvSpPr>
        <p:spPr>
          <a:xfrm>
            <a:off x="685800" y="167652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arliest human society just bartered or swapp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500 yrs ago China used tiny cowrie shells from Indian Ocean as a means  of exchang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uble coincidence of need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gotiable value</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igger societies          Transaction across longer distan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re goods             Increased difficultiy in need matching.</a:t>
            </a:r>
            <a:endParaRPr b="0" lang="en-US" sz="2000" spc="-1" strike="noStrike">
              <a:solidFill>
                <a:srgbClr val="000000"/>
              </a:solidFill>
              <a:latin typeface="Arial"/>
            </a:endParaRPr>
          </a:p>
        </p:txBody>
      </p:sp>
      <p:sp>
        <p:nvSpPr>
          <p:cNvPr id="53" name=""/>
          <p:cNvSpPr/>
          <p:nvPr/>
        </p:nvSpPr>
        <p:spPr>
          <a:xfrm>
            <a:off x="3657600" y="5562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76720" y="5943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5877000" y="2946240"/>
            <a:ext cx="3254400" cy="203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4" name=""/>
          <p:cNvSpPr txBox="1"/>
          <p:nvPr/>
        </p:nvSpPr>
        <p:spPr>
          <a:xfrm>
            <a:off x="685800" y="19810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ard conforms to ISO 7816 - international standard for smart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ard acts as an</a:t>
            </a:r>
            <a:r>
              <a:rPr b="0" i="1" lang="en-US" sz="3200" spc="-1" strike="noStrike">
                <a:solidFill>
                  <a:srgbClr val="000000"/>
                </a:solidFill>
                <a:latin typeface="Times New Roman"/>
                <a:ea typeface="Times New Roman"/>
              </a:rPr>
              <a:t> electronic purse </a:t>
            </a:r>
            <a:r>
              <a:rPr b="0" lang="en-US" sz="3200" spc="-1" strike="noStrike">
                <a:solidFill>
                  <a:srgbClr val="000000"/>
                </a:solidFill>
                <a:latin typeface="Times New Roman"/>
                <a:ea typeface="Times New Roman"/>
              </a:rPr>
              <a:t>- possible to lock the purse using a personal co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ssible to load cash from payphones/ homephon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erson to person payment possi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pto 5 currencies can be st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walle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sists of an internal electronic purse, card reader, keyboard, scree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transfer of money from card to wallet - only as much money that is required for the day can be kept in the 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person-person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ance statement, lock facility, currency and statement enquiry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8" name=""/>
          <p:cNvSpPr txBox="1"/>
          <p:nvPr/>
        </p:nvSpPr>
        <p:spPr>
          <a:xfrm>
            <a:off x="685800" y="160020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ivate but not totally anonymou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centralised intermediate computer system involved in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dit trail stored in card itself</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involved in each transaction unique - safegaurd against duplication effor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istant to </a:t>
            </a:r>
            <a:r>
              <a:rPr b="0" i="1" lang="en-US" sz="2400" spc="-1" strike="noStrike">
                <a:solidFill>
                  <a:srgbClr val="000000"/>
                </a:solidFill>
                <a:latin typeface="Times New Roman"/>
                <a:ea typeface="Times New Roman"/>
              </a:rPr>
              <a:t>reverse engineering</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elf-destructing, freeze-out</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fficult and expensive to duplicate</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cryptographic keys held in the card</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king facility</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value held in a card has a low cei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76320"/>
            <a:ext cx="7772400" cy="76212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Times New Roman"/>
                <a:ea typeface="Times New Roman"/>
              </a:rPr>
              <a:t>The Electronic Cheques</a:t>
            </a:r>
            <a:endParaRPr b="0" lang="en-US" sz="3200" spc="-1" strike="noStrike">
              <a:solidFill>
                <a:srgbClr val="000000"/>
              </a:solidFill>
              <a:latin typeface="Arial"/>
            </a:endParaRPr>
          </a:p>
        </p:txBody>
      </p:sp>
      <p:sp>
        <p:nvSpPr>
          <p:cNvPr id="130" name=""/>
          <p:cNvSpPr txBox="1"/>
          <p:nvPr/>
        </p:nvSpPr>
        <p:spPr>
          <a:xfrm>
            <a:off x="820800" y="1179360"/>
            <a:ext cx="7772400" cy="531828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innovative, all-electronic, payments and deposit gathering instrument - can be initiated from a variety of device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deled on the paper check, </a:t>
            </a:r>
            <a:r>
              <a:rPr b="0" i="1" lang="en-US" sz="2200" spc="-1" strike="noStrike">
                <a:solidFill>
                  <a:srgbClr val="000000"/>
                </a:solidFill>
                <a:latin typeface="Times New Roman"/>
                <a:ea typeface="Times New Roman"/>
              </a:rPr>
              <a:t>except</a:t>
            </a:r>
            <a:r>
              <a:rPr b="0" lang="en-US" sz="2200" spc="-1" strike="noStrike">
                <a:solidFill>
                  <a:srgbClr val="000000"/>
                </a:solidFill>
                <a:latin typeface="Times New Roman"/>
                <a:ea typeface="Times New Roman"/>
              </a:rPr>
              <a:t> that </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t is initiated electronically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s digital signatures for signing and endors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certificates to authenticate. </a:t>
            </a:r>
            <a:endParaRPr b="0" lang="en-US" sz="20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Unlike the paper check, through the use of an issuer defined parameter, the Electronic Check can resemble other financial payments instrument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an be delivered by  direct transmission or public electronic mail system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ayments are gathered by banks via e-mail and cleared through existing banking channe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the benifits</a:t>
            </a:r>
            <a:endParaRPr b="0" lang="en-US" sz="32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ills an electronic commerce payment void</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Enables banks to gather deposits electronicall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Rapid adoption</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Great flexibi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efficient alternative for both consumer and corpor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 secure, trusted instrument</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Open integeration with existing inter-bank payment system</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Standar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1)</a:t>
            </a:r>
            <a:endParaRPr b="0" lang="en-US" sz="3200" spc="-1" strike="noStrike">
              <a:solidFill>
                <a:srgbClr val="000000"/>
              </a:solidFill>
              <a:latin typeface="Arial"/>
            </a:endParaRPr>
          </a:p>
        </p:txBody>
      </p:sp>
      <p:pic>
        <p:nvPicPr>
          <p:cNvPr id="134" name="" descr=""/>
          <p:cNvPicPr/>
          <p:nvPr/>
        </p:nvPicPr>
        <p:blipFill>
          <a:blip r:embed="rId1"/>
          <a:stretch/>
        </p:blipFill>
        <p:spPr>
          <a:xfrm>
            <a:off x="609480" y="2438280"/>
            <a:ext cx="8001000" cy="4257720"/>
          </a:xfrm>
          <a:prstGeom prst="rect">
            <a:avLst/>
          </a:prstGeom>
          <a:ln w="0">
            <a:noFill/>
          </a:ln>
        </p:spPr>
      </p:pic>
      <p:sp>
        <p:nvSpPr>
          <p:cNvPr id="135" name=""/>
          <p:cNvSpPr txBox="1"/>
          <p:nvPr/>
        </p:nvSpPr>
        <p:spPr>
          <a:xfrm>
            <a:off x="685800" y="838080"/>
            <a:ext cx="7772400" cy="144792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Deposit and Clea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the check to his bank which, in turn, will settle it with the payer's ban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2)</a:t>
            </a:r>
            <a:endParaRPr b="0" lang="en-US" sz="3200" spc="-1" strike="noStrike">
              <a:solidFill>
                <a:srgbClr val="000000"/>
              </a:solidFill>
              <a:latin typeface="Arial"/>
            </a:endParaRPr>
          </a:p>
        </p:txBody>
      </p:sp>
      <p:sp>
        <p:nvSpPr>
          <p:cNvPr id="137" name=""/>
          <p:cNvSpPr txBox="1"/>
          <p:nvPr/>
        </p:nvSpPr>
        <p:spPr>
          <a:xfrm>
            <a:off x="762120" y="685800"/>
            <a:ext cx="7772400" cy="13716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1" i="1" lang="en-US" sz="2200" spc="-1" strike="noStrike">
                <a:solidFill>
                  <a:srgbClr val="000000"/>
                </a:solidFill>
                <a:latin typeface="Times New Roman"/>
                <a:ea typeface="Times New Roman"/>
              </a:rPr>
              <a:t>The Cash and Transfe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it directly to the payer's bank to be paid to the payee's account at his bank. </a:t>
            </a:r>
            <a:endParaRPr b="0" lang="en-US" sz="2200" spc="-1" strike="noStrike">
              <a:solidFill>
                <a:srgbClr val="000000"/>
              </a:solidFill>
              <a:latin typeface="Arial"/>
            </a:endParaRPr>
          </a:p>
        </p:txBody>
      </p:sp>
      <p:pic>
        <p:nvPicPr>
          <p:cNvPr id="138" name="" descr=""/>
          <p:cNvPicPr/>
          <p:nvPr/>
        </p:nvPicPr>
        <p:blipFill>
          <a:blip r:embed="rId1"/>
          <a:stretch/>
        </p:blipFill>
        <p:spPr>
          <a:xfrm>
            <a:off x="752400" y="2239920"/>
            <a:ext cx="7934400" cy="445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3)</a:t>
            </a:r>
            <a:endParaRPr b="0" lang="en-US" sz="3200" spc="-1" strike="noStrike">
              <a:solidFill>
                <a:srgbClr val="000000"/>
              </a:solidFill>
              <a:latin typeface="Arial"/>
            </a:endParaRPr>
          </a:p>
        </p:txBody>
      </p:sp>
      <p:sp>
        <p:nvSpPr>
          <p:cNvPr id="140"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Lockbox Scenario Payer:</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eceives a bill/invoice from payee, issues an Electronic Check, and sends it to the payee's bank, either directly or via a lockbox. The payee's bank then sends accounts receivable information to the payee and clears the payment with the payer's bank. </a:t>
            </a:r>
            <a:endParaRPr b="0" lang="en-US" sz="2200" spc="-1" strike="noStrike">
              <a:solidFill>
                <a:srgbClr val="000000"/>
              </a:solidFill>
              <a:latin typeface="Arial"/>
            </a:endParaRPr>
          </a:p>
        </p:txBody>
      </p:sp>
      <p:pic>
        <p:nvPicPr>
          <p:cNvPr id="141" name="" descr=""/>
          <p:cNvPicPr/>
          <p:nvPr/>
        </p:nvPicPr>
        <p:blipFill>
          <a:blip r:embed="rId1"/>
          <a:stretch/>
        </p:blipFill>
        <p:spPr>
          <a:xfrm>
            <a:off x="892080" y="2590920"/>
            <a:ext cx="6710400" cy="380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4)</a:t>
            </a:r>
            <a:endParaRPr b="0" lang="en-US" sz="3200" spc="-1" strike="noStrike">
              <a:solidFill>
                <a:srgbClr val="000000"/>
              </a:solidFill>
              <a:latin typeface="Arial"/>
            </a:endParaRPr>
          </a:p>
        </p:txBody>
      </p:sp>
      <p:sp>
        <p:nvSpPr>
          <p:cNvPr id="143"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Funds Transfer Scenario: </a:t>
            </a:r>
            <a:r>
              <a:rPr b="0" lang="en-US" sz="2200" spc="-1" strike="noStrike">
                <a:solidFill>
                  <a:srgbClr val="000000"/>
                </a:solidFill>
                <a:latin typeface="Times New Roman"/>
                <a:ea typeface="Times New Roman"/>
              </a:rPr>
              <a:t>Payer receives a bill/invoice from his bank, (assuming electronic bill presentment allows for capture of the payee's bills by the payer's bank), issues an Electronic Check, and sends it to his bank. The payer's bank, in turn, transfers funds to the payee's account at the payee's bank. </a:t>
            </a:r>
            <a:endParaRPr b="0" lang="en-US" sz="2200" spc="-1" strike="noStrike">
              <a:solidFill>
                <a:srgbClr val="000000"/>
              </a:solidFill>
              <a:latin typeface="Arial"/>
            </a:endParaRPr>
          </a:p>
        </p:txBody>
      </p:sp>
      <p:pic>
        <p:nvPicPr>
          <p:cNvPr id="144" name="" descr=""/>
          <p:cNvPicPr/>
          <p:nvPr/>
        </p:nvPicPr>
        <p:blipFill>
          <a:blip r:embed="rId1"/>
          <a:stretch/>
        </p:blipFill>
        <p:spPr>
          <a:xfrm>
            <a:off x="1600200" y="2854440"/>
            <a:ext cx="6400800" cy="354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720720" y="623880"/>
            <a:ext cx="7772400" cy="83808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key design objectives</a:t>
            </a:r>
            <a:endParaRPr b="0" lang="en-US" sz="3200" spc="-1" strike="noStrike">
              <a:solidFill>
                <a:srgbClr val="000000"/>
              </a:solidFill>
              <a:latin typeface="Arial"/>
            </a:endParaRPr>
          </a:p>
        </p:txBody>
      </p:sp>
      <p:sp>
        <p:nvSpPr>
          <p:cNvPr id="146" name=""/>
          <p:cNvSpPr txBox="1"/>
          <p:nvPr/>
        </p:nvSpPr>
        <p:spPr>
          <a:xfrm>
            <a:off x="631800" y="1755720"/>
            <a:ext cx="7772400" cy="41148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rameterized electronic payment instrument</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accounting system</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existing inter bank payments system</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real value money</a:t>
            </a:r>
            <a:endParaRPr b="0" lang="en-US" sz="3600" spc="-1" strike="noStrike">
              <a:solidFill>
                <a:srgbClr val="000000"/>
              </a:solidFill>
              <a:latin typeface="Arial"/>
            </a:endParaRPr>
          </a:p>
        </p:txBody>
      </p:sp>
      <p:sp>
        <p:nvSpPr>
          <p:cNvPr id="57" name=""/>
          <p:cNvSpPr txBox="1"/>
          <p:nvPr/>
        </p:nvSpPr>
        <p:spPr>
          <a:xfrm>
            <a:off x="152280" y="1371600"/>
            <a:ext cx="86868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eighted amounts of metal (eventually standardised in shape and size), used to exchange with goods of equal valu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dvantages- </a:t>
            </a:r>
            <a:r>
              <a:rPr b="0" lang="en-US" sz="2400" spc="-1" strike="noStrike">
                <a:solidFill>
                  <a:srgbClr val="000000"/>
                </a:solidFill>
                <a:latin typeface="Times New Roman"/>
                <a:ea typeface="Times New Roman"/>
              </a:rPr>
              <a:t>Storage of value</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ore portable than barter</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o need for co-existance of demand for natural good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hiefly weight and bulk.</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ater frequency and geographical span of transactions.     This amplified the above limitations.</a:t>
            </a:r>
            <a:endParaRPr b="0" lang="en-US" sz="2000" spc="-1" strike="noStrike">
              <a:solidFill>
                <a:srgbClr val="000000"/>
              </a:solidFill>
              <a:latin typeface="Arial"/>
            </a:endParaRPr>
          </a:p>
        </p:txBody>
      </p:sp>
      <p:pic>
        <p:nvPicPr>
          <p:cNvPr id="58" name="" descr=""/>
          <p:cNvPicPr/>
          <p:nvPr/>
        </p:nvPicPr>
        <p:blipFill>
          <a:blip r:embed="rId1"/>
          <a:stretch/>
        </p:blipFill>
        <p:spPr>
          <a:xfrm>
            <a:off x="7015320" y="3198960"/>
            <a:ext cx="2098800" cy="211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the application categories</a:t>
            </a:r>
            <a:endParaRPr b="0" lang="en-US" sz="3200" spc="-1" strike="noStrike">
              <a:solidFill>
                <a:srgbClr val="000000"/>
              </a:solidFill>
              <a:latin typeface="Arial"/>
            </a:endParaRPr>
          </a:p>
        </p:txBody>
      </p:sp>
      <p:sp>
        <p:nvSpPr>
          <p:cNvPr id="148" name=""/>
          <p:cNvSpPr txBox="1"/>
          <p:nvPr/>
        </p:nvSpPr>
        <p:spPr>
          <a:xfrm>
            <a:off x="792000" y="2158920"/>
            <a:ext cx="7772400" cy="3898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Manag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writ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acceptance and endors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clear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Reconci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 revolutionary opportunity to transform payments - a marriage of economics and cryptograph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Money does not have to be legal tender by the government : like law, language and morals it can emerge spontaneously.</a:t>
            </a:r>
            <a:r>
              <a:rPr b="0" lang="en-US" sz="3200" spc="-1" strike="noStrike">
                <a:solidFill>
                  <a:srgbClr val="000000"/>
                </a:solidFill>
                <a:latin typeface="Times New Roman"/>
                <a:ea typeface="Times New Roman"/>
              </a:rPr>
              <a:t>” - F.A Hayek, Nobel Laure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rt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finite du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wo-wa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line cap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isi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de accepta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friendl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it-of-value freedom</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53" name="" descr=""/>
          <p:cNvPicPr/>
          <p:nvPr/>
        </p:nvPicPr>
        <p:blipFill>
          <a:blip r:embed="rId1"/>
          <a:stretch/>
        </p:blipFill>
        <p:spPr>
          <a:xfrm>
            <a:off x="725400" y="2089080"/>
            <a:ext cx="228600" cy="190440"/>
          </a:xfrm>
          <a:prstGeom prst="rect">
            <a:avLst/>
          </a:prstGeom>
          <a:ln w="0">
            <a:noFill/>
          </a:ln>
        </p:spPr>
      </p:pic>
      <p:pic>
        <p:nvPicPr>
          <p:cNvPr id="154" name="" descr=""/>
          <p:cNvPicPr/>
          <p:nvPr/>
        </p:nvPicPr>
        <p:blipFill>
          <a:blip r:embed="rId2"/>
          <a:stretch/>
        </p:blipFill>
        <p:spPr>
          <a:xfrm>
            <a:off x="701640" y="2558880"/>
            <a:ext cx="228600" cy="190440"/>
          </a:xfrm>
          <a:prstGeom prst="rect">
            <a:avLst/>
          </a:prstGeom>
          <a:ln w="0">
            <a:noFill/>
          </a:ln>
        </p:spPr>
      </p:pic>
      <p:pic>
        <p:nvPicPr>
          <p:cNvPr id="155" name="" descr=""/>
          <p:cNvPicPr/>
          <p:nvPr/>
        </p:nvPicPr>
        <p:blipFill>
          <a:blip r:embed="rId3"/>
          <a:stretch/>
        </p:blipFill>
        <p:spPr>
          <a:xfrm>
            <a:off x="712800" y="2976480"/>
            <a:ext cx="228600" cy="190440"/>
          </a:xfrm>
          <a:prstGeom prst="rect">
            <a:avLst/>
          </a:prstGeom>
          <a:ln w="0">
            <a:noFill/>
          </a:ln>
        </p:spPr>
      </p:pic>
      <p:pic>
        <p:nvPicPr>
          <p:cNvPr id="156" name="" descr=""/>
          <p:cNvPicPr/>
          <p:nvPr/>
        </p:nvPicPr>
        <p:blipFill>
          <a:blip r:embed="rId4"/>
          <a:stretch/>
        </p:blipFill>
        <p:spPr>
          <a:xfrm>
            <a:off x="654120" y="3427560"/>
            <a:ext cx="228600" cy="190440"/>
          </a:xfrm>
          <a:prstGeom prst="rect">
            <a:avLst/>
          </a:prstGeom>
          <a:ln w="0">
            <a:noFill/>
          </a:ln>
        </p:spPr>
      </p:pic>
      <p:pic>
        <p:nvPicPr>
          <p:cNvPr id="157" name="" descr=""/>
          <p:cNvPicPr/>
          <p:nvPr/>
        </p:nvPicPr>
        <p:blipFill>
          <a:blip r:embed="rId5"/>
          <a:stretch/>
        </p:blipFill>
        <p:spPr>
          <a:xfrm>
            <a:off x="717480" y="3844800"/>
            <a:ext cx="228600" cy="190440"/>
          </a:xfrm>
          <a:prstGeom prst="rect">
            <a:avLst/>
          </a:prstGeom>
          <a:ln w="0">
            <a:noFill/>
          </a:ln>
        </p:spPr>
      </p:pic>
      <p:pic>
        <p:nvPicPr>
          <p:cNvPr id="158" name="" descr=""/>
          <p:cNvPicPr/>
          <p:nvPr/>
        </p:nvPicPr>
        <p:blipFill>
          <a:blip r:embed="rId6"/>
          <a:stretch/>
        </p:blipFill>
        <p:spPr>
          <a:xfrm>
            <a:off x="693720" y="4280040"/>
            <a:ext cx="228600" cy="190440"/>
          </a:xfrm>
          <a:prstGeom prst="rect">
            <a:avLst/>
          </a:prstGeom>
          <a:ln w="0">
            <a:noFill/>
          </a:ln>
        </p:spPr>
      </p:pic>
      <p:pic>
        <p:nvPicPr>
          <p:cNvPr id="159" name="" descr=""/>
          <p:cNvPicPr/>
          <p:nvPr/>
        </p:nvPicPr>
        <p:blipFill>
          <a:blip r:embed="rId7"/>
          <a:stretch/>
        </p:blipFill>
        <p:spPr>
          <a:xfrm>
            <a:off x="704880" y="4732200"/>
            <a:ext cx="228600" cy="190440"/>
          </a:xfrm>
          <a:prstGeom prst="rect">
            <a:avLst/>
          </a:prstGeom>
          <a:ln w="0">
            <a:noFill/>
          </a:ln>
        </p:spPr>
      </p:pic>
      <p:pic>
        <p:nvPicPr>
          <p:cNvPr id="160" name="" descr=""/>
          <p:cNvPicPr/>
          <p:nvPr/>
        </p:nvPicPr>
        <p:blipFill>
          <a:blip r:embed="rId8"/>
          <a:stretch/>
        </p:blipFill>
        <p:spPr>
          <a:xfrm>
            <a:off x="698400" y="5167440"/>
            <a:ext cx="228600" cy="190440"/>
          </a:xfrm>
          <a:prstGeom prst="rect">
            <a:avLst/>
          </a:prstGeom>
          <a:ln w="0">
            <a:noFill/>
          </a:ln>
        </p:spPr>
      </p:pic>
      <p:pic>
        <p:nvPicPr>
          <p:cNvPr id="161" name="" descr=""/>
          <p:cNvPicPr/>
          <p:nvPr/>
        </p:nvPicPr>
        <p:blipFill>
          <a:blip r:embed="rId9"/>
          <a:stretch/>
        </p:blipFill>
        <p:spPr>
          <a:xfrm>
            <a:off x="744480" y="5567400"/>
            <a:ext cx="228600" cy="190440"/>
          </a:xfrm>
          <a:prstGeom prst="rect">
            <a:avLst/>
          </a:prstGeom>
          <a:ln w="0">
            <a:noFill/>
          </a:ln>
        </p:spPr>
      </p:pic>
      <p:pic>
        <p:nvPicPr>
          <p:cNvPr id="162" name="" descr=""/>
          <p:cNvPicPr/>
          <p:nvPr/>
        </p:nvPicPr>
        <p:blipFill>
          <a:blip r:embed="rId10"/>
          <a:stretch/>
        </p:blipFill>
        <p:spPr>
          <a:xfrm>
            <a:off x="703440" y="603576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ied e-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tains identity of person holding the mon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for bank to track as money moves through the econom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e-mone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ed to interact with bank for effecting transac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ff-line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6" name=""/>
          <p:cNvSpPr txBox="1"/>
          <p:nvPr/>
        </p:nvSpPr>
        <p:spPr>
          <a:xfrm>
            <a:off x="685800" y="1981080"/>
            <a:ext cx="7772400" cy="4657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uble-spending</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thentication by merchant with bank comput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a:t>
            </a:r>
            <a:r>
              <a:rPr b="0" i="1" lang="en-US" sz="2400" spc="-1" strike="noStrike">
                <a:solidFill>
                  <a:srgbClr val="000000"/>
                </a:solidFill>
                <a:latin typeface="Times New Roman"/>
                <a:ea typeface="Times New Roman"/>
              </a:rPr>
              <a:t>observer </a:t>
            </a:r>
            <a:r>
              <a:rPr b="0" lang="en-US" sz="2400" spc="-1" strike="noStrike">
                <a:solidFill>
                  <a:srgbClr val="000000"/>
                </a:solidFill>
                <a:latin typeface="Times New Roman"/>
                <a:ea typeface="Times New Roman"/>
              </a:rPr>
              <a:t>chip</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ucture the e-money and cryptographic protocols to reveal the identity of the double spender by the time the piece of e-money makes it back to the bank. </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nonymous and identified off-line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1522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 from DigiCash</a:t>
            </a:r>
            <a:endParaRPr b="0" lang="en-US" sz="4400" spc="-1" strike="noStrike">
              <a:solidFill>
                <a:srgbClr val="000000"/>
              </a:solidFill>
              <a:latin typeface="Arial"/>
            </a:endParaRPr>
          </a:p>
        </p:txBody>
      </p:sp>
      <p:sp>
        <p:nvSpPr>
          <p:cNvPr id="168" name=""/>
          <p:cNvSpPr txBox="1"/>
          <p:nvPr/>
        </p:nvSpPr>
        <p:spPr>
          <a:xfrm>
            <a:off x="685800" y="114300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 identity of payer not reveale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ind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igh securit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SA public key cryptography - each user has a pair of public &amp; private k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gital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ntiti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n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s </a:t>
            </a:r>
            <a:endParaRPr b="0" lang="en-US" sz="2400" spc="-1" strike="noStrike">
              <a:solidFill>
                <a:srgbClr val="000000"/>
              </a:solidFill>
              <a:latin typeface="Arial"/>
            </a:endParaRPr>
          </a:p>
        </p:txBody>
      </p:sp>
      <p:pic>
        <p:nvPicPr>
          <p:cNvPr id="169" name="" descr=""/>
          <p:cNvPicPr/>
          <p:nvPr/>
        </p:nvPicPr>
        <p:blipFill>
          <a:blip r:embed="rId1"/>
          <a:stretch/>
        </p:blipFill>
        <p:spPr>
          <a:xfrm>
            <a:off x="8096400" y="0"/>
            <a:ext cx="1035000" cy="6845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26920" y="20304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1" name=""/>
          <p:cNvSpPr txBox="1"/>
          <p:nvPr/>
        </p:nvSpPr>
        <p:spPr>
          <a:xfrm>
            <a:off x="703440" y="1504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cial client software - ‘cyberwallet’ and merchant softwar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point and click’ GU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thdrawing Ecash coin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ssword protec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ndomly generated serial number for coi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rial nos. blind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nt to bank - a/c debit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sent back to user - stored in hard disk </a:t>
            </a:r>
            <a:endParaRPr b="0" lang="en-US" sz="2400" spc="-1" strike="noStrike">
              <a:solidFill>
                <a:srgbClr val="000000"/>
              </a:solidFill>
              <a:latin typeface="Arial"/>
            </a:endParaRPr>
          </a:p>
        </p:txBody>
      </p:sp>
      <p:pic>
        <p:nvPicPr>
          <p:cNvPr id="172" name="" descr=""/>
          <p:cNvPicPr/>
          <p:nvPr/>
        </p:nvPicPr>
        <p:blipFill>
          <a:blip r:embed="rId1"/>
          <a:stretch/>
        </p:blipFill>
        <p:spPr>
          <a:xfrm>
            <a:off x="0" y="5686560"/>
            <a:ext cx="913140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nding Ecash</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 starts up </a:t>
            </a:r>
            <a:r>
              <a:rPr b="0" i="1" lang="en-US" sz="2400" spc="-1" strike="noStrike">
                <a:solidFill>
                  <a:srgbClr val="000000"/>
                </a:solidFill>
                <a:latin typeface="Times New Roman"/>
                <a:ea typeface="Times New Roman"/>
              </a:rPr>
              <a:t>cyber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lects a merchant and sends a message to merchant URL</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L invokes merchant Ecash software - CGI, passes code corresponding to selected item</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 software asks for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received by merchant validated with minting ban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ed receipt returned to buyer’s cyberwallet</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74" name="" descr=""/>
          <p:cNvPicPr/>
          <p:nvPr/>
        </p:nvPicPr>
        <p:blipFill>
          <a:blip r:embed="rId1"/>
          <a:stretch/>
        </p:blipFill>
        <p:spPr>
          <a:xfrm>
            <a:off x="0" y="0"/>
            <a:ext cx="3108240" cy="1965240"/>
          </a:xfrm>
          <a:prstGeom prst="rect">
            <a:avLst/>
          </a:prstGeom>
          <a:ln w="0">
            <a:noFill/>
          </a:ln>
        </p:spPr>
      </p:pic>
      <p:pic>
        <p:nvPicPr>
          <p:cNvPr id="175" name="" descr=""/>
          <p:cNvPicPr/>
          <p:nvPr/>
        </p:nvPicPr>
        <p:blipFill>
          <a:blip r:embed="rId2"/>
          <a:stretch/>
        </p:blipFill>
        <p:spPr>
          <a:xfrm>
            <a:off x="3371760" y="0"/>
            <a:ext cx="5734080" cy="1982880"/>
          </a:xfrm>
          <a:prstGeom prst="rect">
            <a:avLst/>
          </a:prstGeom>
          <a:ln w="0">
            <a:noFill/>
          </a:ln>
        </p:spPr>
      </p:pic>
      <p:sp>
        <p:nvSpPr>
          <p:cNvPr id="176"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8" name=""/>
          <p:cNvSpPr txBox="1"/>
          <p:nvPr/>
        </p:nvSpPr>
        <p:spPr>
          <a:xfrm>
            <a:off x="685800" y="13716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quire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additional hardware required - </a:t>
            </a:r>
            <a:r>
              <a:rPr b="0" i="1" lang="en-US" sz="2400" spc="-1" strike="noStrike">
                <a:solidFill>
                  <a:srgbClr val="000000"/>
                </a:solidFill>
                <a:latin typeface="Times New Roman"/>
                <a:ea typeface="Times New Roman"/>
              </a:rPr>
              <a:t>software only </a:t>
            </a:r>
            <a:r>
              <a:rPr b="0" lang="en-US" sz="2400" spc="-1" strike="noStrike">
                <a:solidFill>
                  <a:srgbClr val="000000"/>
                </a:solidFill>
                <a:latin typeface="Times New Roman"/>
                <a:ea typeface="Times New Roman"/>
              </a:rPr>
              <a:t>solu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vailable on all major platform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twork connection required</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ial Ecash with 30,000 users running since 19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advantag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 - privacy of normal cash</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disadvantag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base management for spent coins</a:t>
            </a:r>
            <a:endParaRPr b="0" lang="en-US" sz="2400" spc="-1" strike="noStrike">
              <a:solidFill>
                <a:srgbClr val="000000"/>
              </a:solidFill>
              <a:latin typeface="Arial"/>
            </a:endParaRPr>
          </a:p>
        </p:txBody>
      </p:sp>
      <p:pic>
        <p:nvPicPr>
          <p:cNvPr id="181" name="" descr=""/>
          <p:cNvPicPr/>
          <p:nvPr/>
        </p:nvPicPr>
        <p:blipFill>
          <a:blip r:embed="rId1"/>
          <a:stretch/>
        </p:blipFill>
        <p:spPr>
          <a:xfrm>
            <a:off x="5718240" y="0"/>
            <a:ext cx="341316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762120" y="228600"/>
            <a:ext cx="7772400" cy="9144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token money</a:t>
            </a:r>
            <a:endParaRPr b="0" lang="en-US" sz="3600" spc="-1" strike="noStrike">
              <a:solidFill>
                <a:srgbClr val="000000"/>
              </a:solidFill>
              <a:latin typeface="Arial"/>
            </a:endParaRPr>
          </a:p>
        </p:txBody>
      </p:sp>
      <p:sp>
        <p:nvSpPr>
          <p:cNvPr id="60" name=""/>
          <p:cNvSpPr txBox="1"/>
          <p:nvPr/>
        </p:nvSpPr>
        <p:spPr>
          <a:xfrm>
            <a:off x="838080" y="990720"/>
            <a:ext cx="777240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Token coins:</a:t>
            </a:r>
            <a:r>
              <a:rPr b="0" lang="en-US" sz="2200" spc="-1" strike="noStrike">
                <a:solidFill>
                  <a:srgbClr val="000000"/>
                </a:solidFill>
                <a:latin typeface="Times New Roman"/>
                <a:ea typeface="Times New Roman"/>
              </a:rPr>
              <a:t> metallic, marked</a:t>
            </a:r>
            <a:r>
              <a:rPr b="0" i="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minted</a:t>
            </a:r>
            <a:r>
              <a:rPr b="0" i="1" lang="en-US" sz="2200" spc="-1" strike="noStrike">
                <a:solidFill>
                  <a:srgbClr val="000000"/>
                </a:solidFill>
                <a:latin typeface="Times New Roman"/>
                <a:ea typeface="Times New Roman"/>
              </a:rPr>
              <a:t>, </a:t>
            </a:r>
            <a:r>
              <a:rPr b="0" lang="en-US" sz="2200" spc="-1" strike="noStrike" u="sng">
                <a:solidFill>
                  <a:srgbClr val="000000"/>
                </a:solidFill>
                <a:uFillTx/>
                <a:latin typeface="Times New Roman"/>
                <a:ea typeface="Times New Roman"/>
              </a:rPr>
              <a:t>bulky &amp; weighted</a:t>
            </a:r>
            <a:r>
              <a:rPr b="0"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inted receipts:</a:t>
            </a:r>
            <a:r>
              <a:rPr b="0" lang="en-US" sz="2200" spc="-1" strike="noStrike">
                <a:solidFill>
                  <a:srgbClr val="000000"/>
                </a:solidFill>
                <a:latin typeface="Times New Roman"/>
                <a:ea typeface="Times New Roman"/>
              </a:rPr>
              <a:t> exchanged in return of gold or silver. A precursor to bank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per currenc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oblem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isky</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orgery,stole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pensiv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qirement to keep notes in hand        </a:t>
            </a:r>
            <a:endParaRPr b="0" lang="en-US" sz="1800" spc="-1" strike="noStrike">
              <a:solidFill>
                <a:srgbClr val="000000"/>
              </a:solidFill>
              <a:latin typeface="Arial"/>
            </a:endParaRPr>
          </a:p>
          <a:p>
            <a:pPr marL="1143000" indent="-22860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rease in the size of  transactio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reater variation in  size of transaction               denominations</a:t>
            </a:r>
            <a:endParaRPr b="0" lang="en-US" sz="1800" spc="-1" strike="noStrike">
              <a:solidFill>
                <a:srgbClr val="000000"/>
              </a:solidFill>
              <a:latin typeface="Arial"/>
            </a:endParaRPr>
          </a:p>
        </p:txBody>
      </p:sp>
      <p:sp>
        <p:nvSpPr>
          <p:cNvPr id="61" name=""/>
          <p:cNvSpPr/>
          <p:nvPr/>
        </p:nvSpPr>
        <p:spPr>
          <a:xfrm>
            <a:off x="2819520" y="42670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791320" y="640080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7883640" y="5203800"/>
            <a:ext cx="1247760" cy="1236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S</a:t>
            </a:r>
            <a:endParaRPr b="0" lang="en-US" sz="4400" spc="-1" strike="noStrike">
              <a:solidFill>
                <a:srgbClr val="000000"/>
              </a:solidFill>
              <a:latin typeface="Arial"/>
            </a:endParaRPr>
          </a:p>
        </p:txBody>
      </p:sp>
      <p:sp>
        <p:nvSpPr>
          <p:cNvPr id="183" name=""/>
          <p:cNvSpPr txBox="1"/>
          <p:nvPr/>
        </p:nvSpPr>
        <p:spPr>
          <a:xfrm>
            <a:off x="1600200" y="3886200"/>
            <a:ext cx="5715000" cy="10666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MICROCOMMERCE ON THE HORI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net Payment Taxonomy</a:t>
            </a:r>
            <a:endParaRPr b="0" lang="en-US" sz="4400" spc="-1" strike="noStrike">
              <a:solidFill>
                <a:srgbClr val="000000"/>
              </a:solidFill>
              <a:latin typeface="Arial"/>
            </a:endParaRPr>
          </a:p>
        </p:txBody>
      </p:sp>
      <p:sp>
        <p:nvSpPr>
          <p:cNvPr id="185" name=""/>
          <p:cNvSpPr/>
          <p:nvPr/>
        </p:nvSpPr>
        <p:spPr>
          <a:xfrm>
            <a:off x="4035600" y="506412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2955960" y="577836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1733400" y="6445080"/>
            <a:ext cx="2124360" cy="111600"/>
          </a:xfrm>
          <a:custGeom>
            <a:avLst/>
            <a:gdLst/>
            <a:ahLst/>
            <a:rect l="0" t="0" r="r" b="b"/>
            <a:pathLst>
              <a:path w="5901" h="310">
                <a:moveTo>
                  <a:pt x="0" y="310"/>
                </a:moveTo>
                <a:lnTo>
                  <a:pt x="4131" y="310"/>
                </a:lnTo>
                <a:lnTo>
                  <a:pt x="5901" y="0"/>
                </a:lnTo>
                <a:lnTo>
                  <a:pt x="1770" y="0"/>
                </a:lnTo>
                <a:lnTo>
                  <a:pt x="0" y="31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88" name="" descr=""/>
          <p:cNvPicPr/>
          <p:nvPr/>
        </p:nvPicPr>
        <p:blipFill>
          <a:blip r:embed="rId1"/>
          <a:stretch/>
        </p:blipFill>
        <p:spPr>
          <a:xfrm>
            <a:off x="5934240" y="1879560"/>
            <a:ext cx="2701800" cy="2711520"/>
          </a:xfrm>
          <a:prstGeom prst="rect">
            <a:avLst/>
          </a:prstGeom>
          <a:ln w="0">
            <a:noFill/>
          </a:ln>
        </p:spPr>
      </p:pic>
      <p:grpSp>
        <p:nvGrpSpPr>
          <p:cNvPr id="189" name=""/>
          <p:cNvGrpSpPr/>
          <p:nvPr/>
        </p:nvGrpSpPr>
        <p:grpSpPr>
          <a:xfrm>
            <a:off x="2095560" y="3460680"/>
            <a:ext cx="4842360" cy="3091320"/>
            <a:chOff x="2095560" y="3460680"/>
            <a:chExt cx="4842360" cy="3091320"/>
          </a:xfrm>
        </p:grpSpPr>
        <p:sp>
          <p:nvSpPr>
            <p:cNvPr id="190" name=""/>
            <p:cNvSpPr/>
            <p:nvPr/>
          </p:nvSpPr>
          <p:spPr>
            <a:xfrm>
              <a:off x="4932360" y="3828960"/>
              <a:ext cx="1987920" cy="756000"/>
            </a:xfrm>
            <a:custGeom>
              <a:avLst/>
              <a:gdLst/>
              <a:ahLst/>
              <a:rect l="0" t="0" r="r" b="b"/>
              <a:pathLst>
                <a:path w="5522" h="2100">
                  <a:moveTo>
                    <a:pt x="0" y="0"/>
                  </a:moveTo>
                  <a:lnTo>
                    <a:pt x="0" y="326"/>
                  </a:lnTo>
                  <a:lnTo>
                    <a:pt x="5522" y="2100"/>
                  </a:lnTo>
                  <a:lnTo>
                    <a:pt x="5522" y="1681"/>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2095560" y="3460680"/>
              <a:ext cx="4842360" cy="3084840"/>
            </a:xfrm>
            <a:custGeom>
              <a:avLst/>
              <a:gdLst/>
              <a:ahLst/>
              <a:rect l="0" t="0" r="r" b="b"/>
              <a:pathLst>
                <a:path w="13451" h="8569">
                  <a:moveTo>
                    <a:pt x="0" y="8569"/>
                  </a:moveTo>
                  <a:lnTo>
                    <a:pt x="9190" y="1441"/>
                  </a:lnTo>
                  <a:lnTo>
                    <a:pt x="7898" y="1045"/>
                  </a:lnTo>
                  <a:lnTo>
                    <a:pt x="13222" y="0"/>
                  </a:lnTo>
                  <a:lnTo>
                    <a:pt x="13451" y="2756"/>
                  </a:lnTo>
                  <a:lnTo>
                    <a:pt x="12102" y="2328"/>
                  </a:lnTo>
                  <a:lnTo>
                    <a:pt x="1538" y="8542"/>
                  </a:lnTo>
                  <a:lnTo>
                    <a:pt x="0" y="8569"/>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590920" y="4313160"/>
              <a:ext cx="3813480" cy="2238840"/>
            </a:xfrm>
            <a:custGeom>
              <a:avLst/>
              <a:gdLst/>
              <a:ahLst/>
              <a:rect l="0" t="0" r="r" b="b"/>
              <a:pathLst>
                <a:path w="10593" h="6219">
                  <a:moveTo>
                    <a:pt x="0" y="6219"/>
                  </a:moveTo>
                  <a:lnTo>
                    <a:pt x="604" y="6219"/>
                  </a:lnTo>
                  <a:lnTo>
                    <a:pt x="10593" y="396"/>
                  </a:lnTo>
                  <a:lnTo>
                    <a:pt x="10593" y="0"/>
                  </a:lnTo>
                  <a:lnTo>
                    <a:pt x="0" y="6219"/>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3" name=""/>
          <p:cNvSpPr/>
          <p:nvPr/>
        </p:nvSpPr>
        <p:spPr>
          <a:xfrm>
            <a:off x="2158920" y="3381480"/>
            <a:ext cx="3524400" cy="746280"/>
          </a:xfrm>
          <a:prstGeom prst="rect">
            <a:avLst/>
          </a:pr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 name=""/>
          <p:cNvSpPr txBox="1"/>
          <p:nvPr/>
        </p:nvSpPr>
        <p:spPr>
          <a:xfrm>
            <a:off x="2192400" y="3036960"/>
            <a:ext cx="14209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3: </a:t>
            </a:r>
            <a:endParaRPr b="0" lang="en-US" sz="2400" spc="-1" strike="noStrike">
              <a:solidFill>
                <a:srgbClr val="000000"/>
              </a:solidFill>
              <a:latin typeface="Arial"/>
            </a:endParaRPr>
          </a:p>
        </p:txBody>
      </p:sp>
      <p:sp>
        <p:nvSpPr>
          <p:cNvPr id="195" name=""/>
          <p:cNvSpPr/>
          <p:nvPr/>
        </p:nvSpPr>
        <p:spPr>
          <a:xfrm>
            <a:off x="1380960" y="4524480"/>
            <a:ext cx="3000240" cy="746280"/>
          </a:xfrm>
          <a:prstGeom prst="rect">
            <a:avLst/>
          </a:prstGeom>
          <a:solidFill>
            <a:srgbClr val="4d008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 name=""/>
          <p:cNvSpPr txBox="1"/>
          <p:nvPr/>
        </p:nvSpPr>
        <p:spPr>
          <a:xfrm>
            <a:off x="1422360" y="4175280"/>
            <a:ext cx="1336680" cy="74916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2:</a:t>
            </a:r>
            <a:br>
              <a:rPr sz="1800"/>
            </a:br>
            <a:endParaRPr b="0" lang="en-US" sz="2400" spc="-1" strike="noStrike">
              <a:solidFill>
                <a:srgbClr val="000000"/>
              </a:solidFill>
              <a:latin typeface="Arial"/>
            </a:endParaRPr>
          </a:p>
        </p:txBody>
      </p:sp>
      <p:sp>
        <p:nvSpPr>
          <p:cNvPr id="197" name=""/>
          <p:cNvSpPr/>
          <p:nvPr/>
        </p:nvSpPr>
        <p:spPr>
          <a:xfrm>
            <a:off x="523800" y="5651640"/>
            <a:ext cx="2381400" cy="746280"/>
          </a:xfrm>
          <a:prstGeom prst="rect">
            <a:avLst/>
          </a:pr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txBox="1"/>
          <p:nvPr/>
        </p:nvSpPr>
        <p:spPr>
          <a:xfrm>
            <a:off x="655560" y="5308560"/>
            <a:ext cx="13366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1:</a:t>
            </a:r>
            <a:endParaRPr b="0" lang="en-US" sz="2400" spc="-1" strike="noStrike">
              <a:solidFill>
                <a:srgbClr val="000000"/>
              </a:solidFill>
              <a:latin typeface="Arial"/>
            </a:endParaRPr>
          </a:p>
        </p:txBody>
      </p:sp>
      <p:sp>
        <p:nvSpPr>
          <p:cNvPr id="199" name=""/>
          <p:cNvSpPr/>
          <p:nvPr/>
        </p:nvSpPr>
        <p:spPr>
          <a:xfrm>
            <a:off x="6492960" y="4630680"/>
            <a:ext cx="2112840" cy="365040"/>
          </a:xfrm>
          <a:prstGeom prst="ellipse">
            <a:avLst/>
          </a:prstGeom>
          <a:gradFill rotWithShape="0">
            <a:gsLst>
              <a:gs pos="0">
                <a:srgbClr val="e8d29a"/>
              </a:gs>
              <a:gs pos="100000">
                <a:srgbClr val="f5edd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txBox="1"/>
          <p:nvPr/>
        </p:nvSpPr>
        <p:spPr>
          <a:xfrm>
            <a:off x="1422360" y="4724280"/>
            <a:ext cx="231156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Credit  Cards</a:t>
            </a:r>
            <a:endParaRPr b="0" lang="en-US" sz="2400" spc="-1" strike="noStrike">
              <a:solidFill>
                <a:srgbClr val="000000"/>
              </a:solidFill>
              <a:latin typeface="Arial"/>
            </a:endParaRPr>
          </a:p>
        </p:txBody>
      </p:sp>
      <p:sp>
        <p:nvSpPr>
          <p:cNvPr id="201" name=""/>
          <p:cNvSpPr txBox="1"/>
          <p:nvPr/>
        </p:nvSpPr>
        <p:spPr>
          <a:xfrm>
            <a:off x="655560" y="5873760"/>
            <a:ext cx="6922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EDI</a:t>
            </a:r>
            <a:endParaRPr b="0" lang="en-US" sz="2400" spc="-1" strike="noStrike">
              <a:solidFill>
                <a:srgbClr val="000000"/>
              </a:solidFill>
              <a:latin typeface="Arial"/>
            </a:endParaRPr>
          </a:p>
        </p:txBody>
      </p:sp>
      <p:sp>
        <p:nvSpPr>
          <p:cNvPr id="202" name=""/>
          <p:cNvSpPr txBox="1"/>
          <p:nvPr/>
        </p:nvSpPr>
        <p:spPr>
          <a:xfrm>
            <a:off x="2192400" y="3517920"/>
            <a:ext cx="25225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Microcomme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2057400" y="2057400"/>
            <a:ext cx="1454040" cy="404640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3867120" y="2057400"/>
            <a:ext cx="1409760" cy="4062240"/>
          </a:xfrm>
          <a:prstGeom prst="rect">
            <a:avLst/>
          </a:prstGeom>
          <a:gradFill rotWithShape="0">
            <a:gsLst>
              <a:gs pos="0">
                <a:srgbClr val="990000"/>
              </a:gs>
              <a:gs pos="100000">
                <a:srgbClr val="7a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5649840" y="2057400"/>
            <a:ext cx="1512720" cy="407988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ternet Payment Transaction Ranges</a:t>
            </a:r>
            <a:endParaRPr b="0" lang="en-US" sz="3200" spc="-1" strike="noStrike">
              <a:solidFill>
                <a:srgbClr val="000000"/>
              </a:solidFill>
              <a:latin typeface="Arial"/>
            </a:endParaRPr>
          </a:p>
        </p:txBody>
      </p:sp>
      <p:sp>
        <p:nvSpPr>
          <p:cNvPr id="207" name=""/>
          <p:cNvSpPr txBox="1"/>
          <p:nvPr/>
        </p:nvSpPr>
        <p:spPr>
          <a:xfrm>
            <a:off x="290520" y="2521080"/>
            <a:ext cx="1335240" cy="8326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Helvetica Black"/>
                <a:ea typeface="Helvetica Black"/>
              </a:rPr>
              <a:t>Payment:</a:t>
            </a:r>
            <a:endParaRPr b="0" lang="en-US" sz="2400" spc="-1" strike="noStrike">
              <a:solidFill>
                <a:srgbClr val="000000"/>
              </a:solidFill>
              <a:latin typeface="Arial"/>
            </a:endParaRPr>
          </a:p>
        </p:txBody>
      </p:sp>
      <p:sp>
        <p:nvSpPr>
          <p:cNvPr id="208" name=""/>
          <p:cNvSpPr txBox="1"/>
          <p:nvPr/>
        </p:nvSpPr>
        <p:spPr>
          <a:xfrm>
            <a:off x="56386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aximum </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09" name=""/>
          <p:cNvSpPr txBox="1"/>
          <p:nvPr/>
        </p:nvSpPr>
        <p:spPr>
          <a:xfrm>
            <a:off x="3809880" y="2125800"/>
            <a:ext cx="152388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Typical</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0" name=""/>
          <p:cNvSpPr txBox="1"/>
          <p:nvPr/>
        </p:nvSpPr>
        <p:spPr>
          <a:xfrm>
            <a:off x="19810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inim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1" name=""/>
          <p:cNvSpPr/>
          <p:nvPr/>
        </p:nvSpPr>
        <p:spPr>
          <a:xfrm>
            <a:off x="304920" y="4114800"/>
            <a:ext cx="8512200" cy="7621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72880" y="4311720"/>
            <a:ext cx="231156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ni </a:t>
            </a:r>
            <a:endParaRPr b="0" lang="en-US" sz="2800" spc="-1" strike="noStrike">
              <a:solidFill>
                <a:srgbClr val="000000"/>
              </a:solidFill>
              <a:latin typeface="Arial"/>
            </a:endParaRPr>
          </a:p>
        </p:txBody>
      </p:sp>
      <p:sp>
        <p:nvSpPr>
          <p:cNvPr id="213" name=""/>
          <p:cNvSpPr txBox="1"/>
          <p:nvPr/>
        </p:nvSpPr>
        <p:spPr>
          <a:xfrm>
            <a:off x="5638680" y="4311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0</a:t>
            </a:r>
            <a:endParaRPr b="0" lang="en-US" sz="2800" spc="-1" strike="noStrike">
              <a:solidFill>
                <a:srgbClr val="000000"/>
              </a:solidFill>
              <a:latin typeface="Arial"/>
            </a:endParaRPr>
          </a:p>
        </p:txBody>
      </p:sp>
      <p:sp>
        <p:nvSpPr>
          <p:cNvPr id="214" name=""/>
          <p:cNvSpPr txBox="1"/>
          <p:nvPr/>
        </p:nvSpPr>
        <p:spPr>
          <a:xfrm>
            <a:off x="2057400" y="4311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10</a:t>
            </a:r>
            <a:endParaRPr b="0" lang="en-US" sz="2800" spc="-1" strike="noStrike">
              <a:solidFill>
                <a:srgbClr val="000000"/>
              </a:solidFill>
              <a:latin typeface="Arial"/>
            </a:endParaRPr>
          </a:p>
        </p:txBody>
      </p:sp>
      <p:sp>
        <p:nvSpPr>
          <p:cNvPr id="215" name=""/>
          <p:cNvSpPr txBox="1"/>
          <p:nvPr/>
        </p:nvSpPr>
        <p:spPr>
          <a:xfrm>
            <a:off x="3886200" y="4311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a:t>
            </a:r>
            <a:endParaRPr b="0" lang="en-US" sz="2800" spc="-1" strike="noStrike">
              <a:solidFill>
                <a:srgbClr val="000000"/>
              </a:solidFill>
              <a:latin typeface="Arial"/>
            </a:endParaRPr>
          </a:p>
        </p:txBody>
      </p:sp>
      <p:sp>
        <p:nvSpPr>
          <p:cNvPr id="216" name=""/>
          <p:cNvSpPr/>
          <p:nvPr/>
        </p:nvSpPr>
        <p:spPr>
          <a:xfrm>
            <a:off x="304920" y="3206880"/>
            <a:ext cx="8526600" cy="6793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txBox="1"/>
          <p:nvPr/>
        </p:nvSpPr>
        <p:spPr>
          <a:xfrm>
            <a:off x="274680" y="3352680"/>
            <a:ext cx="133020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acro </a:t>
            </a:r>
            <a:endParaRPr b="0" lang="en-US" sz="2800" spc="-1" strike="noStrike">
              <a:solidFill>
                <a:srgbClr val="000000"/>
              </a:solidFill>
              <a:latin typeface="Arial"/>
            </a:endParaRPr>
          </a:p>
        </p:txBody>
      </p:sp>
      <p:sp>
        <p:nvSpPr>
          <p:cNvPr id="218" name=""/>
          <p:cNvSpPr txBox="1"/>
          <p:nvPr/>
        </p:nvSpPr>
        <p:spPr>
          <a:xfrm>
            <a:off x="2057400" y="3352680"/>
            <a:ext cx="14112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19" name=""/>
          <p:cNvSpPr txBox="1"/>
          <p:nvPr/>
        </p:nvSpPr>
        <p:spPr>
          <a:xfrm>
            <a:off x="5786280" y="3352680"/>
            <a:ext cx="1469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0</a:t>
            </a:r>
            <a:endParaRPr b="0" lang="en-US" sz="2800" spc="-1" strike="noStrike">
              <a:solidFill>
                <a:srgbClr val="000000"/>
              </a:solidFill>
              <a:latin typeface="Arial"/>
            </a:endParaRPr>
          </a:p>
        </p:txBody>
      </p:sp>
      <p:sp>
        <p:nvSpPr>
          <p:cNvPr id="220" name=""/>
          <p:cNvSpPr txBox="1"/>
          <p:nvPr/>
        </p:nvSpPr>
        <p:spPr>
          <a:xfrm>
            <a:off x="3886200" y="335268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a:t>
            </a:r>
            <a:endParaRPr b="0" lang="en-US" sz="2800" spc="-1" strike="noStrike">
              <a:solidFill>
                <a:srgbClr val="000000"/>
              </a:solidFill>
              <a:latin typeface="Arial"/>
            </a:endParaRPr>
          </a:p>
        </p:txBody>
      </p:sp>
      <p:sp>
        <p:nvSpPr>
          <p:cNvPr id="221" name=""/>
          <p:cNvSpPr/>
          <p:nvPr/>
        </p:nvSpPr>
        <p:spPr>
          <a:xfrm>
            <a:off x="272880" y="5105520"/>
            <a:ext cx="8512200" cy="69228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334800" y="5238720"/>
            <a:ext cx="123192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cro </a:t>
            </a:r>
            <a:endParaRPr b="0" lang="en-US" sz="2800" spc="-1" strike="noStrike">
              <a:solidFill>
                <a:srgbClr val="000000"/>
              </a:solidFill>
              <a:latin typeface="Arial"/>
            </a:endParaRPr>
          </a:p>
        </p:txBody>
      </p:sp>
      <p:sp>
        <p:nvSpPr>
          <p:cNvPr id="223" name=""/>
          <p:cNvSpPr txBox="1"/>
          <p:nvPr/>
        </p:nvSpPr>
        <p:spPr>
          <a:xfrm>
            <a:off x="2057400" y="5238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01</a:t>
            </a:r>
            <a:endParaRPr b="0" lang="en-US" sz="2800" spc="-1" strike="noStrike">
              <a:solidFill>
                <a:srgbClr val="000000"/>
              </a:solidFill>
              <a:latin typeface="Arial"/>
            </a:endParaRPr>
          </a:p>
        </p:txBody>
      </p:sp>
      <p:sp>
        <p:nvSpPr>
          <p:cNvPr id="224" name=""/>
          <p:cNvSpPr txBox="1"/>
          <p:nvPr/>
        </p:nvSpPr>
        <p:spPr>
          <a:xfrm>
            <a:off x="5638680" y="5238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25" name=""/>
          <p:cNvSpPr txBox="1"/>
          <p:nvPr/>
        </p:nvSpPr>
        <p:spPr>
          <a:xfrm>
            <a:off x="3886200" y="5238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y Micropayment</a:t>
            </a:r>
            <a:endParaRPr b="0" lang="en-US" sz="4400" spc="-1" strike="noStrike">
              <a:solidFill>
                <a:srgbClr val="000000"/>
              </a:solidFill>
              <a:latin typeface="Arial"/>
            </a:endParaRPr>
          </a:p>
        </p:txBody>
      </p:sp>
      <p:sp>
        <p:nvSpPr>
          <p:cNvPr id="229" name=""/>
          <p:cNvSpPr txBox="1"/>
          <p:nvPr/>
        </p:nvSpPr>
        <p:spPr>
          <a:xfrm>
            <a:off x="457200" y="2743200"/>
            <a:ext cx="7162920" cy="3173400"/>
          </a:xfrm>
          <a:prstGeom prst="rect">
            <a:avLst/>
          </a:prstGeom>
          <a:noFill/>
          <a:ln w="0">
            <a:noFill/>
          </a:ln>
        </p:spPr>
        <p:txBody>
          <a:bodyPr lIns="0" rIns="0" tIns="0" bIns="0" anchor="t">
            <a:noAutofit/>
          </a:bodyPr>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he Web is a great vehicle for                        delivering conten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comes in small pieces                                  on the Interne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providers want to                                 be compensated</a:t>
            </a:r>
            <a:endParaRPr b="0" lang="en-US" sz="3200" spc="-1" strike="noStrike">
              <a:solidFill>
                <a:srgbClr val="000000"/>
              </a:solidFill>
              <a:latin typeface="Arial"/>
            </a:endParaRPr>
          </a:p>
        </p:txBody>
      </p:sp>
      <p:sp>
        <p:nvSpPr>
          <p:cNvPr id="23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fining the opportunity </a:t>
            </a:r>
            <a:endParaRPr b="0" lang="en-US" sz="2400" spc="-1" strike="noStrike">
              <a:solidFill>
                <a:srgbClr val="000000"/>
              </a:solidFill>
              <a:latin typeface="Arial"/>
            </a:endParaRPr>
          </a:p>
        </p:txBody>
      </p:sp>
      <p:grpSp>
        <p:nvGrpSpPr>
          <p:cNvPr id="231" name=""/>
          <p:cNvGrpSpPr/>
          <p:nvPr/>
        </p:nvGrpSpPr>
        <p:grpSpPr>
          <a:xfrm>
            <a:off x="5048280" y="2098800"/>
            <a:ext cx="3651480" cy="4390920"/>
            <a:chOff x="5048280" y="2098800"/>
            <a:chExt cx="3651480" cy="4390920"/>
          </a:xfrm>
        </p:grpSpPr>
        <p:pic>
          <p:nvPicPr>
            <p:cNvPr id="232" name="" descr=""/>
            <p:cNvPicPr/>
            <p:nvPr/>
          </p:nvPicPr>
          <p:blipFill>
            <a:blip r:embed="rId1"/>
            <a:stretch/>
          </p:blipFill>
          <p:spPr>
            <a:xfrm>
              <a:off x="6532560" y="2098800"/>
              <a:ext cx="1996920" cy="2000160"/>
            </a:xfrm>
            <a:prstGeom prst="rect">
              <a:avLst/>
            </a:prstGeom>
            <a:ln w="0">
              <a:noFill/>
            </a:ln>
          </p:spPr>
        </p:pic>
        <p:pic>
          <p:nvPicPr>
            <p:cNvPr id="233" name="" descr=""/>
            <p:cNvPicPr/>
            <p:nvPr/>
          </p:nvPicPr>
          <p:blipFill>
            <a:blip r:embed="rId2"/>
            <a:stretch/>
          </p:blipFill>
          <p:spPr>
            <a:xfrm>
              <a:off x="5051520" y="4029120"/>
              <a:ext cx="3648240" cy="2460600"/>
            </a:xfrm>
            <a:prstGeom prst="rect">
              <a:avLst/>
            </a:prstGeom>
            <a:ln w="0">
              <a:noFill/>
            </a:ln>
          </p:spPr>
        </p:pic>
        <p:grpSp>
          <p:nvGrpSpPr>
            <p:cNvPr id="234" name=""/>
            <p:cNvGrpSpPr/>
            <p:nvPr/>
          </p:nvGrpSpPr>
          <p:grpSpPr>
            <a:xfrm>
              <a:off x="5048280" y="3857760"/>
              <a:ext cx="2389680" cy="2619360"/>
              <a:chOff x="5048280" y="3857760"/>
              <a:chExt cx="2389680" cy="2619360"/>
            </a:xfrm>
          </p:grpSpPr>
          <p:sp>
            <p:nvSpPr>
              <p:cNvPr id="235" name=""/>
              <p:cNvSpPr/>
              <p:nvPr/>
            </p:nvSpPr>
            <p:spPr>
              <a:xfrm>
                <a:off x="6824520" y="3909960"/>
                <a:ext cx="613080" cy="433800"/>
              </a:xfrm>
              <a:custGeom>
                <a:avLst/>
                <a:gdLst/>
                <a:ahLst/>
                <a:rect l="0" t="0" r="r" b="b"/>
                <a:pathLst>
                  <a:path w="1703" h="1205">
                    <a:moveTo>
                      <a:pt x="0" y="0"/>
                    </a:moveTo>
                    <a:lnTo>
                      <a:pt x="0" y="189"/>
                    </a:lnTo>
                    <a:lnTo>
                      <a:pt x="1703" y="1205"/>
                    </a:lnTo>
                    <a:lnTo>
                      <a:pt x="1703" y="963"/>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6" name=""/>
              <p:cNvSpPr/>
              <p:nvPr/>
            </p:nvSpPr>
            <p:spPr>
              <a:xfrm>
                <a:off x="5048280" y="3857760"/>
                <a:ext cx="2389680" cy="2615040"/>
              </a:xfrm>
              <a:custGeom>
                <a:avLst/>
                <a:gdLst/>
                <a:ahLst/>
                <a:rect l="0" t="0" r="r" b="b"/>
                <a:pathLst>
                  <a:path w="6638" h="7264">
                    <a:moveTo>
                      <a:pt x="0" y="7264"/>
                    </a:moveTo>
                    <a:lnTo>
                      <a:pt x="0" y="3815"/>
                    </a:lnTo>
                    <a:lnTo>
                      <a:pt x="5328" y="427"/>
                    </a:lnTo>
                    <a:lnTo>
                      <a:pt x="4909" y="171"/>
                    </a:lnTo>
                    <a:lnTo>
                      <a:pt x="6550" y="0"/>
                    </a:lnTo>
                    <a:lnTo>
                      <a:pt x="6638" y="1155"/>
                    </a:lnTo>
                    <a:lnTo>
                      <a:pt x="6232" y="886"/>
                    </a:lnTo>
                    <a:lnTo>
                      <a:pt x="789" y="7238"/>
                    </a:lnTo>
                    <a:lnTo>
                      <a:pt x="0" y="7264"/>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5303880" y="4178160"/>
                <a:ext cx="1991160" cy="2298960"/>
              </a:xfrm>
              <a:custGeom>
                <a:avLst/>
                <a:gdLst/>
                <a:ahLst/>
                <a:rect l="0" t="0" r="r" b="b"/>
                <a:pathLst>
                  <a:path w="5531" h="6386">
                    <a:moveTo>
                      <a:pt x="0" y="6386"/>
                    </a:moveTo>
                    <a:lnTo>
                      <a:pt x="313" y="6386"/>
                    </a:lnTo>
                    <a:lnTo>
                      <a:pt x="5496" y="229"/>
                    </a:lnTo>
                    <a:lnTo>
                      <a:pt x="5531" y="0"/>
                    </a:lnTo>
                    <a:lnTo>
                      <a:pt x="0" y="6386"/>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019160" y="2171520"/>
            <a:ext cx="6467760" cy="3895920"/>
          </a:xfrm>
          <a:custGeom>
            <a:avLst/>
            <a:gdLst/>
            <a:ahLst/>
            <a:rect l="0" t="0" r="r" b="b"/>
            <a:pathLst>
              <a:path w="17966" h="10822">
                <a:moveTo>
                  <a:pt x="0" y="8930"/>
                </a:moveTo>
                <a:lnTo>
                  <a:pt x="3201" y="0"/>
                </a:lnTo>
                <a:lnTo>
                  <a:pt x="17781" y="1128"/>
                </a:lnTo>
                <a:lnTo>
                  <a:pt x="17966" y="10822"/>
                </a:lnTo>
                <a:lnTo>
                  <a:pt x="0" y="893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800280" y="2895480"/>
            <a:ext cx="7667640" cy="2228760"/>
          </a:xfrm>
          <a:prstGeom prst="rect">
            <a:avLst/>
          </a:pr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 Recent Advertisement</a:t>
            </a:r>
            <a:endParaRPr b="0" lang="en-US" sz="4400" spc="-1" strike="noStrike">
              <a:solidFill>
                <a:srgbClr val="000000"/>
              </a:solidFill>
              <a:latin typeface="Arial"/>
            </a:endParaRPr>
          </a:p>
        </p:txBody>
      </p:sp>
      <p:sp>
        <p:nvSpPr>
          <p:cNvPr id="241" name=""/>
          <p:cNvSpPr txBox="1"/>
          <p:nvPr/>
        </p:nvSpPr>
        <p:spPr>
          <a:xfrm>
            <a:off x="779400" y="3075120"/>
            <a:ext cx="7675560" cy="193752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Arial Rounded MT Bold"/>
                <a:ea typeface="Arial Rounded MT Bold"/>
              </a:rPr>
              <a:t>Only $0.000016 per Word</a:t>
            </a:r>
            <a:endParaRPr b="0" lang="en-US" sz="48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San Francisco Examiner</a:t>
            </a:r>
            <a:endParaRPr b="0" lang="en-US" sz="32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The Afternoon News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MICROPAYMENTS</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blems with macropayment system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 penny could buy you on the internet?</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tatic </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vie review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tertainment or advice column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 video/CD release list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ngs or lyric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cyclopedia entr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und effects </a:t>
            </a:r>
            <a:endParaRPr b="0" lang="en-US" sz="2400" spc="-1" strike="noStrike">
              <a:solidFill>
                <a:srgbClr val="000000"/>
              </a:solidFill>
              <a:latin typeface="Arial"/>
            </a:endParaRPr>
          </a:p>
        </p:txBody>
      </p:sp>
      <p:pic>
        <p:nvPicPr>
          <p:cNvPr id="244" name="" descr=""/>
          <p:cNvPicPr/>
          <p:nvPr/>
        </p:nvPicPr>
        <p:blipFill>
          <a:blip r:embed="rId1"/>
          <a:stretch/>
        </p:blipFill>
        <p:spPr>
          <a:xfrm>
            <a:off x="6308640" y="5029200"/>
            <a:ext cx="2759040" cy="1781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6"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ideo/audio interview or clip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sletter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ily horoscop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 syndicated comic strip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ynamic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stant weather conditions: ski areas, roads and highways, beach and boating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st active stocks with no delay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aph of stock prices over ti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rsonalized news headlines, stock portfolio, editor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dividual sports highlights, profiles, scores, statistic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llow pages look-up of closest ethnic restauran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tered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play in a distributed online ga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use for a shareware program or apple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id-per-click advertising (user is paid for viewing ad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0 seconds of guaranteed bandwidth for Internet "phone call"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ive-minute "subscription" to an online magazin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minute view of a famous ar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3538440" y="416556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209600" y="27352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5748480" y="24130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2927520" y="41068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006e28"/>
              </a:gs>
              <a:gs pos="100000">
                <a:srgbClr val="cce2d4"/>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3300480" y="4633920"/>
            <a:ext cx="300996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Meter Access</a:t>
            </a:r>
            <a:endParaRPr b="0" lang="en-US" sz="2800" spc="-1" strike="noStrike">
              <a:solidFill>
                <a:srgbClr val="000000"/>
              </a:solidFill>
              <a:latin typeface="Arial"/>
            </a:endParaRPr>
          </a:p>
        </p:txBody>
      </p:sp>
      <p:grpSp>
        <p:nvGrpSpPr>
          <p:cNvPr id="254" name=""/>
          <p:cNvGrpSpPr/>
          <p:nvPr/>
        </p:nvGrpSpPr>
        <p:grpSpPr>
          <a:xfrm>
            <a:off x="609480" y="2057400"/>
            <a:ext cx="4419720" cy="2405520"/>
            <a:chOff x="609480" y="2057400"/>
            <a:chExt cx="4419720" cy="2405520"/>
          </a:xfrm>
        </p:grpSpPr>
        <p:sp>
          <p:nvSpPr>
            <p:cNvPr id="255" name=""/>
            <p:cNvSpPr/>
            <p:nvPr/>
          </p:nvSpPr>
          <p:spPr>
            <a:xfrm>
              <a:off x="609480" y="205740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990000"/>
                </a:gs>
                <a:gs pos="100000">
                  <a:srgbClr val="cc7f7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071720" y="2068560"/>
              <a:ext cx="34434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Information</a:t>
              </a:r>
              <a:endParaRPr b="0" lang="en-US" sz="2800" spc="-1" strike="noStrike">
                <a:solidFill>
                  <a:srgbClr val="000000"/>
                </a:solidFill>
                <a:latin typeface="Arial"/>
              </a:endParaRPr>
            </a:p>
          </p:txBody>
        </p:sp>
        <p:sp>
          <p:nvSpPr>
            <p:cNvPr id="257" name=""/>
            <p:cNvSpPr txBox="1"/>
            <p:nvPr/>
          </p:nvSpPr>
          <p:spPr>
            <a:xfrm>
              <a:off x="1422360" y="2617920"/>
              <a:ext cx="360684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Articl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tock quotes and database queri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Cartoons and clip-art</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Music and videos</a:t>
              </a:r>
              <a:endParaRPr b="0" lang="en-US" sz="1600" spc="-1" strike="noStrike">
                <a:solidFill>
                  <a:srgbClr val="000000"/>
                </a:solidFill>
                <a:latin typeface="Arial"/>
              </a:endParaRPr>
            </a:p>
          </p:txBody>
        </p:sp>
      </p:grpSp>
      <p:sp>
        <p:nvSpPr>
          <p:cNvPr id="258" name=""/>
          <p:cNvSpPr txBox="1"/>
          <p:nvPr/>
        </p:nvSpPr>
        <p:spPr>
          <a:xfrm>
            <a:off x="3801960" y="5076720"/>
            <a:ext cx="2273400" cy="134136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To applicati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For servic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By security clearance</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To shared resources</a:t>
            </a:r>
            <a:endParaRPr b="0" lang="en-US" sz="1600" spc="-1" strike="noStrike">
              <a:solidFill>
                <a:srgbClr val="000000"/>
              </a:solidFill>
              <a:latin typeface="Arial"/>
            </a:endParaRPr>
          </a:p>
        </p:txBody>
      </p:sp>
      <p:grpSp>
        <p:nvGrpSpPr>
          <p:cNvPr id="259" name=""/>
          <p:cNvGrpSpPr/>
          <p:nvPr/>
        </p:nvGrpSpPr>
        <p:grpSpPr>
          <a:xfrm>
            <a:off x="5203800" y="2057400"/>
            <a:ext cx="3451320" cy="2411640"/>
            <a:chOff x="5203800" y="2057400"/>
            <a:chExt cx="3451320" cy="2411640"/>
          </a:xfrm>
        </p:grpSpPr>
        <p:sp>
          <p:nvSpPr>
            <p:cNvPr id="260" name=""/>
            <p:cNvSpPr/>
            <p:nvPr/>
          </p:nvSpPr>
          <p:spPr>
            <a:xfrm>
              <a:off x="5203800" y="2057400"/>
              <a:ext cx="1340280" cy="2411640"/>
            </a:xfrm>
            <a:custGeom>
              <a:avLst/>
              <a:gdLst/>
              <a:ahLst/>
              <a:rect l="0" t="0" r="r" b="b"/>
              <a:pathLst>
                <a:path w="3723" h="6699">
                  <a:moveTo>
                    <a:pt x="0" y="0"/>
                  </a:moveTo>
                  <a:lnTo>
                    <a:pt x="0" y="6699"/>
                  </a:lnTo>
                  <a:lnTo>
                    <a:pt x="3723" y="3350"/>
                  </a:lnTo>
                  <a:lnTo>
                    <a:pt x="0" y="0"/>
                  </a:lnTo>
                  <a:close/>
                </a:path>
              </a:pathLst>
            </a:custGeom>
            <a:gradFill rotWithShape="0">
              <a:gsLst>
                <a:gs pos="0">
                  <a:srgbClr val="003889"/>
                </a:gs>
                <a:gs pos="100000">
                  <a:srgbClr val="ccd7e7"/>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5665680" y="2205000"/>
              <a:ext cx="298944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Software</a:t>
              </a:r>
              <a:endParaRPr b="0" lang="en-US" sz="2800" spc="-1" strike="noStrike">
                <a:solidFill>
                  <a:srgbClr val="000000"/>
                </a:solidFill>
                <a:latin typeface="Arial"/>
              </a:endParaRPr>
            </a:p>
          </p:txBody>
        </p:sp>
        <p:sp>
          <p:nvSpPr>
            <p:cNvPr id="262" name=""/>
            <p:cNvSpPr txBox="1"/>
            <p:nvPr/>
          </p:nvSpPr>
          <p:spPr>
            <a:xfrm>
              <a:off x="6165720" y="2693880"/>
              <a:ext cx="188928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Java applet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ActiveX Control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oftware add-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Games</a:t>
              </a:r>
              <a:endParaRPr b="0" lang="en-US" sz="1600" spc="-1" strike="noStrike">
                <a:solidFill>
                  <a:srgbClr val="000000"/>
                </a:solidFill>
                <a:latin typeface="Arial"/>
              </a:endParaRPr>
            </a:p>
          </p:txBody>
        </p:sp>
      </p:grpSp>
      <p:sp>
        <p:nvSpPr>
          <p:cNvPr id="2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 of a pen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0"/>
            <a:ext cx="899172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65" name=""/>
          <p:cNvSpPr txBox="1"/>
          <p:nvPr/>
        </p:nvSpPr>
        <p:spPr>
          <a:xfrm>
            <a:off x="152280" y="2475000"/>
            <a:ext cx="8915400" cy="339264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increasingly smaller transaction value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payments both </a:t>
            </a:r>
            <a:r>
              <a:rPr b="0" i="1" lang="en-US" sz="3200" spc="-1" strike="noStrike">
                <a:solidFill>
                  <a:srgbClr val="ff5900"/>
                </a:solidFill>
                <a:latin typeface="Times New Roman"/>
                <a:ea typeface="Times New Roman"/>
              </a:rPr>
              <a:t>from</a:t>
            </a:r>
            <a:r>
              <a:rPr b="0" lang="en-US" sz="3200" spc="-1" strike="noStrike">
                <a:solidFill>
                  <a:srgbClr val="000000"/>
                </a:solidFill>
                <a:latin typeface="Times New Roman"/>
                <a:ea typeface="Times New Roman"/>
              </a:rPr>
              <a:t> users and </a:t>
            </a:r>
            <a:r>
              <a:rPr b="0" i="1" lang="en-US" sz="3200" spc="-1" strike="noStrike">
                <a:solidFill>
                  <a:srgbClr val="ff5900"/>
                </a:solidFill>
                <a:latin typeface="Times New Roman"/>
                <a:ea typeface="Times New Roman"/>
              </a:rPr>
              <a:t>to </a:t>
            </a:r>
            <a:r>
              <a:rPr b="0" lang="en-US" sz="3200" spc="-1" strike="noStrike">
                <a:solidFill>
                  <a:srgbClr val="000000"/>
                </a:solidFill>
                <a:latin typeface="Times New Roman"/>
                <a:ea typeface="Times New Roman"/>
              </a:rPr>
              <a:t>user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cale to support 100K Web sites by year 2000,</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M sites by 2005</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global in scope</a:t>
            </a:r>
            <a:endParaRPr b="0" lang="en-US" sz="3200" spc="-1" strike="noStrike">
              <a:solidFill>
                <a:srgbClr val="000000"/>
              </a:solidFill>
              <a:latin typeface="Arial"/>
            </a:endParaRPr>
          </a:p>
        </p:txBody>
      </p:sp>
      <p:sp>
        <p:nvSpPr>
          <p:cNvPr id="266" name=""/>
          <p:cNvSpPr txBox="1"/>
          <p:nvPr/>
        </p:nvSpPr>
        <p:spPr>
          <a:xfrm>
            <a:off x="237960" y="17082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all scheme must:</a:t>
            </a:r>
            <a:endParaRPr b="0" lang="en-US" sz="3200" spc="-1" strike="noStrike">
              <a:solidFill>
                <a:srgbClr val="000000"/>
              </a:solidFill>
              <a:latin typeface="Arial"/>
            </a:endParaRPr>
          </a:p>
        </p:txBody>
      </p:sp>
      <p:grpSp>
        <p:nvGrpSpPr>
          <p:cNvPr id="267" name=""/>
          <p:cNvGrpSpPr/>
          <p:nvPr/>
        </p:nvGrpSpPr>
        <p:grpSpPr>
          <a:xfrm>
            <a:off x="5486400" y="4343400"/>
            <a:ext cx="3170520" cy="2202120"/>
            <a:chOff x="5486400" y="4343400"/>
            <a:chExt cx="3170520" cy="2202120"/>
          </a:xfrm>
        </p:grpSpPr>
        <p:pic>
          <p:nvPicPr>
            <p:cNvPr id="268" name="" descr=""/>
            <p:cNvPicPr/>
            <p:nvPr/>
          </p:nvPicPr>
          <p:blipFill>
            <a:blip r:embed="rId1"/>
            <a:stretch/>
          </p:blipFill>
          <p:spPr>
            <a:xfrm>
              <a:off x="6986520" y="4394160"/>
              <a:ext cx="1668600" cy="1760400"/>
            </a:xfrm>
            <a:prstGeom prst="rect">
              <a:avLst/>
            </a:prstGeom>
            <a:ln w="0">
              <a:noFill/>
            </a:ln>
          </p:spPr>
        </p:pic>
        <p:grpSp>
          <p:nvGrpSpPr>
            <p:cNvPr id="269" name=""/>
            <p:cNvGrpSpPr/>
            <p:nvPr/>
          </p:nvGrpSpPr>
          <p:grpSpPr>
            <a:xfrm>
              <a:off x="5992920" y="4797360"/>
              <a:ext cx="730080" cy="584280"/>
              <a:chOff x="5992920" y="4797360"/>
              <a:chExt cx="730080" cy="584280"/>
            </a:xfrm>
          </p:grpSpPr>
          <p:grpSp>
            <p:nvGrpSpPr>
              <p:cNvPr id="270" name=""/>
              <p:cNvGrpSpPr/>
              <p:nvPr/>
            </p:nvGrpSpPr>
            <p:grpSpPr>
              <a:xfrm>
                <a:off x="6494400" y="4797360"/>
                <a:ext cx="228600" cy="268200"/>
                <a:chOff x="6494400" y="4797360"/>
                <a:chExt cx="228600" cy="268200"/>
              </a:xfrm>
            </p:grpSpPr>
            <p:sp>
              <p:nvSpPr>
                <p:cNvPr id="271" name=""/>
                <p:cNvSpPr/>
                <p:nvPr/>
              </p:nvSpPr>
              <p:spPr>
                <a:xfrm>
                  <a:off x="6497640" y="4975200"/>
                  <a:ext cx="225360" cy="9036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6494400" y="4849920"/>
                  <a:ext cx="228600" cy="1634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6497640" y="4797360"/>
                  <a:ext cx="225360" cy="9036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4" name=""/>
              <p:cNvGrpSpPr/>
              <p:nvPr/>
            </p:nvGrpSpPr>
            <p:grpSpPr>
              <a:xfrm>
                <a:off x="6237360" y="4867200"/>
                <a:ext cx="281160" cy="335160"/>
                <a:chOff x="6237360" y="4867200"/>
                <a:chExt cx="281160" cy="335160"/>
              </a:xfrm>
            </p:grpSpPr>
            <p:sp>
              <p:nvSpPr>
                <p:cNvPr id="275" name=""/>
                <p:cNvSpPr/>
                <p:nvPr/>
              </p:nvSpPr>
              <p:spPr>
                <a:xfrm>
                  <a:off x="6238800" y="5089680"/>
                  <a:ext cx="279360" cy="11268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6237360" y="4932360"/>
                  <a:ext cx="281160" cy="2030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6238800" y="4867200"/>
                  <a:ext cx="279360" cy="112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8" name=""/>
              <p:cNvGrpSpPr/>
              <p:nvPr/>
            </p:nvGrpSpPr>
            <p:grpSpPr>
              <a:xfrm>
                <a:off x="5992920" y="4971960"/>
                <a:ext cx="347760" cy="409680"/>
                <a:chOff x="5992920" y="4971960"/>
                <a:chExt cx="347760" cy="409680"/>
              </a:xfrm>
            </p:grpSpPr>
            <p:sp>
              <p:nvSpPr>
                <p:cNvPr id="279" name=""/>
                <p:cNvSpPr/>
                <p:nvPr/>
              </p:nvSpPr>
              <p:spPr>
                <a:xfrm>
                  <a:off x="5997600" y="5245200"/>
                  <a:ext cx="343080" cy="13644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5992920" y="5056200"/>
                  <a:ext cx="347760" cy="24768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5997600" y="4971960"/>
                  <a:ext cx="343080" cy="139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82" name=""/>
            <p:cNvGrpSpPr/>
            <p:nvPr/>
          </p:nvGrpSpPr>
          <p:grpSpPr>
            <a:xfrm>
              <a:off x="6946920" y="4343400"/>
              <a:ext cx="709560" cy="577800"/>
              <a:chOff x="6946920" y="4343400"/>
              <a:chExt cx="709560" cy="577800"/>
            </a:xfrm>
          </p:grpSpPr>
          <p:pic>
            <p:nvPicPr>
              <p:cNvPr id="283" name="" descr=""/>
              <p:cNvPicPr/>
              <p:nvPr/>
            </p:nvPicPr>
            <p:blipFill>
              <a:blip r:embed="rId2"/>
              <a:stretch/>
            </p:blipFill>
            <p:spPr>
              <a:xfrm>
                <a:off x="6946920" y="4343400"/>
                <a:ext cx="709560" cy="577800"/>
              </a:xfrm>
              <a:prstGeom prst="rect">
                <a:avLst/>
              </a:prstGeom>
              <a:ln w="0">
                <a:noFill/>
              </a:ln>
            </p:spPr>
          </p:pic>
          <p:sp>
            <p:nvSpPr>
              <p:cNvPr id="284" name=""/>
              <p:cNvSpPr/>
              <p:nvPr/>
            </p:nvSpPr>
            <p:spPr>
              <a:xfrm>
                <a:off x="7251840" y="4405320"/>
                <a:ext cx="311400" cy="235440"/>
              </a:xfrm>
              <a:custGeom>
                <a:avLst/>
                <a:gdLst/>
                <a:ahLst/>
                <a:rect l="0" t="0" r="r" b="b"/>
                <a:pathLst>
                  <a:path w="865" h="654">
                    <a:moveTo>
                      <a:pt x="238" y="0"/>
                    </a:moveTo>
                    <a:lnTo>
                      <a:pt x="0" y="397"/>
                    </a:lnTo>
                    <a:lnTo>
                      <a:pt x="640" y="654"/>
                    </a:lnTo>
                    <a:lnTo>
                      <a:pt x="865" y="256"/>
                    </a:lnTo>
                    <a:lnTo>
                      <a:pt x="23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7278840" y="4424400"/>
                <a:ext cx="230400" cy="174960"/>
              </a:xfrm>
              <a:custGeom>
                <a:avLst/>
                <a:gdLst/>
                <a:ahLst/>
                <a:rect l="0" t="0" r="r" b="b"/>
                <a:pathLst>
                  <a:path w="640" h="486">
                    <a:moveTo>
                      <a:pt x="176" y="0"/>
                    </a:moveTo>
                    <a:lnTo>
                      <a:pt x="0" y="296"/>
                    </a:lnTo>
                    <a:lnTo>
                      <a:pt x="477" y="486"/>
                    </a:lnTo>
                    <a:lnTo>
                      <a:pt x="640" y="189"/>
                    </a:lnTo>
                    <a:lnTo>
                      <a:pt x="1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7375680" y="4471920"/>
                <a:ext cx="181440" cy="128880"/>
              </a:xfrm>
              <a:custGeom>
                <a:avLst/>
                <a:gdLst/>
                <a:ahLst/>
                <a:rect l="0" t="0" r="r" b="b"/>
                <a:pathLst>
                  <a:path w="504" h="358">
                    <a:moveTo>
                      <a:pt x="66" y="0"/>
                    </a:moveTo>
                    <a:lnTo>
                      <a:pt x="0" y="154"/>
                    </a:lnTo>
                    <a:lnTo>
                      <a:pt x="438" y="358"/>
                    </a:lnTo>
                    <a:lnTo>
                      <a:pt x="504" y="203"/>
                    </a:lnTo>
                    <a:lnTo>
                      <a:pt x="66" y="0"/>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87" name="" descr=""/>
            <p:cNvPicPr/>
            <p:nvPr/>
          </p:nvPicPr>
          <p:blipFill>
            <a:blip r:embed="rId3"/>
            <a:stretch/>
          </p:blipFill>
          <p:spPr>
            <a:xfrm>
              <a:off x="6705720" y="4660920"/>
              <a:ext cx="1951200" cy="1884240"/>
            </a:xfrm>
            <a:prstGeom prst="rect">
              <a:avLst/>
            </a:prstGeom>
            <a:ln w="0">
              <a:noFill/>
            </a:ln>
          </p:spPr>
        </p:pic>
        <p:pic>
          <p:nvPicPr>
            <p:cNvPr id="288" name="" descr=""/>
            <p:cNvPicPr/>
            <p:nvPr/>
          </p:nvPicPr>
          <p:blipFill>
            <a:blip r:embed="rId4"/>
            <a:stretch/>
          </p:blipFill>
          <p:spPr>
            <a:xfrm>
              <a:off x="6640560" y="4627440"/>
              <a:ext cx="2011320" cy="1917720"/>
            </a:xfrm>
            <a:prstGeom prst="rect">
              <a:avLst/>
            </a:prstGeom>
            <a:ln w="0">
              <a:noFill/>
            </a:ln>
          </p:spPr>
        </p:pic>
        <p:pic>
          <p:nvPicPr>
            <p:cNvPr id="289" name="" descr=""/>
            <p:cNvPicPr/>
            <p:nvPr/>
          </p:nvPicPr>
          <p:blipFill>
            <a:blip r:embed="rId5"/>
            <a:stretch/>
          </p:blipFill>
          <p:spPr>
            <a:xfrm>
              <a:off x="8013600" y="4621320"/>
              <a:ext cx="642960" cy="592200"/>
            </a:xfrm>
            <a:prstGeom prst="rect">
              <a:avLst/>
            </a:prstGeom>
            <a:ln w="0">
              <a:noFill/>
            </a:ln>
          </p:spPr>
        </p:pic>
        <p:pic>
          <p:nvPicPr>
            <p:cNvPr id="290" name="" descr=""/>
            <p:cNvPicPr/>
            <p:nvPr/>
          </p:nvPicPr>
          <p:blipFill>
            <a:blip r:embed="rId6"/>
            <a:stretch/>
          </p:blipFill>
          <p:spPr>
            <a:xfrm>
              <a:off x="7524720" y="5826240"/>
              <a:ext cx="1130400" cy="719280"/>
            </a:xfrm>
            <a:prstGeom prst="rect">
              <a:avLst/>
            </a:prstGeom>
            <a:ln w="0">
              <a:noFill/>
            </a:ln>
          </p:spPr>
        </p:pic>
        <p:grpSp>
          <p:nvGrpSpPr>
            <p:cNvPr id="291" name=""/>
            <p:cNvGrpSpPr/>
            <p:nvPr/>
          </p:nvGrpSpPr>
          <p:grpSpPr>
            <a:xfrm>
              <a:off x="6456240" y="5416560"/>
              <a:ext cx="1740240" cy="300240"/>
              <a:chOff x="6456240" y="5416560"/>
              <a:chExt cx="1740240" cy="300240"/>
            </a:xfrm>
          </p:grpSpPr>
          <p:sp>
            <p:nvSpPr>
              <p:cNvPr id="292" name=""/>
              <p:cNvSpPr/>
              <p:nvPr/>
            </p:nvSpPr>
            <p:spPr>
              <a:xfrm>
                <a:off x="7337520" y="5421240"/>
                <a:ext cx="754560" cy="244800"/>
              </a:xfrm>
              <a:custGeom>
                <a:avLst/>
                <a:gdLst/>
                <a:ahLst/>
                <a:rect l="0" t="0" r="r" b="b"/>
                <a:pathLst>
                  <a:path w="2096" h="680">
                    <a:moveTo>
                      <a:pt x="0" y="0"/>
                    </a:moveTo>
                    <a:lnTo>
                      <a:pt x="26" y="97"/>
                    </a:lnTo>
                    <a:lnTo>
                      <a:pt x="2078" y="680"/>
                    </a:lnTo>
                    <a:lnTo>
                      <a:pt x="2096" y="202"/>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6480000" y="5460840"/>
                <a:ext cx="1464120" cy="255960"/>
              </a:xfrm>
              <a:custGeom>
                <a:avLst/>
                <a:gdLst/>
                <a:ahLst/>
                <a:rect l="0" t="0" r="r" b="b"/>
                <a:pathLst>
                  <a:path w="4067" h="711">
                    <a:moveTo>
                      <a:pt x="4014" y="433"/>
                    </a:moveTo>
                    <a:lnTo>
                      <a:pt x="3626" y="521"/>
                    </a:lnTo>
                    <a:lnTo>
                      <a:pt x="3256" y="606"/>
                    </a:lnTo>
                    <a:lnTo>
                      <a:pt x="2880" y="645"/>
                    </a:lnTo>
                    <a:lnTo>
                      <a:pt x="2505" y="685"/>
                    </a:lnTo>
                    <a:lnTo>
                      <a:pt x="2161" y="703"/>
                    </a:lnTo>
                    <a:lnTo>
                      <a:pt x="1808" y="711"/>
                    </a:lnTo>
                    <a:lnTo>
                      <a:pt x="1478" y="703"/>
                    </a:lnTo>
                    <a:lnTo>
                      <a:pt x="1134" y="681"/>
                    </a:lnTo>
                    <a:lnTo>
                      <a:pt x="815" y="645"/>
                    </a:lnTo>
                    <a:lnTo>
                      <a:pt x="524" y="592"/>
                    </a:lnTo>
                    <a:lnTo>
                      <a:pt x="229" y="516"/>
                    </a:lnTo>
                    <a:lnTo>
                      <a:pt x="0" y="441"/>
                    </a:lnTo>
                    <a:lnTo>
                      <a:pt x="286" y="450"/>
                    </a:lnTo>
                    <a:lnTo>
                      <a:pt x="515" y="459"/>
                    </a:lnTo>
                    <a:lnTo>
                      <a:pt x="798" y="455"/>
                    </a:lnTo>
                    <a:lnTo>
                      <a:pt x="1063" y="433"/>
                    </a:lnTo>
                    <a:lnTo>
                      <a:pt x="1332" y="402"/>
                    </a:lnTo>
                    <a:lnTo>
                      <a:pt x="1601" y="371"/>
                    </a:lnTo>
                    <a:lnTo>
                      <a:pt x="1910" y="300"/>
                    </a:lnTo>
                    <a:lnTo>
                      <a:pt x="2214" y="221"/>
                    </a:lnTo>
                    <a:lnTo>
                      <a:pt x="2532" y="127"/>
                    </a:lnTo>
                    <a:lnTo>
                      <a:pt x="4067" y="0"/>
                    </a:lnTo>
                    <a:lnTo>
                      <a:pt x="4014" y="43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4" name=""/>
              <p:cNvGrpSpPr/>
              <p:nvPr/>
            </p:nvGrpSpPr>
            <p:grpSpPr>
              <a:xfrm>
                <a:off x="6456240" y="5416560"/>
                <a:ext cx="1740240" cy="266760"/>
                <a:chOff x="6456240" y="5416560"/>
                <a:chExt cx="1740240" cy="266760"/>
              </a:xfrm>
            </p:grpSpPr>
            <p:sp>
              <p:nvSpPr>
                <p:cNvPr id="295" name=""/>
                <p:cNvSpPr/>
                <p:nvPr/>
              </p:nvSpPr>
              <p:spPr>
                <a:xfrm>
                  <a:off x="7331040" y="5416560"/>
                  <a:ext cx="865440" cy="214560"/>
                </a:xfrm>
                <a:custGeom>
                  <a:avLst/>
                  <a:gdLst/>
                  <a:ahLst/>
                  <a:rect l="0" t="0" r="r" b="b"/>
                  <a:pathLst>
                    <a:path w="2404" h="596">
                      <a:moveTo>
                        <a:pt x="0" y="0"/>
                      </a:moveTo>
                      <a:lnTo>
                        <a:pt x="2108" y="596"/>
                      </a:lnTo>
                      <a:lnTo>
                        <a:pt x="2404" y="4"/>
                      </a:lnTo>
                      <a:lnTo>
                        <a:pt x="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456240" y="5445000"/>
                  <a:ext cx="1533960" cy="238320"/>
                </a:xfrm>
                <a:custGeom>
                  <a:avLst/>
                  <a:gdLst/>
                  <a:ahLst/>
                  <a:rect l="0" t="0" r="r" b="b"/>
                  <a:pathLst>
                    <a:path w="4261" h="662">
                      <a:moveTo>
                        <a:pt x="4261" y="336"/>
                      </a:moveTo>
                      <a:lnTo>
                        <a:pt x="3842" y="433"/>
                      </a:lnTo>
                      <a:lnTo>
                        <a:pt x="3441" y="512"/>
                      </a:lnTo>
                      <a:lnTo>
                        <a:pt x="3052" y="565"/>
                      </a:lnTo>
                      <a:lnTo>
                        <a:pt x="2655" y="613"/>
                      </a:lnTo>
                      <a:lnTo>
                        <a:pt x="2294" y="636"/>
                      </a:lnTo>
                      <a:lnTo>
                        <a:pt x="1923" y="662"/>
                      </a:lnTo>
                      <a:lnTo>
                        <a:pt x="1575" y="662"/>
                      </a:lnTo>
                      <a:lnTo>
                        <a:pt x="1204" y="649"/>
                      </a:lnTo>
                      <a:lnTo>
                        <a:pt x="873" y="631"/>
                      </a:lnTo>
                      <a:lnTo>
                        <a:pt x="564" y="587"/>
                      </a:lnTo>
                      <a:lnTo>
                        <a:pt x="246" y="534"/>
                      </a:lnTo>
                      <a:lnTo>
                        <a:pt x="0" y="477"/>
                      </a:lnTo>
                      <a:lnTo>
                        <a:pt x="308" y="472"/>
                      </a:lnTo>
                      <a:lnTo>
                        <a:pt x="555" y="472"/>
                      </a:lnTo>
                      <a:lnTo>
                        <a:pt x="851" y="464"/>
                      </a:lnTo>
                      <a:lnTo>
                        <a:pt x="1129" y="433"/>
                      </a:lnTo>
                      <a:lnTo>
                        <a:pt x="1403" y="397"/>
                      </a:lnTo>
                      <a:lnTo>
                        <a:pt x="1698" y="353"/>
                      </a:lnTo>
                      <a:lnTo>
                        <a:pt x="2020" y="286"/>
                      </a:lnTo>
                      <a:lnTo>
                        <a:pt x="2351" y="198"/>
                      </a:lnTo>
                      <a:lnTo>
                        <a:pt x="2682" y="114"/>
                      </a:lnTo>
                      <a:lnTo>
                        <a:pt x="3026" y="0"/>
                      </a:lnTo>
                      <a:lnTo>
                        <a:pt x="4261" y="336"/>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pic>
          <p:nvPicPr>
            <p:cNvPr id="297" name="" descr=""/>
            <p:cNvPicPr/>
            <p:nvPr/>
          </p:nvPicPr>
          <p:blipFill>
            <a:blip r:embed="rId7"/>
            <a:stretch/>
          </p:blipFill>
          <p:spPr>
            <a:xfrm>
              <a:off x="5486400" y="5262480"/>
              <a:ext cx="1746360" cy="12826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Cheques</a:t>
            </a:r>
            <a:endParaRPr b="0" lang="en-US" sz="3600" spc="-1" strike="noStrike">
              <a:solidFill>
                <a:srgbClr val="000000"/>
              </a:solidFill>
              <a:latin typeface="Arial"/>
            </a:endParaRPr>
          </a:p>
        </p:txBody>
      </p:sp>
      <p:sp>
        <p:nvSpPr>
          <p:cNvPr id="65" name=""/>
          <p:cNvSpPr txBox="1"/>
          <p:nvPr/>
        </p:nvSpPr>
        <p:spPr>
          <a:xfrm>
            <a:off x="380880" y="1752480"/>
            <a:ext cx="8381880" cy="50292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Cheques</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oney could change hands without the medium of note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learing and processing tim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quirement for physical delivery of chequ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ird party involvement in money transfer</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nsactions turning truly global- emergence of </a:t>
            </a:r>
            <a:r>
              <a:rPr b="0" i="1"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emand for speedier transaction &amp; cheaper cost of txn</a:t>
            </a:r>
            <a:endParaRPr b="0" lang="en-US" sz="2000" spc="-1" strike="noStrike">
              <a:solidFill>
                <a:srgbClr val="000000"/>
              </a:solidFill>
              <a:latin typeface="Arial"/>
            </a:endParaRPr>
          </a:p>
        </p:txBody>
      </p:sp>
      <p:sp>
        <p:nvSpPr>
          <p:cNvPr id="66" name=""/>
          <p:cNvSpPr/>
          <p:nvPr/>
        </p:nvSpPr>
        <p:spPr>
          <a:xfrm>
            <a:off x="1219320" y="2133720"/>
            <a:ext cx="457560" cy="228960"/>
          </a:xfrm>
          <a:custGeom>
            <a:avLst/>
            <a:gdLst/>
            <a:ahLst/>
            <a:rect l="0" t="0" r="r" b="b"/>
            <a:pathLst>
              <a:path fill="none" w="1271" h="636">
                <a:moveTo>
                  <a:pt x="1271" y="636"/>
                </a:moveTo>
                <a:lnTo>
                  <a:pt x="1271" y="636"/>
                </a:lnTo>
                <a:lnTo>
                  <a:pt x="1271" y="636"/>
                </a:lnTo>
                <a:cubicBezTo>
                  <a:pt x="1271" y="524"/>
                  <a:pt x="1212" y="415"/>
                  <a:pt x="1101" y="318"/>
                </a:cubicBezTo>
                <a:cubicBezTo>
                  <a:pt x="989" y="221"/>
                  <a:pt x="829" y="141"/>
                  <a:pt x="635" y="85"/>
                </a:cubicBezTo>
                <a:cubicBezTo>
                  <a:pt x="442" y="29"/>
                  <a:pt x="223"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0"/>
            <a:ext cx="906768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99" name=""/>
          <p:cNvSpPr txBox="1"/>
          <p:nvPr/>
        </p:nvSpPr>
        <p:spPr>
          <a:xfrm>
            <a:off x="619200" y="1981080"/>
            <a:ext cx="768672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lightweight, support 2.5M transactions per da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micropayments in a financially viable manner</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ow content pricing:</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server</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directory</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page</a:t>
            </a:r>
            <a:endParaRPr b="0" lang="en-US" sz="2800" spc="-1" strike="noStrike">
              <a:solidFill>
                <a:srgbClr val="000000"/>
              </a:solidFill>
              <a:latin typeface="Arial"/>
            </a:endParaRPr>
          </a:p>
        </p:txBody>
      </p:sp>
      <p:sp>
        <p:nvSpPr>
          <p:cNvPr id="300" name=""/>
          <p:cNvSpPr txBox="1"/>
          <p:nvPr/>
        </p:nvSpPr>
        <p:spPr>
          <a:xfrm>
            <a:off x="619200" y="14796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ntent servers must:</a:t>
            </a:r>
            <a:endParaRPr b="0" lang="en-US" sz="3200" spc="-1" strike="noStrike">
              <a:solidFill>
                <a:srgbClr val="000000"/>
              </a:solidFill>
              <a:latin typeface="Arial"/>
            </a:endParaRPr>
          </a:p>
        </p:txBody>
      </p:sp>
      <p:grpSp>
        <p:nvGrpSpPr>
          <p:cNvPr id="301" name=""/>
          <p:cNvGrpSpPr/>
          <p:nvPr/>
        </p:nvGrpSpPr>
        <p:grpSpPr>
          <a:xfrm>
            <a:off x="5257800" y="4343400"/>
            <a:ext cx="3429000" cy="2210040"/>
            <a:chOff x="5257800" y="4343400"/>
            <a:chExt cx="3429000" cy="2210040"/>
          </a:xfrm>
        </p:grpSpPr>
        <p:sp>
          <p:nvSpPr>
            <p:cNvPr id="302" name=""/>
            <p:cNvSpPr/>
            <p:nvPr/>
          </p:nvSpPr>
          <p:spPr>
            <a:xfrm>
              <a:off x="6659640" y="4343400"/>
              <a:ext cx="2027160" cy="197496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03" name=""/>
            <p:cNvGrpSpPr/>
            <p:nvPr/>
          </p:nvGrpSpPr>
          <p:grpSpPr>
            <a:xfrm>
              <a:off x="5257800" y="5140440"/>
              <a:ext cx="1068480" cy="585720"/>
              <a:chOff x="5257800" y="5140440"/>
              <a:chExt cx="1068480" cy="585720"/>
            </a:xfrm>
          </p:grpSpPr>
          <p:sp>
            <p:nvSpPr>
              <p:cNvPr id="304" name=""/>
              <p:cNvSpPr/>
              <p:nvPr/>
            </p:nvSpPr>
            <p:spPr>
              <a:xfrm>
                <a:off x="5634000" y="5140440"/>
                <a:ext cx="2541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5" name=""/>
              <p:cNvSpPr/>
              <p:nvPr/>
            </p:nvSpPr>
            <p:spPr>
              <a:xfrm flipH="1">
                <a:off x="5413320" y="5303880"/>
                <a:ext cx="28404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837400" y="5289480"/>
                <a:ext cx="37908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07" name=""/>
              <p:cNvSpPr/>
              <p:nvPr/>
            </p:nvSpPr>
            <p:spPr>
              <a:xfrm>
                <a:off x="5257800" y="5465880"/>
                <a:ext cx="25092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6073920" y="5275440"/>
                <a:ext cx="2523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5464080" y="5602320"/>
                <a:ext cx="43668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10" name=""/>
              <p:cNvSpPr/>
              <p:nvPr/>
            </p:nvSpPr>
            <p:spPr>
              <a:xfrm flipH="1">
                <a:off x="5929200" y="5438880"/>
                <a:ext cx="25560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759280" y="5506920"/>
                <a:ext cx="25560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12" name=""/>
            <p:cNvGrpSpPr/>
            <p:nvPr/>
          </p:nvGrpSpPr>
          <p:grpSpPr>
            <a:xfrm>
              <a:off x="7435800" y="4824360"/>
              <a:ext cx="1068480" cy="614520"/>
              <a:chOff x="7435800" y="4824360"/>
              <a:chExt cx="1068480" cy="614520"/>
            </a:xfrm>
          </p:grpSpPr>
          <p:sp>
            <p:nvSpPr>
              <p:cNvPr id="313" name=""/>
              <p:cNvSpPr/>
              <p:nvPr/>
            </p:nvSpPr>
            <p:spPr>
              <a:xfrm>
                <a:off x="7875720" y="4824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8062920" y="4989600"/>
                <a:ext cx="30960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15" name=""/>
              <p:cNvSpPr/>
              <p:nvPr/>
            </p:nvSpPr>
            <p:spPr>
              <a:xfrm flipH="1">
                <a:off x="7545240" y="4973760"/>
                <a:ext cx="37656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16" name=""/>
              <p:cNvSpPr/>
              <p:nvPr/>
            </p:nvSpPr>
            <p:spPr>
              <a:xfrm>
                <a:off x="8253360" y="4998960"/>
                <a:ext cx="250920" cy="2206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7435800" y="4959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flipH="1">
                <a:off x="8094600" y="5157720"/>
                <a:ext cx="29232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7575480" y="5124600"/>
                <a:ext cx="49212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7939080" y="5219640"/>
                <a:ext cx="25236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321" name="" descr=""/>
            <p:cNvPicPr/>
            <p:nvPr/>
          </p:nvPicPr>
          <p:blipFill>
            <a:blip r:embed="rId1"/>
            <a:stretch/>
          </p:blipFill>
          <p:spPr>
            <a:xfrm>
              <a:off x="5813280" y="4667400"/>
              <a:ext cx="2425680" cy="1886040"/>
            </a:xfrm>
            <a:prstGeom prst="rect">
              <a:avLst/>
            </a:prstGeom>
            <a:ln w="0">
              <a:noFill/>
            </a:ln>
          </p:spPr>
        </p:pic>
        <p:grpSp>
          <p:nvGrpSpPr>
            <p:cNvPr id="322" name=""/>
            <p:cNvGrpSpPr/>
            <p:nvPr/>
          </p:nvGrpSpPr>
          <p:grpSpPr>
            <a:xfrm>
              <a:off x="5730840" y="5403960"/>
              <a:ext cx="2930760" cy="721080"/>
              <a:chOff x="5730840" y="5403960"/>
              <a:chExt cx="2930760" cy="721080"/>
            </a:xfrm>
          </p:grpSpPr>
          <p:sp>
            <p:nvSpPr>
              <p:cNvPr id="323" name=""/>
              <p:cNvSpPr/>
              <p:nvPr/>
            </p:nvSpPr>
            <p:spPr>
              <a:xfrm>
                <a:off x="7796160" y="5629320"/>
                <a:ext cx="865440" cy="149760"/>
              </a:xfrm>
              <a:custGeom>
                <a:avLst/>
                <a:gdLst/>
                <a:ahLst/>
                <a:rect l="0" t="0" r="r" b="b"/>
                <a:pathLst>
                  <a:path w="2404" h="416">
                    <a:moveTo>
                      <a:pt x="0" y="0"/>
                    </a:moveTo>
                    <a:lnTo>
                      <a:pt x="8" y="92"/>
                    </a:lnTo>
                    <a:lnTo>
                      <a:pt x="2404" y="416"/>
                    </a:lnTo>
                    <a:lnTo>
                      <a:pt x="2404" y="256"/>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5730840" y="5556240"/>
                <a:ext cx="2737080" cy="568800"/>
              </a:xfrm>
              <a:custGeom>
                <a:avLst/>
                <a:gdLst/>
                <a:ahLst/>
                <a:rect l="0" t="0" r="r" b="b"/>
                <a:pathLst>
                  <a:path w="7603" h="1580">
                    <a:moveTo>
                      <a:pt x="154" y="88"/>
                    </a:moveTo>
                    <a:lnTo>
                      <a:pt x="92" y="176"/>
                    </a:lnTo>
                    <a:lnTo>
                      <a:pt x="57" y="246"/>
                    </a:lnTo>
                    <a:lnTo>
                      <a:pt x="17" y="366"/>
                    </a:lnTo>
                    <a:lnTo>
                      <a:pt x="0" y="508"/>
                    </a:lnTo>
                    <a:lnTo>
                      <a:pt x="26" y="613"/>
                    </a:lnTo>
                    <a:lnTo>
                      <a:pt x="74" y="702"/>
                    </a:lnTo>
                    <a:lnTo>
                      <a:pt x="167" y="785"/>
                    </a:lnTo>
                    <a:lnTo>
                      <a:pt x="238" y="852"/>
                    </a:lnTo>
                    <a:lnTo>
                      <a:pt x="299" y="922"/>
                    </a:lnTo>
                    <a:lnTo>
                      <a:pt x="388" y="975"/>
                    </a:lnTo>
                    <a:lnTo>
                      <a:pt x="498" y="1050"/>
                    </a:lnTo>
                    <a:lnTo>
                      <a:pt x="586" y="1107"/>
                    </a:lnTo>
                    <a:lnTo>
                      <a:pt x="718" y="1165"/>
                    </a:lnTo>
                    <a:lnTo>
                      <a:pt x="815" y="1205"/>
                    </a:lnTo>
                    <a:lnTo>
                      <a:pt x="952" y="1263"/>
                    </a:lnTo>
                    <a:lnTo>
                      <a:pt x="1080" y="1324"/>
                    </a:lnTo>
                    <a:lnTo>
                      <a:pt x="1270" y="1377"/>
                    </a:lnTo>
                    <a:lnTo>
                      <a:pt x="1433" y="1408"/>
                    </a:lnTo>
                    <a:lnTo>
                      <a:pt x="1649" y="1448"/>
                    </a:lnTo>
                    <a:lnTo>
                      <a:pt x="1843" y="1501"/>
                    </a:lnTo>
                    <a:lnTo>
                      <a:pt x="2116" y="1532"/>
                    </a:lnTo>
                    <a:lnTo>
                      <a:pt x="2345" y="1558"/>
                    </a:lnTo>
                    <a:lnTo>
                      <a:pt x="2592" y="1567"/>
                    </a:lnTo>
                    <a:lnTo>
                      <a:pt x="2795" y="1576"/>
                    </a:lnTo>
                    <a:lnTo>
                      <a:pt x="3051" y="1576"/>
                    </a:lnTo>
                    <a:lnTo>
                      <a:pt x="3254" y="1580"/>
                    </a:lnTo>
                    <a:lnTo>
                      <a:pt x="3474" y="1576"/>
                    </a:lnTo>
                    <a:lnTo>
                      <a:pt x="3757" y="1563"/>
                    </a:lnTo>
                    <a:lnTo>
                      <a:pt x="4102" y="1536"/>
                    </a:lnTo>
                    <a:lnTo>
                      <a:pt x="4353" y="1505"/>
                    </a:lnTo>
                    <a:lnTo>
                      <a:pt x="4591" y="1488"/>
                    </a:lnTo>
                    <a:lnTo>
                      <a:pt x="4851" y="1457"/>
                    </a:lnTo>
                    <a:lnTo>
                      <a:pt x="5054" y="1417"/>
                    </a:lnTo>
                    <a:lnTo>
                      <a:pt x="5279" y="1369"/>
                    </a:lnTo>
                    <a:lnTo>
                      <a:pt x="5557" y="1320"/>
                    </a:lnTo>
                    <a:lnTo>
                      <a:pt x="5795" y="1258"/>
                    </a:lnTo>
                    <a:lnTo>
                      <a:pt x="6082" y="1197"/>
                    </a:lnTo>
                    <a:lnTo>
                      <a:pt x="6514" y="1032"/>
                    </a:lnTo>
                    <a:lnTo>
                      <a:pt x="6822" y="918"/>
                    </a:lnTo>
                    <a:lnTo>
                      <a:pt x="7175" y="772"/>
                    </a:lnTo>
                    <a:lnTo>
                      <a:pt x="7378" y="662"/>
                    </a:lnTo>
                    <a:lnTo>
                      <a:pt x="7590" y="543"/>
                    </a:lnTo>
                    <a:lnTo>
                      <a:pt x="7603" y="397"/>
                    </a:lnTo>
                    <a:lnTo>
                      <a:pt x="7135" y="0"/>
                    </a:lnTo>
                    <a:lnTo>
                      <a:pt x="6253" y="357"/>
                    </a:lnTo>
                    <a:lnTo>
                      <a:pt x="6002" y="508"/>
                    </a:lnTo>
                    <a:lnTo>
                      <a:pt x="5751" y="618"/>
                    </a:lnTo>
                    <a:lnTo>
                      <a:pt x="5499" y="728"/>
                    </a:lnTo>
                    <a:lnTo>
                      <a:pt x="5045" y="869"/>
                    </a:lnTo>
                    <a:lnTo>
                      <a:pt x="4781" y="949"/>
                    </a:lnTo>
                    <a:lnTo>
                      <a:pt x="4560" y="1002"/>
                    </a:lnTo>
                    <a:lnTo>
                      <a:pt x="4287" y="1046"/>
                    </a:lnTo>
                    <a:lnTo>
                      <a:pt x="4018" y="1090"/>
                    </a:lnTo>
                    <a:lnTo>
                      <a:pt x="3765" y="1125"/>
                    </a:lnTo>
                    <a:lnTo>
                      <a:pt x="3523" y="1143"/>
                    </a:lnTo>
                    <a:lnTo>
                      <a:pt x="3232" y="1169"/>
                    </a:lnTo>
                    <a:lnTo>
                      <a:pt x="2950" y="1182"/>
                    </a:lnTo>
                    <a:lnTo>
                      <a:pt x="2637" y="1178"/>
                    </a:lnTo>
                    <a:lnTo>
                      <a:pt x="2390" y="1169"/>
                    </a:lnTo>
                    <a:lnTo>
                      <a:pt x="2103" y="1151"/>
                    </a:lnTo>
                    <a:lnTo>
                      <a:pt x="1852" y="1138"/>
                    </a:lnTo>
                    <a:lnTo>
                      <a:pt x="1693" y="1107"/>
                    </a:lnTo>
                    <a:lnTo>
                      <a:pt x="1459" y="1081"/>
                    </a:lnTo>
                    <a:lnTo>
                      <a:pt x="1305" y="1032"/>
                    </a:lnTo>
                    <a:lnTo>
                      <a:pt x="1115" y="984"/>
                    </a:lnTo>
                    <a:lnTo>
                      <a:pt x="926" y="931"/>
                    </a:lnTo>
                    <a:lnTo>
                      <a:pt x="789" y="869"/>
                    </a:lnTo>
                    <a:lnTo>
                      <a:pt x="560" y="768"/>
                    </a:lnTo>
                    <a:lnTo>
                      <a:pt x="467" y="684"/>
                    </a:lnTo>
                    <a:lnTo>
                      <a:pt x="335" y="578"/>
                    </a:lnTo>
                    <a:lnTo>
                      <a:pt x="255" y="481"/>
                    </a:lnTo>
                    <a:lnTo>
                      <a:pt x="194" y="411"/>
                    </a:lnTo>
                    <a:lnTo>
                      <a:pt x="154" y="88"/>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5730840" y="5403960"/>
                <a:ext cx="2929320" cy="692640"/>
              </a:xfrm>
              <a:custGeom>
                <a:avLst/>
                <a:gdLst/>
                <a:ahLst/>
                <a:rect l="0" t="0" r="r" b="b"/>
                <a:pathLst>
                  <a:path w="8137" h="1924">
                    <a:moveTo>
                      <a:pt x="560" y="0"/>
                    </a:moveTo>
                    <a:lnTo>
                      <a:pt x="286" y="242"/>
                    </a:lnTo>
                    <a:lnTo>
                      <a:pt x="154" y="423"/>
                    </a:lnTo>
                    <a:lnTo>
                      <a:pt x="92" y="512"/>
                    </a:lnTo>
                    <a:lnTo>
                      <a:pt x="57" y="583"/>
                    </a:lnTo>
                    <a:lnTo>
                      <a:pt x="17" y="702"/>
                    </a:lnTo>
                    <a:lnTo>
                      <a:pt x="0" y="843"/>
                    </a:lnTo>
                    <a:lnTo>
                      <a:pt x="26" y="949"/>
                    </a:lnTo>
                    <a:lnTo>
                      <a:pt x="74" y="1037"/>
                    </a:lnTo>
                    <a:lnTo>
                      <a:pt x="167" y="1125"/>
                    </a:lnTo>
                    <a:lnTo>
                      <a:pt x="238" y="1191"/>
                    </a:lnTo>
                    <a:lnTo>
                      <a:pt x="299" y="1262"/>
                    </a:lnTo>
                    <a:lnTo>
                      <a:pt x="388" y="1319"/>
                    </a:lnTo>
                    <a:lnTo>
                      <a:pt x="498" y="1390"/>
                    </a:lnTo>
                    <a:lnTo>
                      <a:pt x="586" y="1448"/>
                    </a:lnTo>
                    <a:lnTo>
                      <a:pt x="718" y="1505"/>
                    </a:lnTo>
                    <a:lnTo>
                      <a:pt x="815" y="1549"/>
                    </a:lnTo>
                    <a:lnTo>
                      <a:pt x="952" y="1607"/>
                    </a:lnTo>
                    <a:lnTo>
                      <a:pt x="1080" y="1668"/>
                    </a:lnTo>
                    <a:lnTo>
                      <a:pt x="1270" y="1721"/>
                    </a:lnTo>
                    <a:lnTo>
                      <a:pt x="1433" y="1752"/>
                    </a:lnTo>
                    <a:lnTo>
                      <a:pt x="1649" y="1792"/>
                    </a:lnTo>
                    <a:lnTo>
                      <a:pt x="1843" y="1845"/>
                    </a:lnTo>
                    <a:lnTo>
                      <a:pt x="2117" y="1876"/>
                    </a:lnTo>
                    <a:lnTo>
                      <a:pt x="2351" y="1902"/>
                    </a:lnTo>
                    <a:lnTo>
                      <a:pt x="2593" y="1911"/>
                    </a:lnTo>
                    <a:lnTo>
                      <a:pt x="2796" y="1920"/>
                    </a:lnTo>
                    <a:lnTo>
                      <a:pt x="3052" y="1920"/>
                    </a:lnTo>
                    <a:lnTo>
                      <a:pt x="3255" y="1924"/>
                    </a:lnTo>
                    <a:lnTo>
                      <a:pt x="3475" y="1920"/>
                    </a:lnTo>
                    <a:lnTo>
                      <a:pt x="3758" y="1907"/>
                    </a:lnTo>
                    <a:lnTo>
                      <a:pt x="4102" y="1880"/>
                    </a:lnTo>
                    <a:lnTo>
                      <a:pt x="4353" y="1849"/>
                    </a:lnTo>
                    <a:lnTo>
                      <a:pt x="4591" y="1832"/>
                    </a:lnTo>
                    <a:lnTo>
                      <a:pt x="4851" y="1796"/>
                    </a:lnTo>
                    <a:lnTo>
                      <a:pt x="5054" y="1761"/>
                    </a:lnTo>
                    <a:lnTo>
                      <a:pt x="5279" y="1708"/>
                    </a:lnTo>
                    <a:lnTo>
                      <a:pt x="5557" y="1664"/>
                    </a:lnTo>
                    <a:lnTo>
                      <a:pt x="5795" y="1598"/>
                    </a:lnTo>
                    <a:lnTo>
                      <a:pt x="6082" y="1540"/>
                    </a:lnTo>
                    <a:lnTo>
                      <a:pt x="6515" y="1372"/>
                    </a:lnTo>
                    <a:lnTo>
                      <a:pt x="6823" y="1257"/>
                    </a:lnTo>
                    <a:lnTo>
                      <a:pt x="7176" y="1112"/>
                    </a:lnTo>
                    <a:lnTo>
                      <a:pt x="7379" y="1002"/>
                    </a:lnTo>
                    <a:lnTo>
                      <a:pt x="7586" y="838"/>
                    </a:lnTo>
                    <a:lnTo>
                      <a:pt x="8137" y="900"/>
                    </a:lnTo>
                    <a:lnTo>
                      <a:pt x="7648" y="238"/>
                    </a:lnTo>
                    <a:lnTo>
                      <a:pt x="5707" y="631"/>
                    </a:lnTo>
                    <a:lnTo>
                      <a:pt x="6254" y="693"/>
                    </a:lnTo>
                    <a:lnTo>
                      <a:pt x="6002" y="847"/>
                    </a:lnTo>
                    <a:lnTo>
                      <a:pt x="5751" y="957"/>
                    </a:lnTo>
                    <a:lnTo>
                      <a:pt x="5499" y="1068"/>
                    </a:lnTo>
                    <a:lnTo>
                      <a:pt x="5045" y="1209"/>
                    </a:lnTo>
                    <a:lnTo>
                      <a:pt x="4781" y="1288"/>
                    </a:lnTo>
                    <a:lnTo>
                      <a:pt x="4560" y="1341"/>
                    </a:lnTo>
                    <a:lnTo>
                      <a:pt x="4287" y="1385"/>
                    </a:lnTo>
                    <a:lnTo>
                      <a:pt x="4018" y="1434"/>
                    </a:lnTo>
                    <a:lnTo>
                      <a:pt x="3766" y="1466"/>
                    </a:lnTo>
                    <a:lnTo>
                      <a:pt x="3524" y="1483"/>
                    </a:lnTo>
                    <a:lnTo>
                      <a:pt x="3233" y="1514"/>
                    </a:lnTo>
                    <a:lnTo>
                      <a:pt x="2951" y="1527"/>
                    </a:lnTo>
                    <a:lnTo>
                      <a:pt x="2638" y="1523"/>
                    </a:lnTo>
                    <a:lnTo>
                      <a:pt x="2391" y="1510"/>
                    </a:lnTo>
                    <a:lnTo>
                      <a:pt x="2104" y="1492"/>
                    </a:lnTo>
                    <a:lnTo>
                      <a:pt x="1852" y="1479"/>
                    </a:lnTo>
                    <a:lnTo>
                      <a:pt x="1693" y="1448"/>
                    </a:lnTo>
                    <a:lnTo>
                      <a:pt x="1459" y="1420"/>
                    </a:lnTo>
                    <a:lnTo>
                      <a:pt x="1305" y="1372"/>
                    </a:lnTo>
                    <a:lnTo>
                      <a:pt x="1115" y="1323"/>
                    </a:lnTo>
                    <a:lnTo>
                      <a:pt x="926" y="1271"/>
                    </a:lnTo>
                    <a:lnTo>
                      <a:pt x="789" y="1209"/>
                    </a:lnTo>
                    <a:lnTo>
                      <a:pt x="560" y="1107"/>
                    </a:lnTo>
                    <a:lnTo>
                      <a:pt x="467" y="1019"/>
                    </a:lnTo>
                    <a:lnTo>
                      <a:pt x="335" y="918"/>
                    </a:lnTo>
                    <a:lnTo>
                      <a:pt x="255" y="816"/>
                    </a:lnTo>
                    <a:lnTo>
                      <a:pt x="194" y="755"/>
                    </a:lnTo>
                    <a:lnTo>
                      <a:pt x="189" y="671"/>
                    </a:lnTo>
                    <a:lnTo>
                      <a:pt x="202" y="583"/>
                    </a:lnTo>
                    <a:lnTo>
                      <a:pt x="220" y="467"/>
                    </a:lnTo>
                    <a:lnTo>
                      <a:pt x="251" y="388"/>
                    </a:lnTo>
                    <a:lnTo>
                      <a:pt x="295" y="317"/>
                    </a:lnTo>
                    <a:lnTo>
                      <a:pt x="348" y="233"/>
                    </a:lnTo>
                    <a:lnTo>
                      <a:pt x="56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6" name=""/>
            <p:cNvGrpSpPr/>
            <p:nvPr/>
          </p:nvGrpSpPr>
          <p:grpSpPr>
            <a:xfrm>
              <a:off x="5716440" y="5907240"/>
              <a:ext cx="1069920" cy="614520"/>
              <a:chOff x="5716440" y="5907240"/>
              <a:chExt cx="1069920" cy="614520"/>
            </a:xfrm>
          </p:grpSpPr>
          <p:sp>
            <p:nvSpPr>
              <p:cNvPr id="327" name=""/>
              <p:cNvSpPr/>
              <p:nvPr/>
            </p:nvSpPr>
            <p:spPr>
              <a:xfrm>
                <a:off x="6094440" y="590724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flipH="1">
                <a:off x="5848200" y="6072120"/>
                <a:ext cx="30960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29" name=""/>
              <p:cNvSpPr/>
              <p:nvPr/>
            </p:nvSpPr>
            <p:spPr>
              <a:xfrm>
                <a:off x="6299280" y="6056280"/>
                <a:ext cx="37764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30" name=""/>
              <p:cNvSpPr/>
              <p:nvPr/>
            </p:nvSpPr>
            <p:spPr>
              <a:xfrm>
                <a:off x="5716440" y="6081840"/>
                <a:ext cx="254160" cy="2206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6534000" y="6041880"/>
                <a:ext cx="25236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5835600" y="6240600"/>
                <a:ext cx="290520" cy="18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H="1">
                <a:off x="6156360" y="6205680"/>
                <a:ext cx="488880" cy="18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031080" y="630252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5" name=""/>
            <p:cNvGrpSpPr/>
            <p:nvPr/>
          </p:nvGrpSpPr>
          <p:grpSpPr>
            <a:xfrm>
              <a:off x="7404120" y="5759280"/>
              <a:ext cx="1071720" cy="543240"/>
              <a:chOff x="7404120" y="5759280"/>
              <a:chExt cx="1071720" cy="543240"/>
            </a:xfrm>
          </p:grpSpPr>
          <p:sp>
            <p:nvSpPr>
              <p:cNvPr id="336" name=""/>
              <p:cNvSpPr/>
              <p:nvPr/>
            </p:nvSpPr>
            <p:spPr>
              <a:xfrm>
                <a:off x="7845480" y="5759280"/>
                <a:ext cx="2523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8031240" y="5932440"/>
                <a:ext cx="28584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7516800" y="5889600"/>
                <a:ext cx="4032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339" name=""/>
              <p:cNvSpPr/>
              <p:nvPr/>
            </p:nvSpPr>
            <p:spPr>
              <a:xfrm>
                <a:off x="8221680" y="60418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7404120" y="5853240"/>
                <a:ext cx="25560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H="1">
                <a:off x="7827840" y="6178680"/>
                <a:ext cx="44136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2" name=""/>
              <p:cNvSpPr/>
              <p:nvPr/>
            </p:nvSpPr>
            <p:spPr>
              <a:xfrm>
                <a:off x="7545240" y="6014880"/>
                <a:ext cx="258840" cy="18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18400" y="60832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345" name=""/>
          <p:cNvSpPr txBox="1"/>
          <p:nvPr/>
        </p:nvSpPr>
        <p:spPr>
          <a:xfrm>
            <a:off x="685800" y="2703600"/>
            <a:ext cx="7772400" cy="37944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d to electronically buy and                                 sell content over the Internet</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icropayment transaction                                   values are very low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ginning to move from                                               concept to pilot stage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mand driven by                                                 information providers</a:t>
            </a:r>
            <a:endParaRPr b="0" lang="en-US" sz="3200" spc="-1" strike="noStrike">
              <a:solidFill>
                <a:srgbClr val="000000"/>
              </a:solidFill>
              <a:latin typeface="Arial"/>
            </a:endParaRPr>
          </a:p>
        </p:txBody>
      </p:sp>
      <p:sp>
        <p:nvSpPr>
          <p:cNvPr id="34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view</a:t>
            </a:r>
            <a:endParaRPr b="0" lang="en-US" sz="3200" spc="-1" strike="noStrike">
              <a:solidFill>
                <a:srgbClr val="000000"/>
              </a:solidFill>
              <a:latin typeface="Arial"/>
            </a:endParaRPr>
          </a:p>
        </p:txBody>
      </p:sp>
      <p:pic>
        <p:nvPicPr>
          <p:cNvPr id="347" name="" descr=""/>
          <p:cNvPicPr/>
          <p:nvPr/>
        </p:nvPicPr>
        <p:blipFill>
          <a:blip r:embed="rId1"/>
          <a:stretch/>
        </p:blipFill>
        <p:spPr>
          <a:xfrm>
            <a:off x="6589800" y="1986120"/>
            <a:ext cx="1984320" cy="1987560"/>
          </a:xfrm>
          <a:prstGeom prst="rect">
            <a:avLst/>
          </a:prstGeom>
          <a:ln w="0">
            <a:noFill/>
          </a:ln>
        </p:spPr>
      </p:pic>
      <p:pic>
        <p:nvPicPr>
          <p:cNvPr id="348" name="" descr=""/>
          <p:cNvPicPr/>
          <p:nvPr/>
        </p:nvPicPr>
        <p:blipFill>
          <a:blip r:embed="rId2"/>
          <a:stretch/>
        </p:blipFill>
        <p:spPr>
          <a:xfrm>
            <a:off x="5051520" y="4102200"/>
            <a:ext cx="3635280" cy="2448000"/>
          </a:xfrm>
          <a:prstGeom prst="rect">
            <a:avLst/>
          </a:prstGeom>
          <a:ln w="0">
            <a:noFill/>
          </a:ln>
        </p:spPr>
      </p:pic>
      <p:grpSp>
        <p:nvGrpSpPr>
          <p:cNvPr id="349" name=""/>
          <p:cNvGrpSpPr/>
          <p:nvPr/>
        </p:nvGrpSpPr>
        <p:grpSpPr>
          <a:xfrm>
            <a:off x="5029200" y="3746520"/>
            <a:ext cx="2453040" cy="2805120"/>
            <a:chOff x="5029200" y="3746520"/>
            <a:chExt cx="2453040" cy="2805120"/>
          </a:xfrm>
        </p:grpSpPr>
        <p:sp>
          <p:nvSpPr>
            <p:cNvPr id="350" name=""/>
            <p:cNvSpPr/>
            <p:nvPr/>
          </p:nvSpPr>
          <p:spPr>
            <a:xfrm>
              <a:off x="6853320" y="3801960"/>
              <a:ext cx="628920" cy="465480"/>
            </a:xfrm>
            <a:custGeom>
              <a:avLst/>
              <a:gdLst/>
              <a:ahLst/>
              <a:rect l="0" t="0" r="r" b="b"/>
              <a:pathLst>
                <a:path w="1747" h="1293">
                  <a:moveTo>
                    <a:pt x="0" y="0"/>
                  </a:moveTo>
                  <a:lnTo>
                    <a:pt x="0" y="202"/>
                  </a:lnTo>
                  <a:lnTo>
                    <a:pt x="1747" y="1293"/>
                  </a:lnTo>
                  <a:lnTo>
                    <a:pt x="1747" y="103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 name=""/>
            <p:cNvSpPr/>
            <p:nvPr/>
          </p:nvSpPr>
          <p:spPr>
            <a:xfrm>
              <a:off x="5029200" y="3746520"/>
              <a:ext cx="2453040" cy="2800800"/>
            </a:xfrm>
            <a:custGeom>
              <a:avLst/>
              <a:gdLst/>
              <a:ahLst/>
              <a:rect l="0" t="0" r="r" b="b"/>
              <a:pathLst>
                <a:path w="6814" h="7780">
                  <a:moveTo>
                    <a:pt x="0" y="7780"/>
                  </a:moveTo>
                  <a:lnTo>
                    <a:pt x="0" y="4084"/>
                  </a:lnTo>
                  <a:lnTo>
                    <a:pt x="5469" y="458"/>
                  </a:lnTo>
                  <a:lnTo>
                    <a:pt x="5036" y="185"/>
                  </a:lnTo>
                  <a:lnTo>
                    <a:pt x="6721" y="0"/>
                  </a:lnTo>
                  <a:lnTo>
                    <a:pt x="6814" y="1239"/>
                  </a:lnTo>
                  <a:lnTo>
                    <a:pt x="6399" y="948"/>
                  </a:lnTo>
                  <a:lnTo>
                    <a:pt x="811" y="7754"/>
                  </a:lnTo>
                  <a:lnTo>
                    <a:pt x="0" y="7780"/>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5291280" y="4089240"/>
              <a:ext cx="2045160" cy="2462400"/>
            </a:xfrm>
            <a:custGeom>
              <a:avLst/>
              <a:gdLst/>
              <a:ahLst/>
              <a:rect l="0" t="0" r="r" b="b"/>
              <a:pathLst>
                <a:path w="5681" h="6840">
                  <a:moveTo>
                    <a:pt x="0" y="6840"/>
                  </a:moveTo>
                  <a:lnTo>
                    <a:pt x="321" y="6840"/>
                  </a:lnTo>
                  <a:lnTo>
                    <a:pt x="5646" y="246"/>
                  </a:lnTo>
                  <a:lnTo>
                    <a:pt x="5681" y="0"/>
                  </a:lnTo>
                  <a:lnTo>
                    <a:pt x="0" y="6840"/>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Micropayment Schemes</a:t>
            </a:r>
            <a:endParaRPr b="0" lang="en-US" sz="4400" spc="-1" strike="noStrike">
              <a:solidFill>
                <a:srgbClr val="000000"/>
              </a:solidFill>
              <a:latin typeface="Arial"/>
            </a:endParaRPr>
          </a:p>
        </p:txBody>
      </p:sp>
      <p:grpSp>
        <p:nvGrpSpPr>
          <p:cNvPr id="354" name=""/>
          <p:cNvGrpSpPr/>
          <p:nvPr/>
        </p:nvGrpSpPr>
        <p:grpSpPr>
          <a:xfrm>
            <a:off x="609480" y="2057400"/>
            <a:ext cx="7813800" cy="4319640"/>
            <a:chOff x="609480" y="2057400"/>
            <a:chExt cx="7813800" cy="4319640"/>
          </a:xfrm>
        </p:grpSpPr>
        <p:sp>
          <p:nvSpPr>
            <p:cNvPr id="355" name=""/>
            <p:cNvSpPr/>
            <p:nvPr/>
          </p:nvSpPr>
          <p:spPr>
            <a:xfrm>
              <a:off x="622440" y="2719440"/>
              <a:ext cx="228600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txBox="1"/>
            <p:nvPr/>
          </p:nvSpPr>
          <p:spPr>
            <a:xfrm>
              <a:off x="711360" y="2719440"/>
              <a:ext cx="232416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Carnegie Mellon </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 Cor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Equipm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First Virtua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IBM</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W3C</a:t>
              </a:r>
              <a:endParaRPr b="0" lang="en-US" sz="2000" spc="-1" strike="noStrike">
                <a:solidFill>
                  <a:srgbClr val="000000"/>
                </a:solidFill>
                <a:latin typeface="Arial"/>
              </a:endParaRPr>
            </a:p>
          </p:txBody>
        </p:sp>
        <p:sp>
          <p:nvSpPr>
            <p:cNvPr id="357" name=""/>
            <p:cNvSpPr/>
            <p:nvPr/>
          </p:nvSpPr>
          <p:spPr>
            <a:xfrm>
              <a:off x="3060720" y="2719440"/>
              <a:ext cx="243828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5626080" y="2719440"/>
              <a:ext cx="279252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9" name=""/>
            <p:cNvSpPr txBox="1"/>
            <p:nvPr/>
          </p:nvSpPr>
          <p:spPr>
            <a:xfrm>
              <a:off x="609480" y="2066760"/>
              <a:ext cx="229860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dvocate</a:t>
              </a:r>
              <a:endParaRPr b="0" lang="en-US" sz="1800" spc="-1" strike="noStrike">
                <a:solidFill>
                  <a:srgbClr val="ffffff"/>
                </a:solidFill>
                <a:latin typeface="Arial"/>
              </a:endParaRPr>
            </a:p>
          </p:txBody>
        </p:sp>
        <p:sp>
          <p:nvSpPr>
            <p:cNvPr id="360" name=""/>
            <p:cNvSpPr txBox="1"/>
            <p:nvPr/>
          </p:nvSpPr>
          <p:spPr>
            <a:xfrm>
              <a:off x="3060720" y="2066760"/>
              <a:ext cx="244476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ame</a:t>
              </a:r>
              <a:endParaRPr b="0" lang="en-US" sz="1800" spc="-1" strike="noStrike">
                <a:solidFill>
                  <a:srgbClr val="ffffff"/>
                </a:solidFill>
                <a:latin typeface="Arial"/>
              </a:endParaRPr>
            </a:p>
          </p:txBody>
        </p:sp>
        <p:sp>
          <p:nvSpPr>
            <p:cNvPr id="361" name=""/>
            <p:cNvSpPr txBox="1"/>
            <p:nvPr/>
          </p:nvSpPr>
          <p:spPr>
            <a:xfrm>
              <a:off x="5626080" y="2057400"/>
              <a:ext cx="279252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Basis</a:t>
              </a:r>
              <a:endParaRPr b="0" lang="en-US" sz="1800" spc="-1" strike="noStrike">
                <a:solidFill>
                  <a:srgbClr val="ffffff"/>
                </a:solidFill>
                <a:latin typeface="Arial"/>
              </a:endParaRPr>
            </a:p>
          </p:txBody>
        </p:sp>
        <p:sp>
          <p:nvSpPr>
            <p:cNvPr id="362" name=""/>
            <p:cNvSpPr txBox="1"/>
            <p:nvPr/>
          </p:nvSpPr>
          <p:spPr>
            <a:xfrm>
              <a:off x="3162240" y="2719440"/>
              <a:ext cx="2311560" cy="30060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Netbil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llic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irtual P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cropayment iK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PTP</a:t>
              </a:r>
              <a:endParaRPr b="0" lang="en-US" sz="2000" spc="-1" strike="noStrike">
                <a:solidFill>
                  <a:srgbClr val="000000"/>
                </a:solidFill>
                <a:latin typeface="Arial"/>
              </a:endParaRPr>
            </a:p>
          </p:txBody>
        </p:sp>
        <p:sp>
          <p:nvSpPr>
            <p:cNvPr id="363" name=""/>
            <p:cNvSpPr txBox="1"/>
            <p:nvPr/>
          </p:nvSpPr>
          <p:spPr>
            <a:xfrm>
              <a:off x="5715000" y="2719440"/>
              <a:ext cx="270504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lectronic 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scri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p:txBody>
        </p:sp>
        <p:grpSp>
          <p:nvGrpSpPr>
            <p:cNvPr id="364" name=""/>
            <p:cNvGrpSpPr/>
            <p:nvPr/>
          </p:nvGrpSpPr>
          <p:grpSpPr>
            <a:xfrm>
              <a:off x="609480" y="3100320"/>
              <a:ext cx="7804440" cy="393840"/>
              <a:chOff x="609480" y="3100320"/>
              <a:chExt cx="7804440" cy="393840"/>
            </a:xfrm>
          </p:grpSpPr>
          <p:sp>
            <p:nvSpPr>
              <p:cNvPr id="365" name=""/>
              <p:cNvSpPr/>
              <p:nvPr/>
            </p:nvSpPr>
            <p:spPr>
              <a:xfrm>
                <a:off x="609480" y="310032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09480" y="349416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7" name=""/>
            <p:cNvGrpSpPr/>
            <p:nvPr/>
          </p:nvGrpSpPr>
          <p:grpSpPr>
            <a:xfrm>
              <a:off x="609480" y="3925800"/>
              <a:ext cx="7810560" cy="393840"/>
              <a:chOff x="609480" y="3925800"/>
              <a:chExt cx="7810560" cy="393840"/>
            </a:xfrm>
          </p:grpSpPr>
          <p:sp>
            <p:nvSpPr>
              <p:cNvPr id="368" name=""/>
              <p:cNvSpPr/>
              <p:nvPr/>
            </p:nvSpPr>
            <p:spPr>
              <a:xfrm>
                <a:off x="609480" y="392580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09480" y="431964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0" name=""/>
            <p:cNvGrpSpPr/>
            <p:nvPr/>
          </p:nvGrpSpPr>
          <p:grpSpPr>
            <a:xfrm>
              <a:off x="609480" y="4776840"/>
              <a:ext cx="7813800" cy="393480"/>
              <a:chOff x="609480" y="4776840"/>
              <a:chExt cx="7813800" cy="393480"/>
            </a:xfrm>
          </p:grpSpPr>
          <p:sp>
            <p:nvSpPr>
              <p:cNvPr id="371" name=""/>
              <p:cNvSpPr/>
              <p:nvPr/>
            </p:nvSpPr>
            <p:spPr>
              <a:xfrm>
                <a:off x="609480" y="477684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609480" y="517032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3" name=""/>
            <p:cNvGrpSpPr/>
            <p:nvPr/>
          </p:nvGrpSpPr>
          <p:grpSpPr>
            <a:xfrm>
              <a:off x="609480" y="5564160"/>
              <a:ext cx="7813800" cy="393840"/>
              <a:chOff x="609480" y="5564160"/>
              <a:chExt cx="7813800" cy="393840"/>
            </a:xfrm>
          </p:grpSpPr>
          <p:sp>
            <p:nvSpPr>
              <p:cNvPr id="374" name=""/>
              <p:cNvSpPr/>
              <p:nvPr/>
            </p:nvSpPr>
            <p:spPr>
              <a:xfrm>
                <a:off x="609480" y="556416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609480" y="595800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6" name=""/>
          <p:cNvSpPr/>
          <p:nvPr/>
        </p:nvSpPr>
        <p:spPr>
          <a:xfrm>
            <a:off x="8551800" y="4394160"/>
            <a:ext cx="270360" cy="336960"/>
          </a:xfrm>
          <a:custGeom>
            <a:avLst/>
            <a:gdLst/>
            <a:ahLst/>
            <a:rect l="0" t="0" r="r" b="b"/>
            <a:pathLst>
              <a:path w="751" h="936">
                <a:moveTo>
                  <a:pt x="83" y="437"/>
                </a:moveTo>
                <a:lnTo>
                  <a:pt x="0" y="688"/>
                </a:lnTo>
                <a:lnTo>
                  <a:pt x="292" y="936"/>
                </a:lnTo>
                <a:lnTo>
                  <a:pt x="751" y="110"/>
                </a:lnTo>
                <a:lnTo>
                  <a:pt x="751" y="0"/>
                </a:lnTo>
                <a:lnTo>
                  <a:pt x="239" y="697"/>
                </a:lnTo>
                <a:lnTo>
                  <a:pt x="83" y="43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lickShare Corporation</a:t>
            </a:r>
            <a:endParaRPr b="0" lang="en-US" sz="4400" spc="-1" strike="noStrike">
              <a:solidFill>
                <a:srgbClr val="000000"/>
              </a:solidFill>
              <a:latin typeface="Arial"/>
            </a:endParaRPr>
          </a:p>
        </p:txBody>
      </p:sp>
      <p:sp>
        <p:nvSpPr>
          <p:cNvPr id="378" name=""/>
          <p:cNvSpPr txBox="1"/>
          <p:nvPr/>
        </p:nvSpPr>
        <p:spPr>
          <a:xfrm>
            <a:off x="76320" y="1600200"/>
            <a:ext cx="77724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lickShare:</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16/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3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10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s down to 5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aggregate at ClickShare</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lies on standard Web authentication</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client-side software required</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readership demographics</a:t>
            </a:r>
            <a:endParaRPr b="0" lang="en-US" sz="3200" spc="-1" strike="noStrike">
              <a:solidFill>
                <a:srgbClr val="000000"/>
              </a:solidFill>
              <a:latin typeface="Arial"/>
            </a:endParaRPr>
          </a:p>
        </p:txBody>
      </p:sp>
      <p:sp>
        <p:nvSpPr>
          <p:cNvPr id="379" name=""/>
          <p:cNvSpPr/>
          <p:nvPr/>
        </p:nvSpPr>
        <p:spPr>
          <a:xfrm>
            <a:off x="5554800" y="1981080"/>
            <a:ext cx="3508200" cy="11286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5575320" y="2338560"/>
            <a:ext cx="3463920" cy="938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1" name="" descr=""/>
          <p:cNvPicPr/>
          <p:nvPr/>
        </p:nvPicPr>
        <p:blipFill>
          <a:blip r:embed="rId1"/>
          <a:stretch/>
        </p:blipFill>
        <p:spPr>
          <a:xfrm>
            <a:off x="5562720" y="2362320"/>
            <a:ext cx="3346560" cy="90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5029200" y="2284560"/>
            <a:ext cx="3578400" cy="12222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yberCash</a:t>
            </a:r>
            <a:endParaRPr b="0" lang="en-US" sz="4400" spc="-1" strike="noStrike">
              <a:solidFill>
                <a:srgbClr val="000000"/>
              </a:solidFill>
              <a:latin typeface="Arial"/>
            </a:endParaRPr>
          </a:p>
        </p:txBody>
      </p:sp>
      <p:sp>
        <p:nvSpPr>
          <p:cNvPr id="384" name=""/>
          <p:cNvSpPr txBox="1"/>
          <p:nvPr/>
        </p:nvSpPr>
        <p:spPr>
          <a:xfrm>
            <a:off x="380880" y="1219320"/>
            <a:ext cx="82296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Coin:</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30/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12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25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 down to 8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 only for now</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entralized detection of double spending</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clear through CyberCash</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credit cards and checks</a:t>
            </a:r>
            <a:endParaRPr b="0" lang="en-US" sz="3200" spc="-1" strike="noStrike">
              <a:solidFill>
                <a:srgbClr val="000000"/>
              </a:solidFill>
              <a:latin typeface="Arial"/>
            </a:endParaRPr>
          </a:p>
        </p:txBody>
      </p:sp>
      <p:sp>
        <p:nvSpPr>
          <p:cNvPr id="385" name=""/>
          <p:cNvSpPr/>
          <p:nvPr/>
        </p:nvSpPr>
        <p:spPr>
          <a:xfrm>
            <a:off x="5118120" y="2338560"/>
            <a:ext cx="3492360" cy="1054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5224320" y="2389320"/>
            <a:ext cx="826920" cy="976320"/>
          </a:xfrm>
          <a:prstGeom prst="rect">
            <a:avLst/>
          </a:prstGeom>
          <a:ln w="0">
            <a:noFill/>
          </a:ln>
        </p:spPr>
      </p:pic>
      <p:sp>
        <p:nvSpPr>
          <p:cNvPr id="387" name=""/>
          <p:cNvSpPr txBox="1"/>
          <p:nvPr/>
        </p:nvSpPr>
        <p:spPr>
          <a:xfrm>
            <a:off x="6232680" y="2651040"/>
            <a:ext cx="206208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000000"/>
                </a:solidFill>
                <a:latin typeface="Arial"/>
                <a:ea typeface="Arial"/>
              </a:rPr>
              <a:t>CyberC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igital’s Microcommerce System</a:t>
            </a:r>
            <a:endParaRPr b="0" lang="en-US" sz="2400" spc="-1" strike="noStrike">
              <a:solidFill>
                <a:srgbClr val="000000"/>
              </a:solidFill>
              <a:latin typeface="Arial"/>
            </a:endParaRPr>
          </a:p>
        </p:txBody>
      </p:sp>
      <p:sp>
        <p:nvSpPr>
          <p:cNvPr id="39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at is Millicent</a:t>
            </a:r>
            <a:endParaRPr b="0" lang="en-US" sz="4400" spc="-1" strike="noStrike">
              <a:solidFill>
                <a:srgbClr val="000000"/>
              </a:solidFill>
              <a:latin typeface="Arial"/>
            </a:endParaRPr>
          </a:p>
        </p:txBody>
      </p:sp>
      <p:sp>
        <p:nvSpPr>
          <p:cNvPr id="392" name=""/>
          <p:cNvSpPr txBox="1"/>
          <p:nvPr/>
        </p:nvSpPr>
        <p:spPr>
          <a:xfrm>
            <a:off x="457200" y="2743200"/>
            <a:ext cx="7467480" cy="3657600"/>
          </a:xfrm>
          <a:prstGeom prst="rect">
            <a:avLst/>
          </a:prstGeom>
          <a:noFill/>
          <a:ln w="0">
            <a:noFill/>
          </a:ln>
        </p:spPr>
        <p:txBody>
          <a:bodyPr lIns="0" rIns="0" tIns="0" bIns="0" anchor="t">
            <a:noAutofit/>
          </a:bodyPr>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novative research projec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re-paid coupon model</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Designed for the Interne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Optimized for the World Wide Web</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Monetary transaction range: </a:t>
            </a:r>
            <a:endParaRPr b="0" lang="en-US" sz="32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1/10th of a penny to $5.00</a:t>
            </a:r>
            <a:endParaRPr b="0" lang="en-US" sz="28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Multiple currencies</a:t>
            </a:r>
            <a:endParaRPr b="0" lang="en-US" sz="28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Software only approach</a:t>
            </a:r>
            <a:endParaRPr b="0" lang="en-US" sz="3200" spc="-1" strike="noStrike">
              <a:solidFill>
                <a:srgbClr val="000000"/>
              </a:solidFill>
              <a:latin typeface="Arial"/>
            </a:endParaRPr>
          </a:p>
        </p:txBody>
      </p:sp>
      <p:grpSp>
        <p:nvGrpSpPr>
          <p:cNvPr id="393" name=""/>
          <p:cNvGrpSpPr/>
          <p:nvPr/>
        </p:nvGrpSpPr>
        <p:grpSpPr>
          <a:xfrm>
            <a:off x="5562720" y="4363920"/>
            <a:ext cx="3124080" cy="2125800"/>
            <a:chOff x="5562720" y="4363920"/>
            <a:chExt cx="3124080" cy="2125800"/>
          </a:xfrm>
        </p:grpSpPr>
        <p:sp>
          <p:nvSpPr>
            <p:cNvPr id="394"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5" name=""/>
            <p:cNvGrpSpPr/>
            <p:nvPr/>
          </p:nvGrpSpPr>
          <p:grpSpPr>
            <a:xfrm>
              <a:off x="5562720" y="5124600"/>
              <a:ext cx="972720" cy="561600"/>
              <a:chOff x="5562720" y="5124600"/>
              <a:chExt cx="972720" cy="561600"/>
            </a:xfrm>
          </p:grpSpPr>
          <p:sp>
            <p:nvSpPr>
              <p:cNvPr id="396"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399"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02"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4" name=""/>
            <p:cNvGrpSpPr/>
            <p:nvPr/>
          </p:nvGrpSpPr>
          <p:grpSpPr>
            <a:xfrm>
              <a:off x="7548480" y="4826160"/>
              <a:ext cx="971640" cy="584280"/>
              <a:chOff x="7548480" y="4826160"/>
              <a:chExt cx="971640" cy="584280"/>
            </a:xfrm>
          </p:grpSpPr>
          <p:sp>
            <p:nvSpPr>
              <p:cNvPr id="405"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407"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08"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6067440" y="4676760"/>
              <a:ext cx="2224080" cy="1812960"/>
            </a:xfrm>
            <a:prstGeom prst="rect">
              <a:avLst/>
            </a:prstGeom>
            <a:ln w="0">
              <a:noFill/>
            </a:ln>
          </p:spPr>
        </p:pic>
        <p:grpSp>
          <p:nvGrpSpPr>
            <p:cNvPr id="414" name=""/>
            <p:cNvGrpSpPr/>
            <p:nvPr/>
          </p:nvGrpSpPr>
          <p:grpSpPr>
            <a:xfrm>
              <a:off x="5996160" y="5378400"/>
              <a:ext cx="2669040" cy="689400"/>
              <a:chOff x="5996160" y="5378400"/>
              <a:chExt cx="2669040" cy="689400"/>
            </a:xfrm>
          </p:grpSpPr>
          <p:sp>
            <p:nvSpPr>
              <p:cNvPr id="415"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8" name=""/>
            <p:cNvGrpSpPr/>
            <p:nvPr/>
          </p:nvGrpSpPr>
          <p:grpSpPr>
            <a:xfrm>
              <a:off x="5981760" y="5861160"/>
              <a:ext cx="973080" cy="584280"/>
              <a:chOff x="5981760" y="5861160"/>
              <a:chExt cx="973080" cy="584280"/>
            </a:xfrm>
          </p:grpSpPr>
          <p:sp>
            <p:nvSpPr>
              <p:cNvPr id="419"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1"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2"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7" name=""/>
            <p:cNvGrpSpPr/>
            <p:nvPr/>
          </p:nvGrpSpPr>
          <p:grpSpPr>
            <a:xfrm>
              <a:off x="7516800" y="5716440"/>
              <a:ext cx="977760" cy="520920"/>
              <a:chOff x="7516800" y="5716440"/>
              <a:chExt cx="977760" cy="520920"/>
            </a:xfrm>
          </p:grpSpPr>
          <p:sp>
            <p:nvSpPr>
              <p:cNvPr id="428"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1"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34"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Digital’s Microcommerce System</a:t>
            </a:r>
            <a:endParaRPr b="0" lang="en-US" sz="3200" spc="-1" strike="noStrike">
              <a:solidFill>
                <a:srgbClr val="000000"/>
              </a:solidFill>
              <a:latin typeface="Arial"/>
            </a:endParaRPr>
          </a:p>
        </p:txBody>
      </p:sp>
      <p:sp>
        <p:nvSpPr>
          <p:cNvPr id="4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a:t>
            </a:r>
            <a:endParaRPr b="0" lang="en-US" sz="4400" spc="-1" strike="noStrike">
              <a:solidFill>
                <a:srgbClr val="000000"/>
              </a:solidFill>
              <a:latin typeface="Arial"/>
            </a:endParaRPr>
          </a:p>
        </p:txBody>
      </p:sp>
      <p:sp>
        <p:nvSpPr>
          <p:cNvPr id="438" name=""/>
          <p:cNvSpPr txBox="1"/>
          <p:nvPr/>
        </p:nvSpPr>
        <p:spPr>
          <a:xfrm>
            <a:off x="619200" y="2743200"/>
            <a:ext cx="7991640" cy="36576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standard Web component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s both large and small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ntent providers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scale well with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high transaction volumes</a:t>
            </a:r>
            <a:endParaRPr b="0" lang="en-US" sz="3200" spc="-1" strike="noStrike">
              <a:solidFill>
                <a:srgbClr val="000000"/>
              </a:solidFill>
              <a:latin typeface="Arial"/>
            </a:endParaRPr>
          </a:p>
        </p:txBody>
      </p:sp>
      <p:grpSp>
        <p:nvGrpSpPr>
          <p:cNvPr id="439" name=""/>
          <p:cNvGrpSpPr/>
          <p:nvPr/>
        </p:nvGrpSpPr>
        <p:grpSpPr>
          <a:xfrm>
            <a:off x="5468760" y="2701800"/>
            <a:ext cx="3243600" cy="3699000"/>
            <a:chOff x="5468760" y="2701800"/>
            <a:chExt cx="3243600" cy="3699000"/>
          </a:xfrm>
        </p:grpSpPr>
        <p:sp>
          <p:nvSpPr>
            <p:cNvPr id="440"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3" name=""/>
            <p:cNvGrpSpPr/>
            <p:nvPr/>
          </p:nvGrpSpPr>
          <p:grpSpPr>
            <a:xfrm>
              <a:off x="7593120" y="2701800"/>
              <a:ext cx="1000080" cy="1001880"/>
              <a:chOff x="7593120" y="2701800"/>
              <a:chExt cx="1000080" cy="1001880"/>
            </a:xfrm>
          </p:grpSpPr>
          <p:pic>
            <p:nvPicPr>
              <p:cNvPr id="444" name="" descr=""/>
              <p:cNvPicPr/>
              <p:nvPr/>
            </p:nvPicPr>
            <p:blipFill>
              <a:blip r:embed="rId1"/>
              <a:stretch/>
            </p:blipFill>
            <p:spPr>
              <a:xfrm>
                <a:off x="7593120" y="2701800"/>
                <a:ext cx="1000080" cy="1001880"/>
              </a:xfrm>
              <a:prstGeom prst="rect">
                <a:avLst/>
              </a:prstGeom>
              <a:ln w="0">
                <a:noFill/>
              </a:ln>
            </p:spPr>
          </p:pic>
          <p:sp>
            <p:nvSpPr>
              <p:cNvPr id="445"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446" name="" descr=""/>
            <p:cNvPicPr/>
            <p:nvPr/>
          </p:nvPicPr>
          <p:blipFill>
            <a:blip r:embed="rId2"/>
            <a:stretch/>
          </p:blipFill>
          <p:spPr>
            <a:xfrm>
              <a:off x="7491240" y="3338640"/>
              <a:ext cx="1000080" cy="1001880"/>
            </a:xfrm>
            <a:prstGeom prst="rect">
              <a:avLst/>
            </a:prstGeom>
            <a:ln w="0">
              <a:noFill/>
            </a:ln>
          </p:spPr>
        </p:pic>
        <p:pic>
          <p:nvPicPr>
            <p:cNvPr id="447" name="" descr=""/>
            <p:cNvPicPr/>
            <p:nvPr/>
          </p:nvPicPr>
          <p:blipFill>
            <a:blip r:embed="rId3"/>
            <a:stretch/>
          </p:blipFill>
          <p:spPr>
            <a:xfrm>
              <a:off x="6978600" y="3854520"/>
              <a:ext cx="1208160" cy="1208160"/>
            </a:xfrm>
            <a:prstGeom prst="rect">
              <a:avLst/>
            </a:prstGeom>
            <a:ln w="0">
              <a:noFill/>
            </a:ln>
          </p:spPr>
        </p:pic>
        <p:sp>
          <p:nvSpPr>
            <p:cNvPr id="448"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49" name="" descr=""/>
            <p:cNvPicPr/>
            <p:nvPr/>
          </p:nvPicPr>
          <p:blipFill>
            <a:blip r:embed="rId4"/>
            <a:stretch/>
          </p:blipFill>
          <p:spPr>
            <a:xfrm>
              <a:off x="5468760" y="4216320"/>
              <a:ext cx="1984320" cy="198756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wo key cocepts - brokers , scrip</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roces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millicent reduces overhead cost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munication need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puting pow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ryptographic cos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account handling</a:t>
            </a:r>
            <a:endParaRPr b="0" lang="en-US" sz="2800" spc="-1" strike="noStrike">
              <a:solidFill>
                <a:srgbClr val="000000"/>
              </a:solidFill>
              <a:latin typeface="Arial"/>
            </a:endParaRPr>
          </a:p>
        </p:txBody>
      </p:sp>
      <p:pic>
        <p:nvPicPr>
          <p:cNvPr id="451" name="" descr=""/>
          <p:cNvPicPr/>
          <p:nvPr/>
        </p:nvPicPr>
        <p:blipFill>
          <a:blip r:embed="rId1"/>
          <a:stretch/>
        </p:blipFill>
        <p:spPr>
          <a:xfrm>
            <a:off x="76320" y="85680"/>
            <a:ext cx="8991720" cy="1209600"/>
          </a:xfrm>
          <a:prstGeom prst="rect">
            <a:avLst/>
          </a:prstGeom>
          <a:ln w="0">
            <a:noFill/>
          </a:ln>
        </p:spPr>
      </p:pic>
      <p:pic>
        <p:nvPicPr>
          <p:cNvPr id="452" name="" descr=""/>
          <p:cNvPicPr/>
          <p:nvPr/>
        </p:nvPicPr>
        <p:blipFill>
          <a:blip r:embed="rId2"/>
          <a:stretch/>
        </p:blipFill>
        <p:spPr>
          <a:xfrm>
            <a:off x="6019920" y="3637080"/>
            <a:ext cx="3105000" cy="3135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6019920" y="3809880"/>
            <a:ext cx="1448280" cy="686160"/>
          </a:xfrm>
          <a:custGeom>
            <a:avLst/>
            <a:gdLst/>
            <a:ahLst/>
            <a:rect l="0" t="0" r="r" b="b"/>
            <a:pathLst>
              <a:path w="4023" h="1906">
                <a:moveTo>
                  <a:pt x="0" y="1906"/>
                </a:moveTo>
                <a:lnTo>
                  <a:pt x="189" y="0"/>
                </a:lnTo>
                <a:lnTo>
                  <a:pt x="3701" y="207"/>
                </a:lnTo>
                <a:lnTo>
                  <a:pt x="4023" y="1522"/>
                </a:lnTo>
                <a:lnTo>
                  <a:pt x="0" y="1906"/>
                </a:lnTo>
                <a:close/>
              </a:path>
            </a:pathLst>
          </a:cu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434340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 name=""/>
          <p:cNvSpPr txBox="1"/>
          <p:nvPr/>
        </p:nvSpPr>
        <p:spPr>
          <a:xfrm>
            <a:off x="76212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56" name=""/>
          <p:cNvSpPr txBox="1"/>
          <p:nvPr/>
        </p:nvSpPr>
        <p:spPr>
          <a:xfrm>
            <a:off x="762120" y="1712880"/>
            <a:ext cx="4187880" cy="408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Millicent coup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can not b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nt tw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g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ol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validate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y each vendor, on the fl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w computational overhea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network conne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database look up</a:t>
            </a:r>
            <a:endParaRPr b="0" lang="en-US" sz="2400" spc="-1" strike="noStrike">
              <a:solidFill>
                <a:srgbClr val="000000"/>
              </a:solidFill>
              <a:latin typeface="Arial"/>
            </a:endParaRPr>
          </a:p>
        </p:txBody>
      </p:sp>
      <p:sp>
        <p:nvSpPr>
          <p:cNvPr id="457" name=""/>
          <p:cNvSpPr txBox="1"/>
          <p:nvPr/>
        </p:nvSpPr>
        <p:spPr>
          <a:xfrm>
            <a:off x="619200" y="12524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Scrip </a:t>
            </a:r>
            <a:endParaRPr b="0" lang="en-US" sz="2400" spc="-1" strike="noStrike">
              <a:solidFill>
                <a:srgbClr val="000000"/>
              </a:solidFill>
              <a:latin typeface="Arial"/>
            </a:endParaRPr>
          </a:p>
        </p:txBody>
      </p:sp>
      <p:sp>
        <p:nvSpPr>
          <p:cNvPr id="458" name=""/>
          <p:cNvSpPr/>
          <p:nvPr/>
        </p:nvSpPr>
        <p:spPr>
          <a:xfrm>
            <a:off x="716292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 name=""/>
          <p:cNvSpPr txBox="1"/>
          <p:nvPr/>
        </p:nvSpPr>
        <p:spPr>
          <a:xfrm>
            <a:off x="746748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0" name=""/>
          <p:cNvSpPr/>
          <p:nvPr/>
        </p:nvSpPr>
        <p:spPr>
          <a:xfrm>
            <a:off x="4165560" y="5630760"/>
            <a:ext cx="20304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txBox="1"/>
          <p:nvPr/>
        </p:nvSpPr>
        <p:spPr>
          <a:xfrm>
            <a:off x="6068880" y="3854520"/>
            <a:ext cx="1284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crip</a:t>
            </a:r>
            <a:endParaRPr b="0" lang="en-US" sz="3200" spc="-1" strike="noStrike">
              <a:solidFill>
                <a:srgbClr val="000000"/>
              </a:solidFill>
              <a:latin typeface="Arial"/>
            </a:endParaRPr>
          </a:p>
        </p:txBody>
      </p:sp>
      <p:sp>
        <p:nvSpPr>
          <p:cNvPr id="464" name=""/>
          <p:cNvSpPr/>
          <p:nvPr/>
        </p:nvSpPr>
        <p:spPr>
          <a:xfrm flipH="1">
            <a:off x="708660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a:off x="5943600" y="3048120"/>
            <a:ext cx="1371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txBox="1"/>
          <p:nvPr/>
        </p:nvSpPr>
        <p:spPr>
          <a:xfrm>
            <a:off x="6095880" y="52578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7" name=""/>
          <p:cNvSpPr txBox="1"/>
          <p:nvPr/>
        </p:nvSpPr>
        <p:spPr>
          <a:xfrm>
            <a:off x="457200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468" name=""/>
          <p:cNvSpPr/>
          <p:nvPr/>
        </p:nvSpPr>
        <p:spPr>
          <a:xfrm>
            <a:off x="5791320" y="60199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flipH="1" flipV="1">
            <a:off x="518148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76212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72" name=""/>
          <p:cNvSpPr txBox="1"/>
          <p:nvPr/>
        </p:nvSpPr>
        <p:spPr>
          <a:xfrm>
            <a:off x="685800" y="1560600"/>
            <a:ext cx="4495680" cy="4754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is logically part of the Web brows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holds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controls wallet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lic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buys scrip with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l money from brok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ll payments are attached   to reque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ayments can be both </a:t>
            </a:r>
            <a:r>
              <a:rPr b="0" i="1" lang="en-US" sz="2800" spc="-1" strike="noStrike">
                <a:solidFill>
                  <a:srgbClr val="000000"/>
                </a:solidFill>
                <a:latin typeface="Times New Roman"/>
                <a:ea typeface="Times New Roman"/>
              </a:rPr>
              <a:t>to</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from</a:t>
            </a:r>
            <a:r>
              <a:rPr b="0" lang="en-US" sz="2800" spc="-1" strike="noStrike">
                <a:solidFill>
                  <a:srgbClr val="000000"/>
                </a:solidFill>
                <a:latin typeface="Times New Roman"/>
                <a:ea typeface="Times New Roman"/>
              </a:rPr>
              <a:t> vendors</a:t>
            </a:r>
            <a:endParaRPr b="0" lang="en-US" sz="2800" spc="-1" strike="noStrike">
              <a:solidFill>
                <a:srgbClr val="000000"/>
              </a:solidFill>
              <a:latin typeface="Arial"/>
            </a:endParaRPr>
          </a:p>
        </p:txBody>
      </p:sp>
      <p:sp>
        <p:nvSpPr>
          <p:cNvPr id="473" name=""/>
          <p:cNvSpPr txBox="1"/>
          <p:nvPr/>
        </p:nvSpPr>
        <p:spPr>
          <a:xfrm>
            <a:off x="466560" y="11001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User perspective -- Millicent Wallet</a:t>
            </a:r>
            <a:endParaRPr b="0" lang="en-US" sz="2400" spc="-1" strike="noStrike">
              <a:solidFill>
                <a:srgbClr val="000000"/>
              </a:solidFill>
              <a:latin typeface="Arial"/>
            </a:endParaRPr>
          </a:p>
        </p:txBody>
      </p:sp>
      <p:sp>
        <p:nvSpPr>
          <p:cNvPr id="47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76" name=""/>
          <p:cNvSpPr/>
          <p:nvPr/>
        </p:nvSpPr>
        <p:spPr>
          <a:xfrm>
            <a:off x="4165560" y="5630760"/>
            <a:ext cx="449550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8"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479"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480"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5791320" y="457200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483"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
        <p:nvSpPr>
          <p:cNvPr id="484"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86" name=""/>
          <p:cNvSpPr txBox="1"/>
          <p:nvPr/>
        </p:nvSpPr>
        <p:spPr>
          <a:xfrm>
            <a:off x="457200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000000"/>
              </a:solidFill>
              <a:latin typeface="Arial"/>
            </a:endParaRPr>
          </a:p>
        </p:txBody>
      </p:sp>
      <p:sp>
        <p:nvSpPr>
          <p:cNvPr id="487"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9"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The contemporary payment system</a:t>
            </a:r>
            <a:endParaRPr b="0" lang="en-US" sz="3600" spc="-1" strike="noStrike">
              <a:solidFill>
                <a:srgbClr val="000000"/>
              </a:solidFill>
              <a:latin typeface="Arial"/>
            </a:endParaRPr>
          </a:p>
        </p:txBody>
      </p:sp>
      <p:sp>
        <p:nvSpPr>
          <p:cNvPr id="68" name=""/>
          <p:cNvSpPr txBox="1"/>
          <p:nvPr/>
        </p:nvSpPr>
        <p:spPr>
          <a:xfrm>
            <a:off x="228600" y="1371600"/>
            <a:ext cx="8534520" cy="5181480"/>
          </a:xfrm>
          <a:prstGeom prst="rect">
            <a:avLst/>
          </a:prstGeom>
          <a:noFill/>
          <a:ln w="0">
            <a:noFill/>
          </a:ln>
        </p:spPr>
        <p:txBody>
          <a:bodyPr lIns="0" rIns="0" tIns="0" bIns="0" anchor="t">
            <a:noAutofit/>
          </a:bodyPr>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ney stored as bits and bytes in bank computer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lastic cards like credit cards cards gives access to this money stored digitall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ost of transaction is still very high</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kes smaller transactions infeasibl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ins and notes still most popular in smaller transac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limited/specialised use of credit cards </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transaction and processing time  high</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92" name=""/>
          <p:cNvSpPr txBox="1"/>
          <p:nvPr/>
        </p:nvSpPr>
        <p:spPr>
          <a:xfrm>
            <a:off x="152280" y="1789200"/>
            <a:ext cx="5486400" cy="453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selects a broker </a:t>
            </a:r>
            <a:br>
              <a:rPr sz="2800"/>
            </a:br>
            <a:r>
              <a:rPr b="0" lang="en-US" sz="2800" spc="-1" strike="noStrike">
                <a:solidFill>
                  <a:srgbClr val="000000"/>
                </a:solidFill>
                <a:latin typeface="Times New Roman"/>
                <a:ea typeface="Times New Roman"/>
              </a:rPr>
              <a:t>based 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roker fees and ser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yout frequenc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licenses broker to </a:t>
            </a:r>
            <a:br>
              <a:rPr sz="2800"/>
            </a:br>
            <a:r>
              <a:rPr b="0" lang="en-US" sz="2800" spc="-1" strike="noStrike">
                <a:solidFill>
                  <a:srgbClr val="000000"/>
                </a:solidFill>
                <a:latin typeface="Times New Roman"/>
                <a:ea typeface="Times New Roman"/>
              </a:rPr>
              <a:t>sell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vendor serv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dministers pric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alidates payment (scr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orks with any Web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 pays vendor for scrip sold</a:t>
            </a:r>
            <a:endParaRPr b="0" lang="en-US" sz="2800" spc="-1" strike="noStrike">
              <a:solidFill>
                <a:srgbClr val="000000"/>
              </a:solidFill>
              <a:latin typeface="Arial"/>
            </a:endParaRPr>
          </a:p>
        </p:txBody>
      </p:sp>
      <p:sp>
        <p:nvSpPr>
          <p:cNvPr id="493" name=""/>
          <p:cNvSpPr txBox="1"/>
          <p:nvPr/>
        </p:nvSpPr>
        <p:spPr>
          <a:xfrm>
            <a:off x="466560" y="13287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Vendor perspective -- Millicent Vendor Server</a:t>
            </a:r>
            <a:endParaRPr b="0" lang="en-US" sz="2400" spc="-1" strike="noStrike">
              <a:solidFill>
                <a:srgbClr val="000000"/>
              </a:solidFill>
              <a:latin typeface="Arial"/>
            </a:endParaRPr>
          </a:p>
        </p:txBody>
      </p:sp>
      <p:sp>
        <p:nvSpPr>
          <p:cNvPr id="49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txBox="1"/>
          <p:nvPr/>
        </p:nvSpPr>
        <p:spPr>
          <a:xfrm>
            <a:off x="746748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496"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7"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0" name=""/>
          <p:cNvSpPr txBox="1"/>
          <p:nvPr/>
        </p:nvSpPr>
        <p:spPr>
          <a:xfrm>
            <a:off x="6461280" y="46483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01"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2"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03"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4"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05"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06"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508"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511" name=""/>
          <p:cNvSpPr txBox="1"/>
          <p:nvPr/>
        </p:nvSpPr>
        <p:spPr>
          <a:xfrm>
            <a:off x="76320" y="2246400"/>
            <a:ext cx="4495680" cy="39524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s are intermediari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s don’t have to deal with thousands of vendor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ndors don’t have to </a:t>
            </a:r>
            <a:br>
              <a:rPr sz="2400"/>
            </a:br>
            <a:r>
              <a:rPr b="0" lang="en-US" sz="2400" spc="-1" strike="noStrike">
                <a:solidFill>
                  <a:srgbClr val="000000"/>
                </a:solidFill>
                <a:latin typeface="Times New Roman"/>
                <a:ea typeface="Times New Roman"/>
              </a:rPr>
              <a:t>deal with millions of us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y Millicent component that handles real mon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nancial institutions and Internet access providers make good brokers </a:t>
            </a:r>
            <a:endParaRPr b="0" lang="en-US" sz="2800" spc="-1" strike="noStrike">
              <a:solidFill>
                <a:srgbClr val="000000"/>
              </a:solidFill>
              <a:latin typeface="Arial"/>
            </a:endParaRPr>
          </a:p>
        </p:txBody>
      </p:sp>
      <p:sp>
        <p:nvSpPr>
          <p:cNvPr id="512" name=""/>
          <p:cNvSpPr txBox="1"/>
          <p:nvPr/>
        </p:nvSpPr>
        <p:spPr>
          <a:xfrm>
            <a:off x="619200" y="14810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 perspective -- Millicent Broker Server </a:t>
            </a:r>
            <a:endParaRPr b="0" lang="en-US" sz="2400" spc="-1" strike="noStrike">
              <a:solidFill>
                <a:srgbClr val="000000"/>
              </a:solidFill>
              <a:latin typeface="Arial"/>
            </a:endParaRPr>
          </a:p>
        </p:txBody>
      </p:sp>
      <p:sp>
        <p:nvSpPr>
          <p:cNvPr id="513"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15"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8" name=""/>
          <p:cNvSpPr txBox="1"/>
          <p:nvPr/>
        </p:nvSpPr>
        <p:spPr>
          <a:xfrm>
            <a:off x="6095880" y="56386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519"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20"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2"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3"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24" name=""/>
          <p:cNvSpPr txBox="1"/>
          <p:nvPr/>
        </p:nvSpPr>
        <p:spPr>
          <a:xfrm>
            <a:off x="5562720" y="419112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525" name=""/>
          <p:cNvSpPr txBox="1"/>
          <p:nvPr/>
        </p:nvSpPr>
        <p:spPr>
          <a:xfrm>
            <a:off x="6918480" y="41911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26"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5410080" y="610884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1219320" y="6108840"/>
            <a:ext cx="2591280" cy="292320"/>
          </a:xfrm>
          <a:custGeom>
            <a:avLst/>
            <a:gdLst/>
            <a:ahLst/>
            <a:rect l="0" t="0" r="r" b="b"/>
            <a:pathLst>
              <a:path w="7198" h="812">
                <a:moveTo>
                  <a:pt x="0" y="812"/>
                </a:moveTo>
                <a:lnTo>
                  <a:pt x="5038" y="812"/>
                </a:lnTo>
                <a:lnTo>
                  <a:pt x="7198" y="0"/>
                </a:lnTo>
                <a:lnTo>
                  <a:pt x="2159"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The Millicent System Model</a:t>
            </a:r>
            <a:endParaRPr b="0" lang="en-US" sz="4400" spc="-1" strike="noStrike">
              <a:solidFill>
                <a:srgbClr val="000000"/>
              </a:solidFill>
              <a:latin typeface="Arial"/>
            </a:endParaRPr>
          </a:p>
        </p:txBody>
      </p:sp>
      <p:sp>
        <p:nvSpPr>
          <p:cNvPr id="532" name=""/>
          <p:cNvSpPr txBox="1"/>
          <p:nvPr/>
        </p:nvSpPr>
        <p:spPr>
          <a:xfrm>
            <a:off x="137160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User</a:t>
            </a:r>
            <a:endParaRPr b="0" lang="en-US" sz="2400" spc="-1" strike="noStrike">
              <a:solidFill>
                <a:srgbClr val="ffffff"/>
              </a:solidFill>
              <a:latin typeface="Arial"/>
            </a:endParaRPr>
          </a:p>
        </p:txBody>
      </p:sp>
      <p:sp>
        <p:nvSpPr>
          <p:cNvPr id="533" name=""/>
          <p:cNvSpPr txBox="1"/>
          <p:nvPr/>
        </p:nvSpPr>
        <p:spPr>
          <a:xfrm>
            <a:off x="556272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Vendor</a:t>
            </a:r>
            <a:endParaRPr b="0" lang="en-US" sz="2400" spc="-1" strike="noStrike">
              <a:solidFill>
                <a:srgbClr val="ffffff"/>
              </a:solidFill>
              <a:latin typeface="Arial"/>
            </a:endParaRPr>
          </a:p>
        </p:txBody>
      </p:sp>
      <p:sp>
        <p:nvSpPr>
          <p:cNvPr id="534" name=""/>
          <p:cNvSpPr/>
          <p:nvPr/>
        </p:nvSpPr>
        <p:spPr>
          <a:xfrm>
            <a:off x="4175280" y="5630760"/>
            <a:ext cx="18432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3811680" y="5194440"/>
            <a:ext cx="15984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txBox="1"/>
          <p:nvPr/>
        </p:nvSpPr>
        <p:spPr>
          <a:xfrm>
            <a:off x="3792600" y="4813200"/>
            <a:ext cx="704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37" name=""/>
          <p:cNvSpPr txBox="1"/>
          <p:nvPr/>
        </p:nvSpPr>
        <p:spPr>
          <a:xfrm>
            <a:off x="4251240" y="5703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ft goods</a:t>
            </a:r>
            <a:endParaRPr b="0" lang="en-US" sz="1800" spc="-1" strike="noStrike">
              <a:solidFill>
                <a:srgbClr val="000000"/>
              </a:solidFill>
              <a:latin typeface="Arial"/>
            </a:endParaRPr>
          </a:p>
        </p:txBody>
      </p:sp>
      <p:sp>
        <p:nvSpPr>
          <p:cNvPr id="538" name=""/>
          <p:cNvSpPr/>
          <p:nvPr/>
        </p:nvSpPr>
        <p:spPr>
          <a:xfrm>
            <a:off x="3811680" y="5651640"/>
            <a:ext cx="15984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9" name=""/>
          <p:cNvSpPr txBox="1"/>
          <p:nvPr/>
        </p:nvSpPr>
        <p:spPr>
          <a:xfrm>
            <a:off x="3352680" y="213372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Broker</a:t>
            </a:r>
            <a:endParaRPr b="0" lang="en-US" sz="2400" spc="-1" strike="noStrike">
              <a:solidFill>
                <a:srgbClr val="ffffff"/>
              </a:solidFill>
              <a:latin typeface="Arial"/>
            </a:endParaRPr>
          </a:p>
        </p:txBody>
      </p:sp>
      <p:sp>
        <p:nvSpPr>
          <p:cNvPr id="540" name=""/>
          <p:cNvSpPr txBox="1"/>
          <p:nvPr/>
        </p:nvSpPr>
        <p:spPr>
          <a:xfrm>
            <a:off x="1523880" y="396396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e9b03"/>
                </a:solidFill>
                <a:latin typeface="Arial"/>
                <a:ea typeface="Arial"/>
              </a:rPr>
              <a:t>     </a:t>
            </a: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1" name=""/>
          <p:cNvSpPr txBox="1"/>
          <p:nvPr/>
        </p:nvSpPr>
        <p:spPr>
          <a:xfrm>
            <a:off x="3809880" y="3711600"/>
            <a:ext cx="762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42" name=""/>
          <p:cNvSpPr txBox="1"/>
          <p:nvPr/>
        </p:nvSpPr>
        <p:spPr>
          <a:xfrm>
            <a:off x="4876920" y="4091040"/>
            <a:ext cx="9716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icense</a:t>
            </a:r>
            <a:endParaRPr b="0" lang="en-US" sz="1800" spc="-1" strike="noStrike">
              <a:solidFill>
                <a:srgbClr val="000000"/>
              </a:solidFill>
              <a:latin typeface="Arial"/>
            </a:endParaRPr>
          </a:p>
        </p:txBody>
      </p:sp>
      <p:sp>
        <p:nvSpPr>
          <p:cNvPr id="543" name=""/>
          <p:cNvSpPr/>
          <p:nvPr/>
        </p:nvSpPr>
        <p:spPr>
          <a:xfrm flipH="1">
            <a:off x="2287440" y="3430440"/>
            <a:ext cx="1141560" cy="1293840"/>
          </a:xfrm>
          <a:prstGeom prst="line">
            <a:avLst/>
          </a:prstGeom>
          <a:ln w="38160">
            <a:solidFill>
              <a:srgbClr val="99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4" name=""/>
          <p:cNvSpPr txBox="1"/>
          <p:nvPr/>
        </p:nvSpPr>
        <p:spPr>
          <a:xfrm>
            <a:off x="5943600" y="3200400"/>
            <a:ext cx="1060560" cy="641520"/>
          </a:xfrm>
          <a:prstGeom prst="rect">
            <a:avLst/>
          </a:prstGeom>
          <a:noFill/>
          <a:ln w="0">
            <a:noFill/>
          </a:ln>
        </p:spPr>
        <p:txBody>
          <a:bodyPr lIns="0" rIns="0" tIns="0" bIns="0" anchor="t">
            <a:noAutofit/>
          </a:bodyPr>
          <a:p>
            <a:pPr>
              <a:lnSpc>
                <a:spcPct val="100000"/>
              </a:lnSpc>
            </a:pP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  </a:t>
            </a: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5" name=""/>
          <p:cNvSpPr/>
          <p:nvPr/>
        </p:nvSpPr>
        <p:spPr>
          <a:xfrm>
            <a:off x="3276720" y="342900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flipV="1">
            <a:off x="2973240" y="3430440"/>
            <a:ext cx="1141560" cy="12938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7" name=""/>
          <p:cNvSpPr/>
          <p:nvPr/>
        </p:nvSpPr>
        <p:spPr>
          <a:xfrm flipH="1" flipV="1">
            <a:off x="5030640" y="3430440"/>
            <a:ext cx="1141560" cy="1293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8" name=""/>
          <p:cNvSpPr/>
          <p:nvPr/>
        </p:nvSpPr>
        <p:spPr>
          <a:xfrm>
            <a:off x="5716440" y="3430440"/>
            <a:ext cx="1141560" cy="1293840"/>
          </a:xfrm>
          <a:prstGeom prst="line">
            <a:avLst/>
          </a:prstGeom>
          <a:ln w="38160">
            <a:solidFill>
              <a:srgbClr val="99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System Implementation</a:t>
            </a:r>
            <a:endParaRPr b="0" lang="en-US" sz="4400" spc="-1" strike="noStrike">
              <a:solidFill>
                <a:srgbClr val="000000"/>
              </a:solidFill>
              <a:latin typeface="Arial"/>
            </a:endParaRPr>
          </a:p>
        </p:txBody>
      </p:sp>
      <p:sp>
        <p:nvSpPr>
          <p:cNvPr id="5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Walle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Vendor Serv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Broker Server</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p:txBody>
      </p:sp>
      <p:pic>
        <p:nvPicPr>
          <p:cNvPr id="551" name="" descr=""/>
          <p:cNvPicPr/>
          <p:nvPr/>
        </p:nvPicPr>
        <p:blipFill>
          <a:blip r:embed="rId1"/>
          <a:stretch/>
        </p:blipFill>
        <p:spPr>
          <a:xfrm>
            <a:off x="6248520" y="1828800"/>
            <a:ext cx="2828880" cy="1981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3292560" y="2971800"/>
            <a:ext cx="265104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6019920" y="2971800"/>
            <a:ext cx="266688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609480" y="2971800"/>
            <a:ext cx="259092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o is the Millicent Customer?</a:t>
            </a:r>
            <a:endParaRPr b="0" lang="en-US" sz="4400" spc="-1" strike="noStrike">
              <a:solidFill>
                <a:srgbClr val="000000"/>
              </a:solidFill>
              <a:latin typeface="Arial"/>
            </a:endParaRPr>
          </a:p>
        </p:txBody>
      </p:sp>
      <p:sp>
        <p:nvSpPr>
          <p:cNvPr id="556" name=""/>
          <p:cNvSpPr txBox="1"/>
          <p:nvPr/>
        </p:nvSpPr>
        <p:spPr>
          <a:xfrm>
            <a:off x="609480" y="2057400"/>
            <a:ext cx="259092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Traditional </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7" name=""/>
          <p:cNvSpPr txBox="1"/>
          <p:nvPr/>
        </p:nvSpPr>
        <p:spPr>
          <a:xfrm>
            <a:off x="3292560" y="2057400"/>
            <a:ext cx="265104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ew Ag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8" name=""/>
          <p:cNvSpPr/>
          <p:nvPr/>
        </p:nvSpPr>
        <p:spPr>
          <a:xfrm>
            <a:off x="3436920" y="2165400"/>
            <a:ext cx="2165400" cy="725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txBox="1"/>
          <p:nvPr/>
        </p:nvSpPr>
        <p:spPr>
          <a:xfrm>
            <a:off x="6019920" y="2057400"/>
            <a:ext cx="266688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Home Alon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60" name=""/>
          <p:cNvSpPr txBox="1"/>
          <p:nvPr/>
        </p:nvSpPr>
        <p:spPr>
          <a:xfrm>
            <a:off x="3352680" y="2971800"/>
            <a:ext cx="2590920" cy="327492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pplet develo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earch eng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Rating servic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icro-gambling</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Interactive gam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oftware add-on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hopping agent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uyer/Seller brokering</a:t>
            </a:r>
            <a:endParaRPr b="0" lang="en-US" sz="2000" spc="-1" strike="noStrike">
              <a:solidFill>
                <a:srgbClr val="000000"/>
              </a:solidFill>
              <a:latin typeface="Arial"/>
            </a:endParaRPr>
          </a:p>
        </p:txBody>
      </p:sp>
      <p:sp>
        <p:nvSpPr>
          <p:cNvPr id="561" name=""/>
          <p:cNvSpPr txBox="1"/>
          <p:nvPr/>
        </p:nvSpPr>
        <p:spPr>
          <a:xfrm>
            <a:off x="685800" y="2971800"/>
            <a:ext cx="251460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pa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aga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Directo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ook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lett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hoto libra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usic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lip-art</a:t>
            </a:r>
            <a:endParaRPr b="0" lang="en-US" sz="2000" spc="-1" strike="noStrike">
              <a:solidFill>
                <a:srgbClr val="000000"/>
              </a:solidFill>
              <a:latin typeface="Arial"/>
            </a:endParaRPr>
          </a:p>
        </p:txBody>
      </p:sp>
      <p:sp>
        <p:nvSpPr>
          <p:cNvPr id="562" name=""/>
          <p:cNvSpPr txBox="1"/>
          <p:nvPr/>
        </p:nvSpPr>
        <p:spPr>
          <a:xfrm>
            <a:off x="6095880" y="2971800"/>
            <a:ext cx="259092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e-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 essay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ubject index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How-To Guid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ookbook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nnotated bookmark fil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ized filt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 descr=""/>
          <p:cNvPicPr/>
          <p:nvPr/>
        </p:nvPicPr>
        <p:blipFill>
          <a:blip r:embed="rId1"/>
          <a:stretch/>
        </p:blipFill>
        <p:spPr>
          <a:xfrm>
            <a:off x="5672160" y="3895560"/>
            <a:ext cx="3085920" cy="2647800"/>
          </a:xfrm>
          <a:prstGeom prst="rect">
            <a:avLst/>
          </a:prstGeom>
          <a:ln w="0">
            <a:noFill/>
          </a:ln>
        </p:spPr>
      </p:pic>
      <p:sp>
        <p:nvSpPr>
          <p:cNvPr id="564"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 Present Status</a:t>
            </a:r>
            <a:endParaRPr b="0" lang="en-US" sz="4400" spc="-1" strike="noStrike">
              <a:solidFill>
                <a:srgbClr val="000000"/>
              </a:solidFill>
              <a:latin typeface="Arial"/>
            </a:endParaRPr>
          </a:p>
        </p:txBody>
      </p:sp>
      <p:sp>
        <p:nvSpPr>
          <p:cNvPr id="565" name=""/>
          <p:cNvSpPr txBox="1"/>
          <p:nvPr/>
        </p:nvSpPr>
        <p:spPr>
          <a:xfrm>
            <a:off x="685800" y="2125800"/>
            <a:ext cx="7772400" cy="3916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pplied for patents, trademarks, etc.</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scribed the protoco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pened the system to industry review</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veloped a working prototyp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alked to a lot of potential brokers                          and content provider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monstrated the working                       prototype at DECUS’96</a:t>
            </a:r>
            <a:endParaRPr b="0" lang="en-US" sz="3200" spc="-1" strike="noStrike">
              <a:solidFill>
                <a:srgbClr val="000000"/>
              </a:solidFill>
              <a:latin typeface="Arial"/>
            </a:endParaRPr>
          </a:p>
        </p:txBody>
      </p:sp>
      <p:sp>
        <p:nvSpPr>
          <p:cNvPr id="566" name=""/>
          <p:cNvSpPr txBox="1"/>
          <p:nvPr/>
        </p:nvSpPr>
        <p:spPr>
          <a:xfrm>
            <a:off x="482760" y="141120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eyond the concept, Digital h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Micropayment System</a:t>
            </a:r>
            <a:endParaRPr b="0" lang="en-US" sz="4400" spc="-1" strike="noStrike">
              <a:solidFill>
                <a:srgbClr val="000000"/>
              </a:solidFill>
              <a:latin typeface="Arial"/>
            </a:endParaRPr>
          </a:p>
        </p:txBody>
      </p:sp>
      <p:sp>
        <p:nvSpPr>
          <p:cNvPr id="570" name=""/>
          <p:cNvSpPr txBox="1"/>
          <p:nvPr/>
        </p:nvSpPr>
        <p:spPr>
          <a:xfrm>
            <a:off x="457200" y="2743200"/>
            <a:ext cx="5943600" cy="317340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rial announced Mar’97</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ternational in scope</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hased deployment:</a:t>
            </a:r>
            <a:endParaRPr b="0" lang="en-US" sz="32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rivate trial started Feb’97</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ublic trial starts late Summer</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Full deployment by end of year</a:t>
            </a:r>
            <a:endParaRPr b="0" lang="en-US" sz="2800" spc="-1" strike="noStrike">
              <a:solidFill>
                <a:srgbClr val="000000"/>
              </a:solidFill>
              <a:latin typeface="Arial"/>
            </a:endParaRPr>
          </a:p>
        </p:txBody>
      </p:sp>
      <p:grpSp>
        <p:nvGrpSpPr>
          <p:cNvPr id="571" name=""/>
          <p:cNvGrpSpPr/>
          <p:nvPr/>
        </p:nvGrpSpPr>
        <p:grpSpPr>
          <a:xfrm>
            <a:off x="5562720" y="4363920"/>
            <a:ext cx="3124080" cy="2125800"/>
            <a:chOff x="5562720" y="4363920"/>
            <a:chExt cx="3124080" cy="2125800"/>
          </a:xfrm>
        </p:grpSpPr>
        <p:sp>
          <p:nvSpPr>
            <p:cNvPr id="572"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3" name=""/>
            <p:cNvGrpSpPr/>
            <p:nvPr/>
          </p:nvGrpSpPr>
          <p:grpSpPr>
            <a:xfrm>
              <a:off x="5562720" y="5124600"/>
              <a:ext cx="972720" cy="561600"/>
              <a:chOff x="5562720" y="5124600"/>
              <a:chExt cx="972720" cy="561600"/>
            </a:xfrm>
          </p:grpSpPr>
          <p:sp>
            <p:nvSpPr>
              <p:cNvPr id="574"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577"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8"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80"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82" name=""/>
            <p:cNvGrpSpPr/>
            <p:nvPr/>
          </p:nvGrpSpPr>
          <p:grpSpPr>
            <a:xfrm>
              <a:off x="7548480" y="4826160"/>
              <a:ext cx="971640" cy="584280"/>
              <a:chOff x="7548480" y="4826160"/>
              <a:chExt cx="971640" cy="584280"/>
            </a:xfrm>
          </p:grpSpPr>
          <p:sp>
            <p:nvSpPr>
              <p:cNvPr id="583"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585"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586"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591" name="" descr=""/>
            <p:cNvPicPr/>
            <p:nvPr/>
          </p:nvPicPr>
          <p:blipFill>
            <a:blip r:embed="rId1"/>
            <a:stretch/>
          </p:blipFill>
          <p:spPr>
            <a:xfrm>
              <a:off x="6067440" y="4676760"/>
              <a:ext cx="2224080" cy="1812960"/>
            </a:xfrm>
            <a:prstGeom prst="rect">
              <a:avLst/>
            </a:prstGeom>
            <a:ln w="0">
              <a:noFill/>
            </a:ln>
          </p:spPr>
        </p:pic>
        <p:grpSp>
          <p:nvGrpSpPr>
            <p:cNvPr id="592" name=""/>
            <p:cNvGrpSpPr/>
            <p:nvPr/>
          </p:nvGrpSpPr>
          <p:grpSpPr>
            <a:xfrm>
              <a:off x="5996160" y="5378400"/>
              <a:ext cx="2669040" cy="689400"/>
              <a:chOff x="5996160" y="5378400"/>
              <a:chExt cx="2669040" cy="689400"/>
            </a:xfrm>
          </p:grpSpPr>
          <p:sp>
            <p:nvSpPr>
              <p:cNvPr id="593"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96" name=""/>
            <p:cNvGrpSpPr/>
            <p:nvPr/>
          </p:nvGrpSpPr>
          <p:grpSpPr>
            <a:xfrm>
              <a:off x="5981760" y="5861160"/>
              <a:ext cx="973080" cy="584280"/>
              <a:chOff x="5981760" y="5861160"/>
              <a:chExt cx="973080" cy="584280"/>
            </a:xfrm>
          </p:grpSpPr>
          <p:sp>
            <p:nvSpPr>
              <p:cNvPr id="597"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599"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600"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05" name=""/>
            <p:cNvGrpSpPr/>
            <p:nvPr/>
          </p:nvGrpSpPr>
          <p:grpSpPr>
            <a:xfrm>
              <a:off x="7516800" y="5716440"/>
              <a:ext cx="977760" cy="520920"/>
              <a:chOff x="7516800" y="5716440"/>
              <a:chExt cx="977760" cy="520920"/>
            </a:xfrm>
          </p:grpSpPr>
          <p:sp>
            <p:nvSpPr>
              <p:cNvPr id="606"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09"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12"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614" name=""/>
          <p:cNvSpPr txBox="1"/>
          <p:nvPr/>
        </p:nvSpPr>
        <p:spPr>
          <a:xfrm>
            <a:off x="45576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Introduc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7" name=""/>
          <p:cNvSpPr txBox="1"/>
          <p:nvPr/>
        </p:nvSpPr>
        <p:spPr>
          <a:xfrm>
            <a:off x="533520" y="745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18" name=""/>
          <p:cNvSpPr txBox="1"/>
          <p:nvPr/>
        </p:nvSpPr>
        <p:spPr>
          <a:xfrm>
            <a:off x="457200" y="1752480"/>
            <a:ext cx="4081320" cy="459756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C COPY Gmb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ltaVist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DS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Eurofres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TG/FedCas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lobal Music Outle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nolulu Community Colleg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foseek Information Netwo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vestor's Daily</a:t>
            </a:r>
            <a:endParaRPr b="0" lang="en-US" sz="2800" spc="-1" strike="noStrike">
              <a:solidFill>
                <a:srgbClr val="000000"/>
              </a:solidFill>
              <a:latin typeface="Arial"/>
            </a:endParaRPr>
          </a:p>
        </p:txBody>
      </p:sp>
      <p:sp>
        <p:nvSpPr>
          <p:cNvPr id="619" name=""/>
          <p:cNvSpPr txBox="1"/>
          <p:nvPr/>
        </p:nvSpPr>
        <p:spPr>
          <a:xfrm>
            <a:off x="4419720" y="1789200"/>
            <a:ext cx="3809880" cy="422388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Music 411</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New Technology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Online Education,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Paradesa Medi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Reuters News Servic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Songline Studios,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ele Danma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homson Corporation</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Web InfoTech AS</a:t>
            </a:r>
            <a:endParaRPr b="0" lang="en-US" sz="2800" spc="-1" strike="noStrike">
              <a:solidFill>
                <a:srgbClr val="000000"/>
              </a:solidFill>
              <a:latin typeface="Arial"/>
            </a:endParaRPr>
          </a:p>
        </p:txBody>
      </p:sp>
      <p:sp>
        <p:nvSpPr>
          <p:cNvPr id="620" name=""/>
          <p:cNvSpPr txBox="1"/>
          <p:nvPr/>
        </p:nvSpPr>
        <p:spPr>
          <a:xfrm>
            <a:off x="380880" y="11430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Content providers from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2252520" y="2008080"/>
            <a:ext cx="6421320" cy="4773600"/>
          </a:xfrm>
          <a:prstGeom prst="rect">
            <a:avLst/>
          </a:prstGeom>
          <a:gradFill rotWithShape="0">
            <a:gsLst>
              <a:gs pos="0">
                <a:srgbClr val="e8d29a"/>
              </a:gs>
              <a:gs pos="100000">
                <a:srgbClr val="f3e8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 </a:t>
            </a:r>
            <a:endParaRPr b="0" lang="en-US" sz="4400" spc="-1" strike="noStrike">
              <a:solidFill>
                <a:srgbClr val="000000"/>
              </a:solidFill>
              <a:latin typeface="Arial"/>
            </a:endParaRPr>
          </a:p>
        </p:txBody>
      </p:sp>
      <p:pic>
        <p:nvPicPr>
          <p:cNvPr id="625" name="" descr=""/>
          <p:cNvPicPr/>
          <p:nvPr/>
        </p:nvPicPr>
        <p:blipFill>
          <a:blip r:embed="rId1"/>
          <a:stretch/>
        </p:blipFill>
        <p:spPr>
          <a:xfrm>
            <a:off x="3311640" y="1968480"/>
            <a:ext cx="4403880" cy="4662360"/>
          </a:xfrm>
          <a:prstGeom prst="rect">
            <a:avLst/>
          </a:prstGeom>
          <a:ln w="0">
            <a:noFill/>
          </a:ln>
        </p:spPr>
      </p:pic>
      <p:sp>
        <p:nvSpPr>
          <p:cNvPr id="626"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usic 4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30" name=""/>
          <p:cNvSpPr/>
          <p:nvPr/>
        </p:nvSpPr>
        <p:spPr>
          <a:xfrm>
            <a:off x="4595760" y="3728880"/>
            <a:ext cx="41760" cy="43200"/>
          </a:xfrm>
          <a:custGeom>
            <a:avLst/>
            <a:gdLst/>
            <a:ahLst/>
            <a:rect l="0" t="0" r="r" b="b"/>
            <a:pathLst>
              <a:path w="116" h="120">
                <a:moveTo>
                  <a:pt x="116" y="4"/>
                </a:moveTo>
                <a:lnTo>
                  <a:pt x="116" y="106"/>
                </a:lnTo>
                <a:lnTo>
                  <a:pt x="71" y="120"/>
                </a:lnTo>
                <a:lnTo>
                  <a:pt x="0" y="17"/>
                </a:lnTo>
                <a:lnTo>
                  <a:pt x="45" y="0"/>
                </a:lnTo>
                <a:lnTo>
                  <a:pt x="116" y="4"/>
                </a:lnTo>
                <a:close/>
              </a:path>
            </a:pathLst>
          </a:custGeom>
          <a:solidFill>
            <a:srgbClr val="e1c47b"/>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31" name=""/>
          <p:cNvSpPr/>
          <p:nvPr/>
        </p:nvSpPr>
        <p:spPr>
          <a:xfrm>
            <a:off x="4514760" y="3651120"/>
            <a:ext cx="36720" cy="63720"/>
          </a:xfrm>
          <a:custGeom>
            <a:avLst/>
            <a:gdLst/>
            <a:ahLst/>
            <a:rect l="0" t="0" r="r" b="b"/>
            <a:pathLst>
              <a:path w="102" h="177">
                <a:moveTo>
                  <a:pt x="102" y="0"/>
                </a:moveTo>
                <a:lnTo>
                  <a:pt x="0" y="30"/>
                </a:lnTo>
                <a:lnTo>
                  <a:pt x="13" y="177"/>
                </a:lnTo>
                <a:lnTo>
                  <a:pt x="84" y="159"/>
                </a:lnTo>
                <a:lnTo>
                  <a:pt x="102" y="0"/>
                </a:lnTo>
                <a:close/>
              </a:path>
            </a:pathLst>
          </a:custGeom>
          <a:solidFill>
            <a:srgbClr val="e1c47b"/>
          </a:solidFill>
          <a:ln w="0">
            <a:noFill/>
          </a:ln>
        </p:spPr>
        <p:txBody>
          <a:bodyPr lIns="90000" rIns="90000" tIns="18720" bIns="18720" anchor="t">
            <a:noAutofit/>
          </a:bodyPr>
          <a:p>
            <a:endParaRPr b="0" lang="en-US" sz="1800" spc="-1" strike="noStrike">
              <a:solidFill>
                <a:srgbClr val="000000"/>
              </a:solidFill>
              <a:latin typeface="Arial"/>
            </a:endParaRPr>
          </a:p>
        </p:txBody>
      </p:sp>
      <p:grpSp>
        <p:nvGrpSpPr>
          <p:cNvPr id="632" name=""/>
          <p:cNvGrpSpPr/>
          <p:nvPr/>
        </p:nvGrpSpPr>
        <p:grpSpPr>
          <a:xfrm>
            <a:off x="7948440" y="5651640"/>
            <a:ext cx="726120" cy="354240"/>
            <a:chOff x="7948440" y="5651640"/>
            <a:chExt cx="726120" cy="354240"/>
          </a:xfrm>
        </p:grpSpPr>
        <p:sp>
          <p:nvSpPr>
            <p:cNvPr id="633" name=""/>
            <p:cNvSpPr/>
            <p:nvPr/>
          </p:nvSpPr>
          <p:spPr>
            <a:xfrm>
              <a:off x="8561520" y="5651640"/>
              <a:ext cx="113040" cy="216360"/>
            </a:xfrm>
            <a:custGeom>
              <a:avLst/>
              <a:gdLst/>
              <a:ahLst/>
              <a:rect l="0" t="0" r="r" b="b"/>
              <a:pathLst>
                <a:path w="314" h="601">
                  <a:moveTo>
                    <a:pt x="101" y="8"/>
                  </a:moveTo>
                  <a:lnTo>
                    <a:pt x="132" y="0"/>
                  </a:lnTo>
                  <a:lnTo>
                    <a:pt x="181" y="61"/>
                  </a:lnTo>
                  <a:lnTo>
                    <a:pt x="177" y="252"/>
                  </a:lnTo>
                  <a:lnTo>
                    <a:pt x="221" y="252"/>
                  </a:lnTo>
                  <a:lnTo>
                    <a:pt x="225" y="274"/>
                  </a:lnTo>
                  <a:lnTo>
                    <a:pt x="239" y="318"/>
                  </a:lnTo>
                  <a:lnTo>
                    <a:pt x="252" y="340"/>
                  </a:lnTo>
                  <a:lnTo>
                    <a:pt x="283" y="331"/>
                  </a:lnTo>
                  <a:lnTo>
                    <a:pt x="300" y="292"/>
                  </a:lnTo>
                  <a:lnTo>
                    <a:pt x="314" y="318"/>
                  </a:lnTo>
                  <a:lnTo>
                    <a:pt x="296" y="349"/>
                  </a:lnTo>
                  <a:lnTo>
                    <a:pt x="283" y="371"/>
                  </a:lnTo>
                  <a:lnTo>
                    <a:pt x="269" y="424"/>
                  </a:lnTo>
                  <a:lnTo>
                    <a:pt x="234" y="446"/>
                  </a:lnTo>
                  <a:lnTo>
                    <a:pt x="208" y="456"/>
                  </a:lnTo>
                  <a:lnTo>
                    <a:pt x="177" y="478"/>
                  </a:lnTo>
                  <a:lnTo>
                    <a:pt x="168" y="504"/>
                  </a:lnTo>
                  <a:lnTo>
                    <a:pt x="177" y="526"/>
                  </a:lnTo>
                  <a:lnTo>
                    <a:pt x="181" y="566"/>
                  </a:lnTo>
                  <a:lnTo>
                    <a:pt x="145" y="584"/>
                  </a:lnTo>
                  <a:lnTo>
                    <a:pt x="119" y="592"/>
                  </a:lnTo>
                  <a:lnTo>
                    <a:pt x="101" y="601"/>
                  </a:lnTo>
                  <a:lnTo>
                    <a:pt x="83" y="592"/>
                  </a:lnTo>
                  <a:lnTo>
                    <a:pt x="44" y="584"/>
                  </a:lnTo>
                  <a:lnTo>
                    <a:pt x="26" y="566"/>
                  </a:lnTo>
                  <a:lnTo>
                    <a:pt x="44" y="535"/>
                  </a:lnTo>
                  <a:lnTo>
                    <a:pt x="74" y="526"/>
                  </a:lnTo>
                  <a:lnTo>
                    <a:pt x="101" y="487"/>
                  </a:lnTo>
                  <a:lnTo>
                    <a:pt x="101" y="473"/>
                  </a:lnTo>
                  <a:lnTo>
                    <a:pt x="74" y="456"/>
                  </a:lnTo>
                  <a:lnTo>
                    <a:pt x="44" y="428"/>
                  </a:lnTo>
                  <a:lnTo>
                    <a:pt x="17" y="428"/>
                  </a:lnTo>
                  <a:lnTo>
                    <a:pt x="4" y="424"/>
                  </a:lnTo>
                  <a:lnTo>
                    <a:pt x="0" y="397"/>
                  </a:lnTo>
                  <a:lnTo>
                    <a:pt x="4" y="380"/>
                  </a:lnTo>
                  <a:lnTo>
                    <a:pt x="17" y="380"/>
                  </a:lnTo>
                  <a:lnTo>
                    <a:pt x="44" y="371"/>
                  </a:lnTo>
                  <a:lnTo>
                    <a:pt x="74" y="349"/>
                  </a:lnTo>
                  <a:lnTo>
                    <a:pt x="88" y="340"/>
                  </a:lnTo>
                  <a:lnTo>
                    <a:pt x="105" y="252"/>
                  </a:lnTo>
                  <a:lnTo>
                    <a:pt x="88" y="225"/>
                  </a:lnTo>
                  <a:lnTo>
                    <a:pt x="66" y="212"/>
                  </a:lnTo>
                  <a:lnTo>
                    <a:pt x="57" y="164"/>
                  </a:lnTo>
                  <a:lnTo>
                    <a:pt x="66" y="114"/>
                  </a:lnTo>
                  <a:lnTo>
                    <a:pt x="74" y="83"/>
                  </a:lnTo>
                  <a:lnTo>
                    <a:pt x="101" y="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339040" y="5821200"/>
              <a:ext cx="211320" cy="184680"/>
            </a:xfrm>
            <a:custGeom>
              <a:avLst/>
              <a:gdLst/>
              <a:ahLst/>
              <a:rect l="0" t="0" r="r" b="b"/>
              <a:pathLst>
                <a:path w="587" h="513">
                  <a:moveTo>
                    <a:pt x="406" y="0"/>
                  </a:moveTo>
                  <a:lnTo>
                    <a:pt x="481" y="0"/>
                  </a:lnTo>
                  <a:lnTo>
                    <a:pt x="587" y="142"/>
                  </a:lnTo>
                  <a:lnTo>
                    <a:pt x="477" y="261"/>
                  </a:lnTo>
                  <a:lnTo>
                    <a:pt x="477" y="309"/>
                  </a:lnTo>
                  <a:lnTo>
                    <a:pt x="450" y="322"/>
                  </a:lnTo>
                  <a:lnTo>
                    <a:pt x="389" y="322"/>
                  </a:lnTo>
                  <a:lnTo>
                    <a:pt x="305" y="390"/>
                  </a:lnTo>
                  <a:lnTo>
                    <a:pt x="238" y="451"/>
                  </a:lnTo>
                  <a:lnTo>
                    <a:pt x="185" y="513"/>
                  </a:lnTo>
                  <a:lnTo>
                    <a:pt x="185" y="465"/>
                  </a:lnTo>
                  <a:lnTo>
                    <a:pt x="101" y="469"/>
                  </a:lnTo>
                  <a:lnTo>
                    <a:pt x="61" y="469"/>
                  </a:lnTo>
                  <a:lnTo>
                    <a:pt x="0" y="469"/>
                  </a:lnTo>
                  <a:lnTo>
                    <a:pt x="88" y="390"/>
                  </a:lnTo>
                  <a:lnTo>
                    <a:pt x="119" y="344"/>
                  </a:lnTo>
                  <a:lnTo>
                    <a:pt x="149" y="344"/>
                  </a:lnTo>
                  <a:lnTo>
                    <a:pt x="211" y="283"/>
                  </a:lnTo>
                  <a:lnTo>
                    <a:pt x="238" y="283"/>
                  </a:lnTo>
                  <a:lnTo>
                    <a:pt x="238" y="274"/>
                  </a:lnTo>
                  <a:lnTo>
                    <a:pt x="268" y="247"/>
                  </a:lnTo>
                  <a:lnTo>
                    <a:pt x="305" y="247"/>
                  </a:lnTo>
                  <a:lnTo>
                    <a:pt x="286" y="172"/>
                  </a:lnTo>
                  <a:lnTo>
                    <a:pt x="300" y="172"/>
                  </a:lnTo>
                  <a:lnTo>
                    <a:pt x="340" y="137"/>
                  </a:lnTo>
                  <a:lnTo>
                    <a:pt x="358" y="168"/>
                  </a:lnTo>
                  <a:lnTo>
                    <a:pt x="419" y="110"/>
                  </a:lnTo>
                  <a:lnTo>
                    <a:pt x="406"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7948440" y="5832360"/>
              <a:ext cx="82800" cy="100440"/>
            </a:xfrm>
            <a:custGeom>
              <a:avLst/>
              <a:gdLst/>
              <a:ahLst/>
              <a:rect l="0" t="0" r="r" b="b"/>
              <a:pathLst>
                <a:path w="230" h="279">
                  <a:moveTo>
                    <a:pt x="0" y="0"/>
                  </a:moveTo>
                  <a:lnTo>
                    <a:pt x="52" y="0"/>
                  </a:lnTo>
                  <a:lnTo>
                    <a:pt x="105" y="30"/>
                  </a:lnTo>
                  <a:lnTo>
                    <a:pt x="230" y="30"/>
                  </a:lnTo>
                  <a:lnTo>
                    <a:pt x="212" y="89"/>
                  </a:lnTo>
                  <a:lnTo>
                    <a:pt x="230" y="137"/>
                  </a:lnTo>
                  <a:lnTo>
                    <a:pt x="190" y="137"/>
                  </a:lnTo>
                  <a:lnTo>
                    <a:pt x="181" y="142"/>
                  </a:lnTo>
                  <a:lnTo>
                    <a:pt x="159" y="155"/>
                  </a:lnTo>
                  <a:lnTo>
                    <a:pt x="181" y="279"/>
                  </a:lnTo>
                  <a:lnTo>
                    <a:pt x="105" y="266"/>
                  </a:lnTo>
                  <a:lnTo>
                    <a:pt x="39" y="231"/>
                  </a:lnTo>
                  <a:lnTo>
                    <a:pt x="39" y="142"/>
                  </a:lnTo>
                  <a:lnTo>
                    <a:pt x="39" y="111"/>
                  </a:lnTo>
                  <a:lnTo>
                    <a:pt x="0" y="89"/>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36" name=""/>
          <p:cNvSpPr/>
          <p:nvPr/>
        </p:nvSpPr>
        <p:spPr>
          <a:xfrm>
            <a:off x="8097840" y="4818240"/>
            <a:ext cx="130680" cy="101880"/>
          </a:xfrm>
          <a:custGeom>
            <a:avLst/>
            <a:gdLst/>
            <a:ahLst/>
            <a:rect l="0" t="0" r="r" b="b"/>
            <a:pathLst>
              <a:path w="363" h="283">
                <a:moveTo>
                  <a:pt x="61" y="105"/>
                </a:moveTo>
                <a:lnTo>
                  <a:pt x="0" y="221"/>
                </a:lnTo>
                <a:lnTo>
                  <a:pt x="17" y="274"/>
                </a:lnTo>
                <a:lnTo>
                  <a:pt x="124" y="283"/>
                </a:lnTo>
                <a:lnTo>
                  <a:pt x="212" y="283"/>
                </a:lnTo>
                <a:lnTo>
                  <a:pt x="243" y="234"/>
                </a:lnTo>
                <a:lnTo>
                  <a:pt x="265" y="186"/>
                </a:lnTo>
                <a:lnTo>
                  <a:pt x="363" y="186"/>
                </a:lnTo>
                <a:lnTo>
                  <a:pt x="345" y="110"/>
                </a:lnTo>
                <a:lnTo>
                  <a:pt x="345" y="35"/>
                </a:lnTo>
                <a:lnTo>
                  <a:pt x="252" y="0"/>
                </a:lnTo>
                <a:lnTo>
                  <a:pt x="230" y="79"/>
                </a:lnTo>
                <a:lnTo>
                  <a:pt x="297" y="123"/>
                </a:lnTo>
                <a:lnTo>
                  <a:pt x="199" y="123"/>
                </a:lnTo>
                <a:lnTo>
                  <a:pt x="168" y="159"/>
                </a:lnTo>
                <a:lnTo>
                  <a:pt x="61"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37" name=""/>
          <p:cNvGrpSpPr/>
          <p:nvPr/>
        </p:nvGrpSpPr>
        <p:grpSpPr>
          <a:xfrm>
            <a:off x="6661080" y="3262320"/>
            <a:ext cx="1532160" cy="2526120"/>
            <a:chOff x="6661080" y="3262320"/>
            <a:chExt cx="1532160" cy="2526120"/>
          </a:xfrm>
        </p:grpSpPr>
        <p:grpSp>
          <p:nvGrpSpPr>
            <p:cNvPr id="638" name=""/>
            <p:cNvGrpSpPr/>
            <p:nvPr/>
          </p:nvGrpSpPr>
          <p:grpSpPr>
            <a:xfrm>
              <a:off x="6907320" y="3522600"/>
              <a:ext cx="341640" cy="757800"/>
              <a:chOff x="6907320" y="3522600"/>
              <a:chExt cx="341640" cy="757800"/>
            </a:xfrm>
          </p:grpSpPr>
          <p:sp>
            <p:nvSpPr>
              <p:cNvPr id="639" name=""/>
              <p:cNvSpPr/>
              <p:nvPr/>
            </p:nvSpPr>
            <p:spPr>
              <a:xfrm>
                <a:off x="6907320" y="4202280"/>
                <a:ext cx="81360" cy="78120"/>
              </a:xfrm>
              <a:custGeom>
                <a:avLst/>
                <a:gdLst/>
                <a:ahLst/>
                <a:rect l="0" t="0" r="r" b="b"/>
                <a:pathLst>
                  <a:path w="226" h="217">
                    <a:moveTo>
                      <a:pt x="0" y="164"/>
                    </a:moveTo>
                    <a:lnTo>
                      <a:pt x="35" y="203"/>
                    </a:lnTo>
                    <a:lnTo>
                      <a:pt x="89" y="199"/>
                    </a:lnTo>
                    <a:lnTo>
                      <a:pt x="155" y="217"/>
                    </a:lnTo>
                    <a:lnTo>
                      <a:pt x="213" y="217"/>
                    </a:lnTo>
                    <a:lnTo>
                      <a:pt x="226" y="137"/>
                    </a:lnTo>
                    <a:lnTo>
                      <a:pt x="209" y="88"/>
                    </a:lnTo>
                    <a:lnTo>
                      <a:pt x="164" y="30"/>
                    </a:lnTo>
                    <a:lnTo>
                      <a:pt x="124" y="30"/>
                    </a:lnTo>
                    <a:lnTo>
                      <a:pt x="106" y="0"/>
                    </a:lnTo>
                    <a:lnTo>
                      <a:pt x="58" y="0"/>
                    </a:lnTo>
                    <a:lnTo>
                      <a:pt x="58" y="61"/>
                    </a:lnTo>
                    <a:lnTo>
                      <a:pt x="0" y="164"/>
                    </a:lnTo>
                    <a:close/>
                  </a:path>
                </a:pathLst>
              </a:custGeom>
              <a:solidFill>
                <a:srgbClr val="e1c47b"/>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40" name=""/>
              <p:cNvSpPr/>
              <p:nvPr/>
            </p:nvSpPr>
            <p:spPr>
              <a:xfrm>
                <a:off x="7124760" y="4068720"/>
                <a:ext cx="78120" cy="97200"/>
              </a:xfrm>
              <a:custGeom>
                <a:avLst/>
                <a:gdLst/>
                <a:ahLst/>
                <a:rect l="0" t="0" r="r" b="b"/>
                <a:pathLst>
                  <a:path w="217" h="270">
                    <a:moveTo>
                      <a:pt x="44" y="0"/>
                    </a:moveTo>
                    <a:lnTo>
                      <a:pt x="142" y="4"/>
                    </a:lnTo>
                    <a:lnTo>
                      <a:pt x="172" y="80"/>
                    </a:lnTo>
                    <a:lnTo>
                      <a:pt x="217" y="124"/>
                    </a:lnTo>
                    <a:lnTo>
                      <a:pt x="177" y="155"/>
                    </a:lnTo>
                    <a:lnTo>
                      <a:pt x="217" y="199"/>
                    </a:lnTo>
                    <a:lnTo>
                      <a:pt x="199" y="248"/>
                    </a:lnTo>
                    <a:lnTo>
                      <a:pt x="164" y="270"/>
                    </a:lnTo>
                    <a:lnTo>
                      <a:pt x="101" y="262"/>
                    </a:lnTo>
                    <a:lnTo>
                      <a:pt x="61" y="262"/>
                    </a:lnTo>
                    <a:lnTo>
                      <a:pt x="39" y="231"/>
                    </a:lnTo>
                    <a:lnTo>
                      <a:pt x="13" y="186"/>
                    </a:lnTo>
                    <a:lnTo>
                      <a:pt x="13" y="142"/>
                    </a:lnTo>
                    <a:lnTo>
                      <a:pt x="0" y="89"/>
                    </a:lnTo>
                    <a:lnTo>
                      <a:pt x="44"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7113600" y="3522600"/>
                <a:ext cx="135360" cy="89280"/>
              </a:xfrm>
              <a:custGeom>
                <a:avLst/>
                <a:gdLst/>
                <a:ahLst/>
                <a:rect l="0" t="0" r="r" b="b"/>
                <a:pathLst>
                  <a:path w="376" h="248">
                    <a:moveTo>
                      <a:pt x="48" y="0"/>
                    </a:moveTo>
                    <a:lnTo>
                      <a:pt x="98" y="35"/>
                    </a:lnTo>
                    <a:lnTo>
                      <a:pt x="146" y="30"/>
                    </a:lnTo>
                    <a:lnTo>
                      <a:pt x="212" y="35"/>
                    </a:lnTo>
                    <a:lnTo>
                      <a:pt x="284" y="35"/>
                    </a:lnTo>
                    <a:lnTo>
                      <a:pt x="315" y="61"/>
                    </a:lnTo>
                    <a:lnTo>
                      <a:pt x="350" y="115"/>
                    </a:lnTo>
                    <a:lnTo>
                      <a:pt x="376" y="142"/>
                    </a:lnTo>
                    <a:lnTo>
                      <a:pt x="288" y="155"/>
                    </a:lnTo>
                    <a:lnTo>
                      <a:pt x="265" y="172"/>
                    </a:lnTo>
                    <a:lnTo>
                      <a:pt x="288" y="204"/>
                    </a:lnTo>
                    <a:lnTo>
                      <a:pt x="288" y="235"/>
                    </a:lnTo>
                    <a:lnTo>
                      <a:pt x="199" y="204"/>
                    </a:lnTo>
                    <a:lnTo>
                      <a:pt x="133" y="181"/>
                    </a:lnTo>
                    <a:lnTo>
                      <a:pt x="98" y="187"/>
                    </a:lnTo>
                    <a:lnTo>
                      <a:pt x="98" y="235"/>
                    </a:lnTo>
                    <a:lnTo>
                      <a:pt x="48" y="248"/>
                    </a:lnTo>
                    <a:lnTo>
                      <a:pt x="26" y="204"/>
                    </a:lnTo>
                    <a:lnTo>
                      <a:pt x="17" y="155"/>
                    </a:lnTo>
                    <a:lnTo>
                      <a:pt x="0" y="150"/>
                    </a:lnTo>
                    <a:lnTo>
                      <a:pt x="17" y="98"/>
                    </a:lnTo>
                    <a:lnTo>
                      <a:pt x="57" y="84"/>
                    </a:lnTo>
                    <a:lnTo>
                      <a:pt x="48" y="0"/>
                    </a:lnTo>
                    <a:close/>
                  </a:path>
                </a:pathLst>
              </a:custGeom>
              <a:solidFill>
                <a:srgbClr val="e1c47b"/>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642" name=""/>
            <p:cNvSpPr/>
            <p:nvPr/>
          </p:nvSpPr>
          <p:spPr>
            <a:xfrm>
              <a:off x="7227720" y="5054760"/>
              <a:ext cx="965520" cy="733680"/>
            </a:xfrm>
            <a:custGeom>
              <a:avLst/>
              <a:gdLst/>
              <a:ahLst/>
              <a:rect l="0" t="0" r="r" b="b"/>
              <a:pathLst>
                <a:path w="2682" h="2038">
                  <a:moveTo>
                    <a:pt x="1923" y="0"/>
                  </a:moveTo>
                  <a:lnTo>
                    <a:pt x="2069" y="0"/>
                  </a:lnTo>
                  <a:lnTo>
                    <a:pt x="2069" y="163"/>
                  </a:lnTo>
                  <a:lnTo>
                    <a:pt x="2117" y="211"/>
                  </a:lnTo>
                  <a:lnTo>
                    <a:pt x="2135" y="238"/>
                  </a:lnTo>
                  <a:lnTo>
                    <a:pt x="2170" y="238"/>
                  </a:lnTo>
                  <a:lnTo>
                    <a:pt x="2188" y="268"/>
                  </a:lnTo>
                  <a:lnTo>
                    <a:pt x="2201" y="427"/>
                  </a:lnTo>
                  <a:lnTo>
                    <a:pt x="2280" y="537"/>
                  </a:lnTo>
                  <a:lnTo>
                    <a:pt x="2399" y="692"/>
                  </a:lnTo>
                  <a:lnTo>
                    <a:pt x="2399" y="718"/>
                  </a:lnTo>
                  <a:lnTo>
                    <a:pt x="2527" y="846"/>
                  </a:lnTo>
                  <a:lnTo>
                    <a:pt x="2527" y="873"/>
                  </a:lnTo>
                  <a:lnTo>
                    <a:pt x="2655" y="978"/>
                  </a:lnTo>
                  <a:lnTo>
                    <a:pt x="2682" y="1165"/>
                  </a:lnTo>
                  <a:lnTo>
                    <a:pt x="2655" y="1337"/>
                  </a:lnTo>
                  <a:lnTo>
                    <a:pt x="2611" y="1416"/>
                  </a:lnTo>
                  <a:lnTo>
                    <a:pt x="2567" y="1460"/>
                  </a:lnTo>
                  <a:lnTo>
                    <a:pt x="2549" y="1539"/>
                  </a:lnTo>
                  <a:lnTo>
                    <a:pt x="2505" y="1614"/>
                  </a:lnTo>
                  <a:lnTo>
                    <a:pt x="2461" y="1645"/>
                  </a:lnTo>
                  <a:lnTo>
                    <a:pt x="2470" y="1667"/>
                  </a:lnTo>
                  <a:lnTo>
                    <a:pt x="2426" y="1716"/>
                  </a:lnTo>
                  <a:lnTo>
                    <a:pt x="2399" y="1822"/>
                  </a:lnTo>
                  <a:lnTo>
                    <a:pt x="2391" y="1879"/>
                  </a:lnTo>
                  <a:lnTo>
                    <a:pt x="2342" y="1906"/>
                  </a:lnTo>
                  <a:lnTo>
                    <a:pt x="2338" y="1928"/>
                  </a:lnTo>
                  <a:lnTo>
                    <a:pt x="2307" y="1976"/>
                  </a:lnTo>
                  <a:lnTo>
                    <a:pt x="2249" y="1989"/>
                  </a:lnTo>
                  <a:lnTo>
                    <a:pt x="2205" y="2003"/>
                  </a:lnTo>
                  <a:lnTo>
                    <a:pt x="2157" y="2038"/>
                  </a:lnTo>
                  <a:lnTo>
                    <a:pt x="2082" y="1972"/>
                  </a:lnTo>
                  <a:lnTo>
                    <a:pt x="1998" y="1976"/>
                  </a:lnTo>
                  <a:lnTo>
                    <a:pt x="1980" y="1976"/>
                  </a:lnTo>
                  <a:lnTo>
                    <a:pt x="1866" y="1994"/>
                  </a:lnTo>
                  <a:lnTo>
                    <a:pt x="1800" y="1928"/>
                  </a:lnTo>
                  <a:lnTo>
                    <a:pt x="1747" y="1866"/>
                  </a:lnTo>
                  <a:lnTo>
                    <a:pt x="1716" y="1870"/>
                  </a:lnTo>
                  <a:lnTo>
                    <a:pt x="1685" y="1817"/>
                  </a:lnTo>
                  <a:lnTo>
                    <a:pt x="1667" y="1769"/>
                  </a:lnTo>
                  <a:lnTo>
                    <a:pt x="1654" y="1751"/>
                  </a:lnTo>
                  <a:lnTo>
                    <a:pt x="1654" y="1667"/>
                  </a:lnTo>
                  <a:lnTo>
                    <a:pt x="1663" y="1619"/>
                  </a:lnTo>
                  <a:lnTo>
                    <a:pt x="1641" y="1588"/>
                  </a:lnTo>
                  <a:lnTo>
                    <a:pt x="1579" y="1606"/>
                  </a:lnTo>
                  <a:lnTo>
                    <a:pt x="1548" y="1614"/>
                  </a:lnTo>
                  <a:lnTo>
                    <a:pt x="1491" y="1614"/>
                  </a:lnTo>
                  <a:lnTo>
                    <a:pt x="1469" y="1614"/>
                  </a:lnTo>
                  <a:lnTo>
                    <a:pt x="1447" y="1614"/>
                  </a:lnTo>
                  <a:lnTo>
                    <a:pt x="1407" y="1562"/>
                  </a:lnTo>
                  <a:lnTo>
                    <a:pt x="1368" y="1495"/>
                  </a:lnTo>
                  <a:lnTo>
                    <a:pt x="1359" y="1509"/>
                  </a:lnTo>
                  <a:lnTo>
                    <a:pt x="1287" y="1509"/>
                  </a:lnTo>
                  <a:lnTo>
                    <a:pt x="1278" y="1482"/>
                  </a:lnTo>
                  <a:lnTo>
                    <a:pt x="1239" y="1509"/>
                  </a:lnTo>
                  <a:lnTo>
                    <a:pt x="1199" y="1495"/>
                  </a:lnTo>
                  <a:lnTo>
                    <a:pt x="1133" y="1495"/>
                  </a:lnTo>
                  <a:lnTo>
                    <a:pt x="1098" y="1482"/>
                  </a:lnTo>
                  <a:lnTo>
                    <a:pt x="1080" y="1509"/>
                  </a:lnTo>
                  <a:lnTo>
                    <a:pt x="1014" y="1513"/>
                  </a:lnTo>
                  <a:lnTo>
                    <a:pt x="996" y="1495"/>
                  </a:lnTo>
                  <a:lnTo>
                    <a:pt x="961" y="1539"/>
                  </a:lnTo>
                  <a:lnTo>
                    <a:pt x="917" y="1584"/>
                  </a:lnTo>
                  <a:lnTo>
                    <a:pt x="877" y="1584"/>
                  </a:lnTo>
                  <a:lnTo>
                    <a:pt x="833" y="1632"/>
                  </a:lnTo>
                  <a:lnTo>
                    <a:pt x="758" y="1632"/>
                  </a:lnTo>
                  <a:lnTo>
                    <a:pt x="709" y="1645"/>
                  </a:lnTo>
                  <a:lnTo>
                    <a:pt x="639" y="1667"/>
                  </a:lnTo>
                  <a:lnTo>
                    <a:pt x="608" y="1698"/>
                  </a:lnTo>
                  <a:lnTo>
                    <a:pt x="590" y="1694"/>
                  </a:lnTo>
                  <a:lnTo>
                    <a:pt x="564" y="1725"/>
                  </a:lnTo>
                  <a:lnTo>
                    <a:pt x="533" y="1738"/>
                  </a:lnTo>
                  <a:lnTo>
                    <a:pt x="489" y="1773"/>
                  </a:lnTo>
                  <a:lnTo>
                    <a:pt x="366" y="1773"/>
                  </a:lnTo>
                  <a:lnTo>
                    <a:pt x="308" y="1716"/>
                  </a:lnTo>
                  <a:lnTo>
                    <a:pt x="304" y="1694"/>
                  </a:lnTo>
                  <a:lnTo>
                    <a:pt x="286" y="1716"/>
                  </a:lnTo>
                  <a:lnTo>
                    <a:pt x="260" y="1676"/>
                  </a:lnTo>
                  <a:lnTo>
                    <a:pt x="268" y="1570"/>
                  </a:lnTo>
                  <a:lnTo>
                    <a:pt x="286" y="1509"/>
                  </a:lnTo>
                  <a:lnTo>
                    <a:pt x="260" y="1460"/>
                  </a:lnTo>
                  <a:lnTo>
                    <a:pt x="238" y="1407"/>
                  </a:lnTo>
                  <a:lnTo>
                    <a:pt x="229" y="1354"/>
                  </a:lnTo>
                  <a:lnTo>
                    <a:pt x="189" y="1328"/>
                  </a:lnTo>
                  <a:lnTo>
                    <a:pt x="185" y="1319"/>
                  </a:lnTo>
                  <a:lnTo>
                    <a:pt x="171" y="1293"/>
                  </a:lnTo>
                  <a:lnTo>
                    <a:pt x="119" y="1218"/>
                  </a:lnTo>
                  <a:lnTo>
                    <a:pt x="48" y="1046"/>
                  </a:lnTo>
                  <a:lnTo>
                    <a:pt x="22" y="921"/>
                  </a:lnTo>
                  <a:lnTo>
                    <a:pt x="22" y="846"/>
                  </a:lnTo>
                  <a:lnTo>
                    <a:pt x="0" y="824"/>
                  </a:lnTo>
                  <a:lnTo>
                    <a:pt x="8" y="754"/>
                  </a:lnTo>
                  <a:lnTo>
                    <a:pt x="30" y="723"/>
                  </a:lnTo>
                  <a:lnTo>
                    <a:pt x="119" y="630"/>
                  </a:lnTo>
                  <a:lnTo>
                    <a:pt x="207" y="643"/>
                  </a:lnTo>
                  <a:lnTo>
                    <a:pt x="220" y="657"/>
                  </a:lnTo>
                  <a:lnTo>
                    <a:pt x="335" y="657"/>
                  </a:lnTo>
                  <a:lnTo>
                    <a:pt x="339" y="630"/>
                  </a:lnTo>
                  <a:lnTo>
                    <a:pt x="366" y="643"/>
                  </a:lnTo>
                  <a:lnTo>
                    <a:pt x="396" y="617"/>
                  </a:lnTo>
                  <a:lnTo>
                    <a:pt x="423" y="626"/>
                  </a:lnTo>
                  <a:lnTo>
                    <a:pt x="445" y="612"/>
                  </a:lnTo>
                  <a:lnTo>
                    <a:pt x="436" y="586"/>
                  </a:lnTo>
                  <a:lnTo>
                    <a:pt x="458" y="529"/>
                  </a:lnTo>
                  <a:lnTo>
                    <a:pt x="489" y="502"/>
                  </a:lnTo>
                  <a:lnTo>
                    <a:pt x="476" y="489"/>
                  </a:lnTo>
                  <a:lnTo>
                    <a:pt x="489" y="471"/>
                  </a:lnTo>
                  <a:lnTo>
                    <a:pt x="476" y="445"/>
                  </a:lnTo>
                  <a:lnTo>
                    <a:pt x="520" y="410"/>
                  </a:lnTo>
                  <a:lnTo>
                    <a:pt x="595" y="396"/>
                  </a:lnTo>
                  <a:lnTo>
                    <a:pt x="665" y="299"/>
                  </a:lnTo>
                  <a:lnTo>
                    <a:pt x="754" y="220"/>
                  </a:lnTo>
                  <a:lnTo>
                    <a:pt x="798" y="211"/>
                  </a:lnTo>
                  <a:lnTo>
                    <a:pt x="815" y="185"/>
                  </a:lnTo>
                  <a:lnTo>
                    <a:pt x="859" y="185"/>
                  </a:lnTo>
                  <a:lnTo>
                    <a:pt x="930" y="260"/>
                  </a:lnTo>
                  <a:lnTo>
                    <a:pt x="952" y="268"/>
                  </a:lnTo>
                  <a:lnTo>
                    <a:pt x="978" y="238"/>
                  </a:lnTo>
                  <a:lnTo>
                    <a:pt x="1023" y="185"/>
                  </a:lnTo>
                  <a:lnTo>
                    <a:pt x="1053" y="180"/>
                  </a:lnTo>
                  <a:lnTo>
                    <a:pt x="1084" y="114"/>
                  </a:lnTo>
                  <a:lnTo>
                    <a:pt x="1120" y="105"/>
                  </a:lnTo>
                  <a:lnTo>
                    <a:pt x="1159" y="83"/>
                  </a:lnTo>
                  <a:lnTo>
                    <a:pt x="1199" y="57"/>
                  </a:lnTo>
                  <a:lnTo>
                    <a:pt x="1239" y="57"/>
                  </a:lnTo>
                  <a:lnTo>
                    <a:pt x="1270" y="26"/>
                  </a:lnTo>
                  <a:lnTo>
                    <a:pt x="1318" y="26"/>
                  </a:lnTo>
                  <a:lnTo>
                    <a:pt x="1372" y="26"/>
                  </a:lnTo>
                  <a:lnTo>
                    <a:pt x="1447" y="39"/>
                  </a:lnTo>
                  <a:lnTo>
                    <a:pt x="1491" y="70"/>
                  </a:lnTo>
                  <a:lnTo>
                    <a:pt x="1504" y="97"/>
                  </a:lnTo>
                  <a:lnTo>
                    <a:pt x="1509" y="114"/>
                  </a:lnTo>
                  <a:lnTo>
                    <a:pt x="1517" y="154"/>
                  </a:lnTo>
                  <a:lnTo>
                    <a:pt x="1509" y="167"/>
                  </a:lnTo>
                  <a:lnTo>
                    <a:pt x="1509" y="211"/>
                  </a:lnTo>
                  <a:lnTo>
                    <a:pt x="1504" y="238"/>
                  </a:lnTo>
                  <a:lnTo>
                    <a:pt x="1623" y="321"/>
                  </a:lnTo>
                  <a:lnTo>
                    <a:pt x="1663" y="374"/>
                  </a:lnTo>
                  <a:lnTo>
                    <a:pt x="1711" y="392"/>
                  </a:lnTo>
                  <a:lnTo>
                    <a:pt x="1756" y="414"/>
                  </a:lnTo>
                  <a:lnTo>
                    <a:pt x="1786" y="423"/>
                  </a:lnTo>
                  <a:lnTo>
                    <a:pt x="1835" y="396"/>
                  </a:lnTo>
                  <a:lnTo>
                    <a:pt x="1875" y="321"/>
                  </a:lnTo>
                  <a:lnTo>
                    <a:pt x="1892" y="268"/>
                  </a:lnTo>
                  <a:lnTo>
                    <a:pt x="1906" y="154"/>
                  </a:lnTo>
                  <a:lnTo>
                    <a:pt x="1923" y="105"/>
                  </a:lnTo>
                  <a:lnTo>
                    <a:pt x="192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7000920" y="4900680"/>
              <a:ext cx="532080" cy="98640"/>
            </a:xfrm>
            <a:custGeom>
              <a:avLst/>
              <a:gdLst/>
              <a:ahLst/>
              <a:rect l="0" t="0" r="r" b="b"/>
              <a:pathLst>
                <a:path w="1478" h="274">
                  <a:moveTo>
                    <a:pt x="0" y="0"/>
                  </a:moveTo>
                  <a:lnTo>
                    <a:pt x="110" y="39"/>
                  </a:lnTo>
                  <a:lnTo>
                    <a:pt x="207" y="39"/>
                  </a:lnTo>
                  <a:lnTo>
                    <a:pt x="295" y="39"/>
                  </a:lnTo>
                  <a:lnTo>
                    <a:pt x="357" y="39"/>
                  </a:lnTo>
                  <a:lnTo>
                    <a:pt x="401" y="48"/>
                  </a:lnTo>
                  <a:lnTo>
                    <a:pt x="467" y="70"/>
                  </a:lnTo>
                  <a:lnTo>
                    <a:pt x="502" y="127"/>
                  </a:lnTo>
                  <a:lnTo>
                    <a:pt x="533" y="150"/>
                  </a:lnTo>
                  <a:lnTo>
                    <a:pt x="590" y="146"/>
                  </a:lnTo>
                  <a:lnTo>
                    <a:pt x="652" y="146"/>
                  </a:lnTo>
                  <a:lnTo>
                    <a:pt x="723" y="177"/>
                  </a:lnTo>
                  <a:lnTo>
                    <a:pt x="772" y="195"/>
                  </a:lnTo>
                  <a:lnTo>
                    <a:pt x="803" y="195"/>
                  </a:lnTo>
                  <a:lnTo>
                    <a:pt x="812" y="150"/>
                  </a:lnTo>
                  <a:lnTo>
                    <a:pt x="834" y="127"/>
                  </a:lnTo>
                  <a:lnTo>
                    <a:pt x="931" y="146"/>
                  </a:lnTo>
                  <a:lnTo>
                    <a:pt x="1010" y="146"/>
                  </a:lnTo>
                  <a:lnTo>
                    <a:pt x="1081" y="146"/>
                  </a:lnTo>
                  <a:lnTo>
                    <a:pt x="1134" y="172"/>
                  </a:lnTo>
                  <a:lnTo>
                    <a:pt x="1169" y="186"/>
                  </a:lnTo>
                  <a:lnTo>
                    <a:pt x="1222" y="177"/>
                  </a:lnTo>
                  <a:lnTo>
                    <a:pt x="1262" y="159"/>
                  </a:lnTo>
                  <a:lnTo>
                    <a:pt x="1288" y="146"/>
                  </a:lnTo>
                  <a:lnTo>
                    <a:pt x="1350" y="146"/>
                  </a:lnTo>
                  <a:lnTo>
                    <a:pt x="1390" y="127"/>
                  </a:lnTo>
                  <a:lnTo>
                    <a:pt x="1442" y="114"/>
                  </a:lnTo>
                  <a:lnTo>
                    <a:pt x="1478" y="114"/>
                  </a:lnTo>
                  <a:lnTo>
                    <a:pt x="1469" y="172"/>
                  </a:lnTo>
                  <a:lnTo>
                    <a:pt x="1456" y="195"/>
                  </a:lnTo>
                  <a:lnTo>
                    <a:pt x="1425" y="221"/>
                  </a:lnTo>
                  <a:lnTo>
                    <a:pt x="1390" y="221"/>
                  </a:lnTo>
                  <a:lnTo>
                    <a:pt x="1381" y="221"/>
                  </a:lnTo>
                  <a:lnTo>
                    <a:pt x="1341" y="225"/>
                  </a:lnTo>
                  <a:lnTo>
                    <a:pt x="1310" y="256"/>
                  </a:lnTo>
                  <a:lnTo>
                    <a:pt x="1279" y="252"/>
                  </a:lnTo>
                  <a:lnTo>
                    <a:pt x="1248" y="234"/>
                  </a:lnTo>
                  <a:lnTo>
                    <a:pt x="1218" y="252"/>
                  </a:lnTo>
                  <a:lnTo>
                    <a:pt x="1187" y="256"/>
                  </a:lnTo>
                  <a:lnTo>
                    <a:pt x="1160" y="256"/>
                  </a:lnTo>
                  <a:lnTo>
                    <a:pt x="1134" y="274"/>
                  </a:lnTo>
                  <a:lnTo>
                    <a:pt x="1072" y="274"/>
                  </a:lnTo>
                  <a:lnTo>
                    <a:pt x="1050" y="252"/>
                  </a:lnTo>
                  <a:lnTo>
                    <a:pt x="1015" y="221"/>
                  </a:lnTo>
                  <a:lnTo>
                    <a:pt x="979" y="252"/>
                  </a:lnTo>
                  <a:lnTo>
                    <a:pt x="953" y="274"/>
                  </a:lnTo>
                  <a:lnTo>
                    <a:pt x="922" y="274"/>
                  </a:lnTo>
                  <a:lnTo>
                    <a:pt x="865" y="221"/>
                  </a:lnTo>
                  <a:lnTo>
                    <a:pt x="847" y="225"/>
                  </a:lnTo>
                  <a:lnTo>
                    <a:pt x="816" y="225"/>
                  </a:lnTo>
                  <a:lnTo>
                    <a:pt x="799" y="256"/>
                  </a:lnTo>
                  <a:lnTo>
                    <a:pt x="746" y="252"/>
                  </a:lnTo>
                  <a:lnTo>
                    <a:pt x="696" y="252"/>
                  </a:lnTo>
                  <a:lnTo>
                    <a:pt x="674" y="234"/>
                  </a:lnTo>
                  <a:lnTo>
                    <a:pt x="639" y="221"/>
                  </a:lnTo>
                  <a:lnTo>
                    <a:pt x="595" y="225"/>
                  </a:lnTo>
                  <a:lnTo>
                    <a:pt x="546" y="256"/>
                  </a:lnTo>
                  <a:lnTo>
                    <a:pt x="515" y="252"/>
                  </a:lnTo>
                  <a:lnTo>
                    <a:pt x="467" y="234"/>
                  </a:lnTo>
                  <a:lnTo>
                    <a:pt x="414" y="208"/>
                  </a:lnTo>
                  <a:lnTo>
                    <a:pt x="366" y="208"/>
                  </a:lnTo>
                  <a:lnTo>
                    <a:pt x="268" y="186"/>
                  </a:lnTo>
                  <a:lnTo>
                    <a:pt x="207" y="172"/>
                  </a:lnTo>
                  <a:lnTo>
                    <a:pt x="167" y="159"/>
                  </a:lnTo>
                  <a:lnTo>
                    <a:pt x="101" y="150"/>
                  </a:lnTo>
                  <a:lnTo>
                    <a:pt x="66" y="119"/>
                  </a:lnTo>
                  <a:lnTo>
                    <a:pt x="22" y="114"/>
                  </a:lnTo>
                  <a:lnTo>
                    <a:pt x="8" y="101"/>
                  </a:lnTo>
                  <a:lnTo>
                    <a:pt x="0" y="88"/>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7294680" y="4703760"/>
              <a:ext cx="238320" cy="189360"/>
            </a:xfrm>
            <a:custGeom>
              <a:avLst/>
              <a:gdLst/>
              <a:ahLst/>
              <a:rect l="0" t="0" r="r" b="b"/>
              <a:pathLst>
                <a:path w="662" h="526">
                  <a:moveTo>
                    <a:pt x="163" y="0"/>
                  </a:moveTo>
                  <a:lnTo>
                    <a:pt x="317" y="8"/>
                  </a:lnTo>
                  <a:lnTo>
                    <a:pt x="472" y="8"/>
                  </a:lnTo>
                  <a:lnTo>
                    <a:pt x="552" y="0"/>
                  </a:lnTo>
                  <a:lnTo>
                    <a:pt x="662" y="44"/>
                  </a:lnTo>
                  <a:lnTo>
                    <a:pt x="587" y="61"/>
                  </a:lnTo>
                  <a:lnTo>
                    <a:pt x="552" y="88"/>
                  </a:lnTo>
                  <a:lnTo>
                    <a:pt x="525" y="105"/>
                  </a:lnTo>
                  <a:lnTo>
                    <a:pt x="512" y="119"/>
                  </a:lnTo>
                  <a:lnTo>
                    <a:pt x="512" y="137"/>
                  </a:lnTo>
                  <a:lnTo>
                    <a:pt x="512" y="164"/>
                  </a:lnTo>
                  <a:lnTo>
                    <a:pt x="464" y="177"/>
                  </a:lnTo>
                  <a:lnTo>
                    <a:pt x="424" y="177"/>
                  </a:lnTo>
                  <a:lnTo>
                    <a:pt x="406" y="186"/>
                  </a:lnTo>
                  <a:lnTo>
                    <a:pt x="371" y="186"/>
                  </a:lnTo>
                  <a:lnTo>
                    <a:pt x="353" y="164"/>
                  </a:lnTo>
                  <a:lnTo>
                    <a:pt x="317" y="133"/>
                  </a:lnTo>
                  <a:lnTo>
                    <a:pt x="286" y="105"/>
                  </a:lnTo>
                  <a:lnTo>
                    <a:pt x="224" y="105"/>
                  </a:lnTo>
                  <a:lnTo>
                    <a:pt x="211" y="105"/>
                  </a:lnTo>
                  <a:lnTo>
                    <a:pt x="194" y="146"/>
                  </a:lnTo>
                  <a:lnTo>
                    <a:pt x="198" y="186"/>
                  </a:lnTo>
                  <a:lnTo>
                    <a:pt x="198" y="212"/>
                  </a:lnTo>
                  <a:lnTo>
                    <a:pt x="211" y="230"/>
                  </a:lnTo>
                  <a:lnTo>
                    <a:pt x="242" y="225"/>
                  </a:lnTo>
                  <a:lnTo>
                    <a:pt x="286" y="199"/>
                  </a:lnTo>
                  <a:lnTo>
                    <a:pt x="317" y="199"/>
                  </a:lnTo>
                  <a:lnTo>
                    <a:pt x="344" y="217"/>
                  </a:lnTo>
                  <a:lnTo>
                    <a:pt x="344" y="230"/>
                  </a:lnTo>
                  <a:lnTo>
                    <a:pt x="330" y="269"/>
                  </a:lnTo>
                  <a:lnTo>
                    <a:pt x="317" y="283"/>
                  </a:lnTo>
                  <a:lnTo>
                    <a:pt x="317" y="300"/>
                  </a:lnTo>
                  <a:lnTo>
                    <a:pt x="313" y="322"/>
                  </a:lnTo>
                  <a:lnTo>
                    <a:pt x="330" y="349"/>
                  </a:lnTo>
                  <a:lnTo>
                    <a:pt x="362" y="380"/>
                  </a:lnTo>
                  <a:lnTo>
                    <a:pt x="371" y="371"/>
                  </a:lnTo>
                  <a:lnTo>
                    <a:pt x="371" y="407"/>
                  </a:lnTo>
                  <a:lnTo>
                    <a:pt x="353" y="429"/>
                  </a:lnTo>
                  <a:lnTo>
                    <a:pt x="336" y="456"/>
                  </a:lnTo>
                  <a:lnTo>
                    <a:pt x="330" y="491"/>
                  </a:lnTo>
                  <a:lnTo>
                    <a:pt x="295" y="509"/>
                  </a:lnTo>
                  <a:lnTo>
                    <a:pt x="273" y="509"/>
                  </a:lnTo>
                  <a:lnTo>
                    <a:pt x="251" y="509"/>
                  </a:lnTo>
                  <a:lnTo>
                    <a:pt x="251" y="478"/>
                  </a:lnTo>
                  <a:lnTo>
                    <a:pt x="242" y="425"/>
                  </a:lnTo>
                  <a:lnTo>
                    <a:pt x="216" y="407"/>
                  </a:lnTo>
                  <a:lnTo>
                    <a:pt x="211" y="380"/>
                  </a:lnTo>
                  <a:lnTo>
                    <a:pt x="216" y="331"/>
                  </a:lnTo>
                  <a:lnTo>
                    <a:pt x="194" y="318"/>
                  </a:lnTo>
                  <a:lnTo>
                    <a:pt x="136" y="331"/>
                  </a:lnTo>
                  <a:lnTo>
                    <a:pt x="114" y="318"/>
                  </a:lnTo>
                  <a:lnTo>
                    <a:pt x="92" y="336"/>
                  </a:lnTo>
                  <a:lnTo>
                    <a:pt x="114" y="353"/>
                  </a:lnTo>
                  <a:lnTo>
                    <a:pt x="154" y="371"/>
                  </a:lnTo>
                  <a:lnTo>
                    <a:pt x="163" y="384"/>
                  </a:lnTo>
                  <a:lnTo>
                    <a:pt x="185" y="425"/>
                  </a:lnTo>
                  <a:lnTo>
                    <a:pt x="185" y="442"/>
                  </a:lnTo>
                  <a:lnTo>
                    <a:pt x="163" y="487"/>
                  </a:lnTo>
                  <a:lnTo>
                    <a:pt x="132" y="517"/>
                  </a:lnTo>
                  <a:lnTo>
                    <a:pt x="114" y="526"/>
                  </a:lnTo>
                  <a:lnTo>
                    <a:pt x="114" y="504"/>
                  </a:lnTo>
                  <a:lnTo>
                    <a:pt x="114" y="478"/>
                  </a:lnTo>
                  <a:lnTo>
                    <a:pt x="123" y="442"/>
                  </a:lnTo>
                  <a:lnTo>
                    <a:pt x="79" y="425"/>
                  </a:lnTo>
                  <a:lnTo>
                    <a:pt x="44" y="398"/>
                  </a:lnTo>
                  <a:lnTo>
                    <a:pt x="35" y="371"/>
                  </a:lnTo>
                  <a:lnTo>
                    <a:pt x="0" y="353"/>
                  </a:lnTo>
                  <a:lnTo>
                    <a:pt x="4" y="318"/>
                  </a:lnTo>
                  <a:lnTo>
                    <a:pt x="35" y="292"/>
                  </a:lnTo>
                  <a:lnTo>
                    <a:pt x="61" y="252"/>
                  </a:lnTo>
                  <a:lnTo>
                    <a:pt x="79" y="212"/>
                  </a:lnTo>
                  <a:lnTo>
                    <a:pt x="92" y="168"/>
                  </a:lnTo>
                  <a:lnTo>
                    <a:pt x="79" y="133"/>
                  </a:lnTo>
                  <a:lnTo>
                    <a:pt x="101" y="114"/>
                  </a:lnTo>
                  <a:lnTo>
                    <a:pt x="114" y="97"/>
                  </a:lnTo>
                  <a:lnTo>
                    <a:pt x="92" y="61"/>
                  </a:lnTo>
                  <a:lnTo>
                    <a:pt x="16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7039080" y="4619520"/>
              <a:ext cx="268560" cy="263880"/>
            </a:xfrm>
            <a:custGeom>
              <a:avLst/>
              <a:gdLst/>
              <a:ahLst/>
              <a:rect l="0" t="0" r="r" b="b"/>
              <a:pathLst>
                <a:path w="746" h="733">
                  <a:moveTo>
                    <a:pt x="0" y="242"/>
                  </a:moveTo>
                  <a:lnTo>
                    <a:pt x="149" y="127"/>
                  </a:lnTo>
                  <a:lnTo>
                    <a:pt x="233" y="79"/>
                  </a:lnTo>
                  <a:lnTo>
                    <a:pt x="268" y="39"/>
                  </a:lnTo>
                  <a:lnTo>
                    <a:pt x="389" y="0"/>
                  </a:lnTo>
                  <a:lnTo>
                    <a:pt x="459" y="88"/>
                  </a:lnTo>
                  <a:lnTo>
                    <a:pt x="521" y="44"/>
                  </a:lnTo>
                  <a:lnTo>
                    <a:pt x="538" y="26"/>
                  </a:lnTo>
                  <a:lnTo>
                    <a:pt x="596" y="0"/>
                  </a:lnTo>
                  <a:lnTo>
                    <a:pt x="631" y="0"/>
                  </a:lnTo>
                  <a:lnTo>
                    <a:pt x="640" y="30"/>
                  </a:lnTo>
                  <a:lnTo>
                    <a:pt x="640" y="57"/>
                  </a:lnTo>
                  <a:lnTo>
                    <a:pt x="609" y="92"/>
                  </a:lnTo>
                  <a:lnTo>
                    <a:pt x="609" y="119"/>
                  </a:lnTo>
                  <a:lnTo>
                    <a:pt x="697" y="229"/>
                  </a:lnTo>
                  <a:lnTo>
                    <a:pt x="710" y="291"/>
                  </a:lnTo>
                  <a:lnTo>
                    <a:pt x="733" y="291"/>
                  </a:lnTo>
                  <a:lnTo>
                    <a:pt x="746" y="321"/>
                  </a:lnTo>
                  <a:lnTo>
                    <a:pt x="710" y="357"/>
                  </a:lnTo>
                  <a:lnTo>
                    <a:pt x="688" y="339"/>
                  </a:lnTo>
                  <a:lnTo>
                    <a:pt x="631" y="367"/>
                  </a:lnTo>
                  <a:lnTo>
                    <a:pt x="640" y="433"/>
                  </a:lnTo>
                  <a:lnTo>
                    <a:pt x="578" y="468"/>
                  </a:lnTo>
                  <a:lnTo>
                    <a:pt x="578" y="574"/>
                  </a:lnTo>
                  <a:lnTo>
                    <a:pt x="578" y="649"/>
                  </a:lnTo>
                  <a:lnTo>
                    <a:pt x="538" y="684"/>
                  </a:lnTo>
                  <a:lnTo>
                    <a:pt x="521" y="733"/>
                  </a:lnTo>
                  <a:lnTo>
                    <a:pt x="490" y="724"/>
                  </a:lnTo>
                  <a:lnTo>
                    <a:pt x="441" y="697"/>
                  </a:lnTo>
                  <a:lnTo>
                    <a:pt x="402" y="675"/>
                  </a:lnTo>
                  <a:lnTo>
                    <a:pt x="366" y="636"/>
                  </a:lnTo>
                  <a:lnTo>
                    <a:pt x="251" y="644"/>
                  </a:lnTo>
                  <a:lnTo>
                    <a:pt x="158" y="618"/>
                  </a:lnTo>
                  <a:lnTo>
                    <a:pt x="97" y="556"/>
                  </a:lnTo>
                  <a:lnTo>
                    <a:pt x="57" y="508"/>
                  </a:lnTo>
                  <a:lnTo>
                    <a:pt x="22" y="464"/>
                  </a:lnTo>
                  <a:lnTo>
                    <a:pt x="22" y="384"/>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7607160" y="4768920"/>
              <a:ext cx="508320" cy="246600"/>
            </a:xfrm>
            <a:custGeom>
              <a:avLst/>
              <a:gdLst/>
              <a:ahLst/>
              <a:rect l="0" t="0" r="r" b="b"/>
              <a:pathLst>
                <a:path w="1412" h="685">
                  <a:moveTo>
                    <a:pt x="0" y="0"/>
                  </a:moveTo>
                  <a:lnTo>
                    <a:pt x="123" y="4"/>
                  </a:lnTo>
                  <a:lnTo>
                    <a:pt x="224" y="13"/>
                  </a:lnTo>
                  <a:lnTo>
                    <a:pt x="273" y="110"/>
                  </a:lnTo>
                  <a:lnTo>
                    <a:pt x="282" y="141"/>
                  </a:lnTo>
                  <a:lnTo>
                    <a:pt x="299" y="158"/>
                  </a:lnTo>
                  <a:lnTo>
                    <a:pt x="330" y="136"/>
                  </a:lnTo>
                  <a:lnTo>
                    <a:pt x="388" y="136"/>
                  </a:lnTo>
                  <a:lnTo>
                    <a:pt x="418" y="158"/>
                  </a:lnTo>
                  <a:lnTo>
                    <a:pt x="432" y="154"/>
                  </a:lnTo>
                  <a:lnTo>
                    <a:pt x="480" y="110"/>
                  </a:lnTo>
                  <a:lnTo>
                    <a:pt x="489" y="110"/>
                  </a:lnTo>
                  <a:lnTo>
                    <a:pt x="529" y="88"/>
                  </a:lnTo>
                  <a:lnTo>
                    <a:pt x="568" y="88"/>
                  </a:lnTo>
                  <a:lnTo>
                    <a:pt x="692" y="136"/>
                  </a:lnTo>
                  <a:lnTo>
                    <a:pt x="750" y="136"/>
                  </a:lnTo>
                  <a:lnTo>
                    <a:pt x="807" y="172"/>
                  </a:lnTo>
                  <a:lnTo>
                    <a:pt x="865" y="190"/>
                  </a:lnTo>
                  <a:lnTo>
                    <a:pt x="913" y="230"/>
                  </a:lnTo>
                  <a:lnTo>
                    <a:pt x="949" y="234"/>
                  </a:lnTo>
                  <a:lnTo>
                    <a:pt x="1050" y="265"/>
                  </a:lnTo>
                  <a:lnTo>
                    <a:pt x="1103" y="322"/>
                  </a:lnTo>
                  <a:lnTo>
                    <a:pt x="1125" y="358"/>
                  </a:lnTo>
                  <a:lnTo>
                    <a:pt x="1121" y="371"/>
                  </a:lnTo>
                  <a:lnTo>
                    <a:pt x="1156" y="406"/>
                  </a:lnTo>
                  <a:lnTo>
                    <a:pt x="1187" y="415"/>
                  </a:lnTo>
                  <a:lnTo>
                    <a:pt x="1200" y="419"/>
                  </a:lnTo>
                  <a:lnTo>
                    <a:pt x="1244" y="433"/>
                  </a:lnTo>
                  <a:lnTo>
                    <a:pt x="1306" y="477"/>
                  </a:lnTo>
                  <a:lnTo>
                    <a:pt x="1306" y="512"/>
                  </a:lnTo>
                  <a:lnTo>
                    <a:pt x="1345" y="544"/>
                  </a:lnTo>
                  <a:lnTo>
                    <a:pt x="1359" y="562"/>
                  </a:lnTo>
                  <a:lnTo>
                    <a:pt x="1412" y="623"/>
                  </a:lnTo>
                  <a:lnTo>
                    <a:pt x="1363" y="685"/>
                  </a:lnTo>
                  <a:lnTo>
                    <a:pt x="1345" y="685"/>
                  </a:lnTo>
                  <a:lnTo>
                    <a:pt x="1301" y="685"/>
                  </a:lnTo>
                  <a:lnTo>
                    <a:pt x="1284" y="654"/>
                  </a:lnTo>
                  <a:lnTo>
                    <a:pt x="1257" y="654"/>
                  </a:lnTo>
                  <a:lnTo>
                    <a:pt x="1240" y="667"/>
                  </a:lnTo>
                  <a:lnTo>
                    <a:pt x="1121" y="539"/>
                  </a:lnTo>
                  <a:lnTo>
                    <a:pt x="1046" y="544"/>
                  </a:lnTo>
                  <a:lnTo>
                    <a:pt x="975" y="539"/>
                  </a:lnTo>
                  <a:lnTo>
                    <a:pt x="949" y="553"/>
                  </a:lnTo>
                  <a:lnTo>
                    <a:pt x="927" y="575"/>
                  </a:lnTo>
                  <a:lnTo>
                    <a:pt x="918" y="562"/>
                  </a:lnTo>
                  <a:lnTo>
                    <a:pt x="887" y="601"/>
                  </a:lnTo>
                  <a:lnTo>
                    <a:pt x="838" y="654"/>
                  </a:lnTo>
                  <a:lnTo>
                    <a:pt x="799" y="637"/>
                  </a:lnTo>
                  <a:lnTo>
                    <a:pt x="750" y="619"/>
                  </a:lnTo>
                  <a:lnTo>
                    <a:pt x="719" y="619"/>
                  </a:lnTo>
                  <a:lnTo>
                    <a:pt x="670" y="601"/>
                  </a:lnTo>
                  <a:lnTo>
                    <a:pt x="648" y="619"/>
                  </a:lnTo>
                  <a:lnTo>
                    <a:pt x="617" y="539"/>
                  </a:lnTo>
                  <a:lnTo>
                    <a:pt x="560" y="464"/>
                  </a:lnTo>
                  <a:lnTo>
                    <a:pt x="507" y="371"/>
                  </a:lnTo>
                  <a:lnTo>
                    <a:pt x="454" y="322"/>
                  </a:lnTo>
                  <a:lnTo>
                    <a:pt x="418" y="274"/>
                  </a:lnTo>
                  <a:lnTo>
                    <a:pt x="330" y="274"/>
                  </a:lnTo>
                  <a:lnTo>
                    <a:pt x="251" y="296"/>
                  </a:lnTo>
                  <a:lnTo>
                    <a:pt x="211" y="265"/>
                  </a:lnTo>
                  <a:lnTo>
                    <a:pt x="132" y="243"/>
                  </a:lnTo>
                  <a:lnTo>
                    <a:pt x="92" y="217"/>
                  </a:lnTo>
                  <a:lnTo>
                    <a:pt x="92" y="119"/>
                  </a:lnTo>
                  <a:lnTo>
                    <a:pt x="97"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6661080" y="4591080"/>
              <a:ext cx="309960" cy="327240"/>
            </a:xfrm>
            <a:custGeom>
              <a:avLst/>
              <a:gdLst/>
              <a:ahLst/>
              <a:rect l="0" t="0" r="r" b="b"/>
              <a:pathLst>
                <a:path w="861" h="909">
                  <a:moveTo>
                    <a:pt x="0" y="26"/>
                  </a:moveTo>
                  <a:lnTo>
                    <a:pt x="88" y="0"/>
                  </a:lnTo>
                  <a:lnTo>
                    <a:pt x="189" y="39"/>
                  </a:lnTo>
                  <a:lnTo>
                    <a:pt x="207" y="79"/>
                  </a:lnTo>
                  <a:lnTo>
                    <a:pt x="207" y="101"/>
                  </a:lnTo>
                  <a:lnTo>
                    <a:pt x="230" y="105"/>
                  </a:lnTo>
                  <a:lnTo>
                    <a:pt x="230" y="119"/>
                  </a:lnTo>
                  <a:lnTo>
                    <a:pt x="265" y="132"/>
                  </a:lnTo>
                  <a:lnTo>
                    <a:pt x="265" y="163"/>
                  </a:lnTo>
                  <a:lnTo>
                    <a:pt x="367" y="260"/>
                  </a:lnTo>
                  <a:lnTo>
                    <a:pt x="384" y="260"/>
                  </a:lnTo>
                  <a:lnTo>
                    <a:pt x="402" y="286"/>
                  </a:lnTo>
                  <a:lnTo>
                    <a:pt x="415" y="308"/>
                  </a:lnTo>
                  <a:lnTo>
                    <a:pt x="433" y="308"/>
                  </a:lnTo>
                  <a:lnTo>
                    <a:pt x="503" y="339"/>
                  </a:lnTo>
                  <a:lnTo>
                    <a:pt x="640" y="357"/>
                  </a:lnTo>
                  <a:lnTo>
                    <a:pt x="644" y="472"/>
                  </a:lnTo>
                  <a:lnTo>
                    <a:pt x="676" y="490"/>
                  </a:lnTo>
                  <a:lnTo>
                    <a:pt x="672" y="525"/>
                  </a:lnTo>
                  <a:lnTo>
                    <a:pt x="751" y="587"/>
                  </a:lnTo>
                  <a:lnTo>
                    <a:pt x="822" y="613"/>
                  </a:lnTo>
                  <a:lnTo>
                    <a:pt x="822" y="799"/>
                  </a:lnTo>
                  <a:lnTo>
                    <a:pt x="861" y="874"/>
                  </a:lnTo>
                  <a:lnTo>
                    <a:pt x="839" y="896"/>
                  </a:lnTo>
                  <a:lnTo>
                    <a:pt x="791" y="909"/>
                  </a:lnTo>
                  <a:lnTo>
                    <a:pt x="782" y="838"/>
                  </a:lnTo>
                  <a:lnTo>
                    <a:pt x="703" y="909"/>
                  </a:lnTo>
                  <a:lnTo>
                    <a:pt x="644" y="803"/>
                  </a:lnTo>
                  <a:lnTo>
                    <a:pt x="613" y="741"/>
                  </a:lnTo>
                  <a:lnTo>
                    <a:pt x="521" y="649"/>
                  </a:lnTo>
                  <a:lnTo>
                    <a:pt x="494" y="649"/>
                  </a:lnTo>
                  <a:lnTo>
                    <a:pt x="406" y="600"/>
                  </a:lnTo>
                  <a:lnTo>
                    <a:pt x="389" y="556"/>
                  </a:lnTo>
                  <a:lnTo>
                    <a:pt x="389" y="521"/>
                  </a:lnTo>
                  <a:lnTo>
                    <a:pt x="318" y="388"/>
                  </a:lnTo>
                  <a:lnTo>
                    <a:pt x="287" y="308"/>
                  </a:lnTo>
                  <a:lnTo>
                    <a:pt x="194" y="233"/>
                  </a:lnTo>
                  <a:lnTo>
                    <a:pt x="74" y="119"/>
                  </a:lnTo>
                  <a:lnTo>
                    <a:pt x="0" y="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7210440" y="4240080"/>
              <a:ext cx="298800" cy="362160"/>
            </a:xfrm>
            <a:custGeom>
              <a:avLst/>
              <a:gdLst/>
              <a:ahLst/>
              <a:rect l="0" t="0" r="r" b="b"/>
              <a:pathLst>
                <a:path w="830" h="1006">
                  <a:moveTo>
                    <a:pt x="57" y="0"/>
                  </a:moveTo>
                  <a:lnTo>
                    <a:pt x="127" y="0"/>
                  </a:lnTo>
                  <a:lnTo>
                    <a:pt x="207" y="105"/>
                  </a:lnTo>
                  <a:lnTo>
                    <a:pt x="189" y="202"/>
                  </a:lnTo>
                  <a:lnTo>
                    <a:pt x="238" y="233"/>
                  </a:lnTo>
                  <a:lnTo>
                    <a:pt x="264" y="304"/>
                  </a:lnTo>
                  <a:lnTo>
                    <a:pt x="317" y="335"/>
                  </a:lnTo>
                  <a:lnTo>
                    <a:pt x="383" y="339"/>
                  </a:lnTo>
                  <a:lnTo>
                    <a:pt x="477" y="388"/>
                  </a:lnTo>
                  <a:lnTo>
                    <a:pt x="538" y="458"/>
                  </a:lnTo>
                  <a:lnTo>
                    <a:pt x="556" y="458"/>
                  </a:lnTo>
                  <a:lnTo>
                    <a:pt x="640" y="508"/>
                  </a:lnTo>
                  <a:lnTo>
                    <a:pt x="640" y="631"/>
                  </a:lnTo>
                  <a:lnTo>
                    <a:pt x="662" y="684"/>
                  </a:lnTo>
                  <a:lnTo>
                    <a:pt x="688" y="715"/>
                  </a:lnTo>
                  <a:lnTo>
                    <a:pt x="719" y="746"/>
                  </a:lnTo>
                  <a:lnTo>
                    <a:pt x="750" y="790"/>
                  </a:lnTo>
                  <a:lnTo>
                    <a:pt x="763" y="838"/>
                  </a:lnTo>
                  <a:lnTo>
                    <a:pt x="830" y="882"/>
                  </a:lnTo>
                  <a:lnTo>
                    <a:pt x="821" y="931"/>
                  </a:lnTo>
                  <a:lnTo>
                    <a:pt x="759" y="940"/>
                  </a:lnTo>
                  <a:lnTo>
                    <a:pt x="733" y="896"/>
                  </a:lnTo>
                  <a:lnTo>
                    <a:pt x="688" y="896"/>
                  </a:lnTo>
                  <a:lnTo>
                    <a:pt x="688" y="1006"/>
                  </a:lnTo>
                  <a:lnTo>
                    <a:pt x="644" y="1006"/>
                  </a:lnTo>
                  <a:lnTo>
                    <a:pt x="596" y="957"/>
                  </a:lnTo>
                  <a:lnTo>
                    <a:pt x="565" y="931"/>
                  </a:lnTo>
                  <a:lnTo>
                    <a:pt x="565" y="869"/>
                  </a:lnTo>
                  <a:lnTo>
                    <a:pt x="494" y="869"/>
                  </a:lnTo>
                  <a:lnTo>
                    <a:pt x="472" y="931"/>
                  </a:lnTo>
                  <a:lnTo>
                    <a:pt x="446" y="869"/>
                  </a:lnTo>
                  <a:lnTo>
                    <a:pt x="437" y="816"/>
                  </a:lnTo>
                  <a:lnTo>
                    <a:pt x="525" y="790"/>
                  </a:lnTo>
                  <a:lnTo>
                    <a:pt x="574" y="807"/>
                  </a:lnTo>
                  <a:lnTo>
                    <a:pt x="583" y="710"/>
                  </a:lnTo>
                  <a:lnTo>
                    <a:pt x="534" y="680"/>
                  </a:lnTo>
                  <a:lnTo>
                    <a:pt x="503" y="591"/>
                  </a:lnTo>
                  <a:lnTo>
                    <a:pt x="477" y="493"/>
                  </a:lnTo>
                  <a:lnTo>
                    <a:pt x="388" y="463"/>
                  </a:lnTo>
                  <a:lnTo>
                    <a:pt x="352" y="414"/>
                  </a:lnTo>
                  <a:lnTo>
                    <a:pt x="277" y="388"/>
                  </a:lnTo>
                  <a:lnTo>
                    <a:pt x="317" y="489"/>
                  </a:lnTo>
                  <a:lnTo>
                    <a:pt x="238" y="530"/>
                  </a:lnTo>
                  <a:lnTo>
                    <a:pt x="189" y="418"/>
                  </a:lnTo>
                  <a:lnTo>
                    <a:pt x="149" y="396"/>
                  </a:lnTo>
                  <a:lnTo>
                    <a:pt x="149" y="339"/>
                  </a:lnTo>
                  <a:lnTo>
                    <a:pt x="97" y="277"/>
                  </a:lnTo>
                  <a:lnTo>
                    <a:pt x="30" y="233"/>
                  </a:lnTo>
                  <a:lnTo>
                    <a:pt x="0" y="194"/>
                  </a:lnTo>
                  <a:lnTo>
                    <a:pt x="13" y="163"/>
                  </a:lnTo>
                  <a:lnTo>
                    <a:pt x="61" y="180"/>
                  </a:lnTo>
                  <a:lnTo>
                    <a:pt x="74" y="136"/>
                  </a:lnTo>
                  <a:lnTo>
                    <a:pt x="61" y="79"/>
                  </a:lnTo>
                  <a:lnTo>
                    <a:pt x="5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p:nvPr/>
          </p:nvSpPr>
          <p:spPr>
            <a:xfrm>
              <a:off x="7142040" y="3625920"/>
              <a:ext cx="221040" cy="309960"/>
            </a:xfrm>
            <a:custGeom>
              <a:avLst/>
              <a:gdLst/>
              <a:ahLst/>
              <a:rect l="0" t="0" r="r" b="b"/>
              <a:pathLst>
                <a:path w="614" h="861">
                  <a:moveTo>
                    <a:pt x="127" y="0"/>
                  </a:moveTo>
                  <a:lnTo>
                    <a:pt x="247" y="57"/>
                  </a:lnTo>
                  <a:lnTo>
                    <a:pt x="322" y="123"/>
                  </a:lnTo>
                  <a:lnTo>
                    <a:pt x="367" y="198"/>
                  </a:lnTo>
                  <a:lnTo>
                    <a:pt x="411" y="198"/>
                  </a:lnTo>
                  <a:lnTo>
                    <a:pt x="397" y="247"/>
                  </a:lnTo>
                  <a:lnTo>
                    <a:pt x="446" y="278"/>
                  </a:lnTo>
                  <a:lnTo>
                    <a:pt x="478" y="327"/>
                  </a:lnTo>
                  <a:lnTo>
                    <a:pt x="562" y="424"/>
                  </a:lnTo>
                  <a:lnTo>
                    <a:pt x="614" y="543"/>
                  </a:lnTo>
                  <a:lnTo>
                    <a:pt x="509" y="530"/>
                  </a:lnTo>
                  <a:lnTo>
                    <a:pt x="428" y="516"/>
                  </a:lnTo>
                  <a:lnTo>
                    <a:pt x="487" y="596"/>
                  </a:lnTo>
                  <a:lnTo>
                    <a:pt x="487" y="650"/>
                  </a:lnTo>
                  <a:lnTo>
                    <a:pt x="487" y="698"/>
                  </a:lnTo>
                  <a:lnTo>
                    <a:pt x="455" y="672"/>
                  </a:lnTo>
                  <a:lnTo>
                    <a:pt x="415" y="631"/>
                  </a:lnTo>
                  <a:lnTo>
                    <a:pt x="340" y="578"/>
                  </a:lnTo>
                  <a:lnTo>
                    <a:pt x="305" y="556"/>
                  </a:lnTo>
                  <a:lnTo>
                    <a:pt x="239" y="578"/>
                  </a:lnTo>
                  <a:lnTo>
                    <a:pt x="199" y="596"/>
                  </a:lnTo>
                  <a:lnTo>
                    <a:pt x="221" y="640"/>
                  </a:lnTo>
                  <a:lnTo>
                    <a:pt x="287" y="672"/>
                  </a:lnTo>
                  <a:lnTo>
                    <a:pt x="353" y="703"/>
                  </a:lnTo>
                  <a:lnTo>
                    <a:pt x="371" y="764"/>
                  </a:lnTo>
                  <a:lnTo>
                    <a:pt x="367" y="839"/>
                  </a:lnTo>
                  <a:lnTo>
                    <a:pt x="367" y="861"/>
                  </a:lnTo>
                  <a:lnTo>
                    <a:pt x="340" y="861"/>
                  </a:lnTo>
                  <a:lnTo>
                    <a:pt x="305" y="839"/>
                  </a:lnTo>
                  <a:lnTo>
                    <a:pt x="287" y="826"/>
                  </a:lnTo>
                  <a:lnTo>
                    <a:pt x="265" y="813"/>
                  </a:lnTo>
                  <a:lnTo>
                    <a:pt x="239" y="853"/>
                  </a:lnTo>
                  <a:lnTo>
                    <a:pt x="199" y="861"/>
                  </a:lnTo>
                  <a:lnTo>
                    <a:pt x="168" y="826"/>
                  </a:lnTo>
                  <a:lnTo>
                    <a:pt x="168" y="751"/>
                  </a:lnTo>
                  <a:lnTo>
                    <a:pt x="159" y="716"/>
                  </a:lnTo>
                  <a:lnTo>
                    <a:pt x="119" y="689"/>
                  </a:lnTo>
                  <a:lnTo>
                    <a:pt x="79" y="729"/>
                  </a:lnTo>
                  <a:lnTo>
                    <a:pt x="13" y="729"/>
                  </a:lnTo>
                  <a:lnTo>
                    <a:pt x="0" y="698"/>
                  </a:lnTo>
                  <a:lnTo>
                    <a:pt x="13" y="609"/>
                  </a:lnTo>
                  <a:lnTo>
                    <a:pt x="66" y="561"/>
                  </a:lnTo>
                  <a:lnTo>
                    <a:pt x="52" y="433"/>
                  </a:lnTo>
                  <a:lnTo>
                    <a:pt x="52" y="402"/>
                  </a:lnTo>
                  <a:lnTo>
                    <a:pt x="101" y="389"/>
                  </a:lnTo>
                  <a:lnTo>
                    <a:pt x="141" y="424"/>
                  </a:lnTo>
                  <a:lnTo>
                    <a:pt x="217" y="437"/>
                  </a:lnTo>
                  <a:lnTo>
                    <a:pt x="217" y="384"/>
                  </a:lnTo>
                  <a:lnTo>
                    <a:pt x="186" y="353"/>
                  </a:lnTo>
                  <a:lnTo>
                    <a:pt x="168" y="327"/>
                  </a:lnTo>
                  <a:lnTo>
                    <a:pt x="190" y="327"/>
                  </a:lnTo>
                  <a:lnTo>
                    <a:pt x="208" y="327"/>
                  </a:lnTo>
                  <a:lnTo>
                    <a:pt x="221" y="327"/>
                  </a:lnTo>
                  <a:lnTo>
                    <a:pt x="239" y="327"/>
                  </a:lnTo>
                  <a:lnTo>
                    <a:pt x="265" y="300"/>
                  </a:lnTo>
                  <a:lnTo>
                    <a:pt x="252" y="278"/>
                  </a:lnTo>
                  <a:lnTo>
                    <a:pt x="234" y="217"/>
                  </a:lnTo>
                  <a:lnTo>
                    <a:pt x="186" y="163"/>
                  </a:lnTo>
                  <a:lnTo>
                    <a:pt x="119" y="127"/>
                  </a:lnTo>
                  <a:lnTo>
                    <a:pt x="97" y="79"/>
                  </a:lnTo>
                  <a:lnTo>
                    <a:pt x="12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6891480" y="3262320"/>
              <a:ext cx="241560" cy="248040"/>
            </a:xfrm>
            <a:custGeom>
              <a:avLst/>
              <a:gdLst/>
              <a:ahLst/>
              <a:rect l="0" t="0" r="r" b="b"/>
              <a:pathLst>
                <a:path w="671" h="689">
                  <a:moveTo>
                    <a:pt x="0" y="0"/>
                  </a:moveTo>
                  <a:lnTo>
                    <a:pt x="61" y="0"/>
                  </a:lnTo>
                  <a:lnTo>
                    <a:pt x="83" y="44"/>
                  </a:lnTo>
                  <a:lnTo>
                    <a:pt x="171" y="119"/>
                  </a:lnTo>
                  <a:lnTo>
                    <a:pt x="211" y="199"/>
                  </a:lnTo>
                  <a:lnTo>
                    <a:pt x="273" y="212"/>
                  </a:lnTo>
                  <a:lnTo>
                    <a:pt x="321" y="225"/>
                  </a:lnTo>
                  <a:lnTo>
                    <a:pt x="367" y="256"/>
                  </a:lnTo>
                  <a:lnTo>
                    <a:pt x="411" y="256"/>
                  </a:lnTo>
                  <a:lnTo>
                    <a:pt x="468" y="305"/>
                  </a:lnTo>
                  <a:lnTo>
                    <a:pt x="516" y="349"/>
                  </a:lnTo>
                  <a:lnTo>
                    <a:pt x="574" y="371"/>
                  </a:lnTo>
                  <a:lnTo>
                    <a:pt x="565" y="397"/>
                  </a:lnTo>
                  <a:lnTo>
                    <a:pt x="534" y="411"/>
                  </a:lnTo>
                  <a:lnTo>
                    <a:pt x="503" y="411"/>
                  </a:lnTo>
                  <a:lnTo>
                    <a:pt x="486" y="437"/>
                  </a:lnTo>
                  <a:lnTo>
                    <a:pt x="547" y="486"/>
                  </a:lnTo>
                  <a:lnTo>
                    <a:pt x="596" y="535"/>
                  </a:lnTo>
                  <a:lnTo>
                    <a:pt x="671" y="584"/>
                  </a:lnTo>
                  <a:lnTo>
                    <a:pt x="622" y="641"/>
                  </a:lnTo>
                  <a:lnTo>
                    <a:pt x="578" y="654"/>
                  </a:lnTo>
                  <a:lnTo>
                    <a:pt x="591" y="689"/>
                  </a:lnTo>
                  <a:lnTo>
                    <a:pt x="516" y="689"/>
                  </a:lnTo>
                  <a:lnTo>
                    <a:pt x="494" y="663"/>
                  </a:lnTo>
                  <a:lnTo>
                    <a:pt x="437" y="597"/>
                  </a:lnTo>
                  <a:lnTo>
                    <a:pt x="397" y="539"/>
                  </a:lnTo>
                  <a:lnTo>
                    <a:pt x="336" y="441"/>
                  </a:lnTo>
                  <a:lnTo>
                    <a:pt x="260" y="371"/>
                  </a:lnTo>
                  <a:lnTo>
                    <a:pt x="180" y="269"/>
                  </a:lnTo>
                  <a:lnTo>
                    <a:pt x="132" y="230"/>
                  </a:lnTo>
                  <a:lnTo>
                    <a:pt x="92" y="212"/>
                  </a:lnTo>
                  <a:lnTo>
                    <a:pt x="74" y="149"/>
                  </a:lnTo>
                  <a:lnTo>
                    <a:pt x="4" y="105"/>
                  </a:lnTo>
                  <a:lnTo>
                    <a:pt x="4"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1" name=""/>
          <p:cNvSpPr/>
          <p:nvPr/>
        </p:nvSpPr>
        <p:spPr>
          <a:xfrm>
            <a:off x="3740040" y="3773520"/>
            <a:ext cx="1748160" cy="1894320"/>
          </a:xfrm>
          <a:custGeom>
            <a:avLst/>
            <a:gdLst/>
            <a:ahLst/>
            <a:rect l="0" t="0" r="r" b="b"/>
            <a:pathLst>
              <a:path w="4856" h="5262">
                <a:moveTo>
                  <a:pt x="3630" y="626"/>
                </a:moveTo>
                <a:lnTo>
                  <a:pt x="3709" y="846"/>
                </a:lnTo>
                <a:lnTo>
                  <a:pt x="3859" y="1181"/>
                </a:lnTo>
                <a:lnTo>
                  <a:pt x="4163" y="1716"/>
                </a:lnTo>
                <a:lnTo>
                  <a:pt x="4274" y="1791"/>
                </a:lnTo>
                <a:lnTo>
                  <a:pt x="4344" y="1945"/>
                </a:lnTo>
                <a:lnTo>
                  <a:pt x="4582" y="1941"/>
                </a:lnTo>
                <a:lnTo>
                  <a:pt x="4745" y="1888"/>
                </a:lnTo>
                <a:lnTo>
                  <a:pt x="4856" y="1888"/>
                </a:lnTo>
                <a:lnTo>
                  <a:pt x="4842" y="2100"/>
                </a:lnTo>
                <a:lnTo>
                  <a:pt x="4807" y="2219"/>
                </a:lnTo>
                <a:lnTo>
                  <a:pt x="4371" y="2686"/>
                </a:lnTo>
                <a:lnTo>
                  <a:pt x="3974" y="3180"/>
                </a:lnTo>
                <a:lnTo>
                  <a:pt x="3978" y="3365"/>
                </a:lnTo>
                <a:lnTo>
                  <a:pt x="4093" y="3502"/>
                </a:lnTo>
                <a:lnTo>
                  <a:pt x="4035" y="3612"/>
                </a:lnTo>
                <a:lnTo>
                  <a:pt x="4066" y="3753"/>
                </a:lnTo>
                <a:lnTo>
                  <a:pt x="4035" y="3859"/>
                </a:lnTo>
                <a:lnTo>
                  <a:pt x="3938" y="3953"/>
                </a:lnTo>
                <a:lnTo>
                  <a:pt x="3859" y="3953"/>
                </a:lnTo>
                <a:lnTo>
                  <a:pt x="3722" y="4107"/>
                </a:lnTo>
                <a:lnTo>
                  <a:pt x="3603" y="4283"/>
                </a:lnTo>
                <a:lnTo>
                  <a:pt x="3630" y="4482"/>
                </a:lnTo>
                <a:lnTo>
                  <a:pt x="3511" y="4570"/>
                </a:lnTo>
                <a:lnTo>
                  <a:pt x="3400" y="4773"/>
                </a:lnTo>
                <a:lnTo>
                  <a:pt x="3268" y="4962"/>
                </a:lnTo>
                <a:lnTo>
                  <a:pt x="3193" y="5037"/>
                </a:lnTo>
                <a:lnTo>
                  <a:pt x="3131" y="5051"/>
                </a:lnTo>
                <a:lnTo>
                  <a:pt x="3017" y="5174"/>
                </a:lnTo>
                <a:lnTo>
                  <a:pt x="2836" y="5245"/>
                </a:lnTo>
                <a:lnTo>
                  <a:pt x="2602" y="5262"/>
                </a:lnTo>
                <a:lnTo>
                  <a:pt x="2479" y="5179"/>
                </a:lnTo>
                <a:lnTo>
                  <a:pt x="2461" y="5099"/>
                </a:lnTo>
                <a:lnTo>
                  <a:pt x="2435" y="4993"/>
                </a:lnTo>
                <a:lnTo>
                  <a:pt x="2345" y="4936"/>
                </a:lnTo>
                <a:lnTo>
                  <a:pt x="2279" y="4733"/>
                </a:lnTo>
                <a:lnTo>
                  <a:pt x="2253" y="4636"/>
                </a:lnTo>
                <a:lnTo>
                  <a:pt x="2248" y="4513"/>
                </a:lnTo>
                <a:lnTo>
                  <a:pt x="2209" y="4424"/>
                </a:lnTo>
                <a:lnTo>
                  <a:pt x="2196" y="4367"/>
                </a:lnTo>
                <a:lnTo>
                  <a:pt x="2129" y="4279"/>
                </a:lnTo>
                <a:lnTo>
                  <a:pt x="2046" y="4204"/>
                </a:lnTo>
                <a:lnTo>
                  <a:pt x="1993" y="4080"/>
                </a:lnTo>
                <a:lnTo>
                  <a:pt x="1953" y="3992"/>
                </a:lnTo>
                <a:lnTo>
                  <a:pt x="1966" y="3846"/>
                </a:lnTo>
                <a:lnTo>
                  <a:pt x="2090" y="3625"/>
                </a:lnTo>
                <a:lnTo>
                  <a:pt x="2107" y="3387"/>
                </a:lnTo>
                <a:lnTo>
                  <a:pt x="2024" y="3118"/>
                </a:lnTo>
                <a:lnTo>
                  <a:pt x="1896" y="3012"/>
                </a:lnTo>
                <a:lnTo>
                  <a:pt x="1807" y="2867"/>
                </a:lnTo>
                <a:lnTo>
                  <a:pt x="1838" y="2638"/>
                </a:lnTo>
                <a:lnTo>
                  <a:pt x="1777" y="2470"/>
                </a:lnTo>
                <a:lnTo>
                  <a:pt x="1627" y="2452"/>
                </a:lnTo>
                <a:lnTo>
                  <a:pt x="1464" y="2320"/>
                </a:lnTo>
                <a:lnTo>
                  <a:pt x="1270" y="2249"/>
                </a:lnTo>
                <a:lnTo>
                  <a:pt x="1062" y="2364"/>
                </a:lnTo>
                <a:lnTo>
                  <a:pt x="520" y="2329"/>
                </a:lnTo>
                <a:lnTo>
                  <a:pt x="224" y="2042"/>
                </a:lnTo>
                <a:lnTo>
                  <a:pt x="0" y="1654"/>
                </a:lnTo>
                <a:lnTo>
                  <a:pt x="39" y="1526"/>
                </a:lnTo>
                <a:lnTo>
                  <a:pt x="141" y="1425"/>
                </a:lnTo>
                <a:lnTo>
                  <a:pt x="189" y="1155"/>
                </a:lnTo>
                <a:lnTo>
                  <a:pt x="260" y="956"/>
                </a:lnTo>
                <a:lnTo>
                  <a:pt x="463" y="754"/>
                </a:lnTo>
                <a:lnTo>
                  <a:pt x="683" y="665"/>
                </a:lnTo>
                <a:lnTo>
                  <a:pt x="877" y="458"/>
                </a:lnTo>
                <a:lnTo>
                  <a:pt x="926" y="366"/>
                </a:lnTo>
                <a:lnTo>
                  <a:pt x="1190" y="136"/>
                </a:lnTo>
                <a:lnTo>
                  <a:pt x="1358" y="229"/>
                </a:lnTo>
                <a:lnTo>
                  <a:pt x="1477" y="220"/>
                </a:lnTo>
                <a:lnTo>
                  <a:pt x="1622" y="97"/>
                </a:lnTo>
                <a:lnTo>
                  <a:pt x="1785" y="83"/>
                </a:lnTo>
                <a:lnTo>
                  <a:pt x="1896" y="114"/>
                </a:lnTo>
                <a:lnTo>
                  <a:pt x="2002" y="13"/>
                </a:lnTo>
                <a:lnTo>
                  <a:pt x="2134" y="0"/>
                </a:lnTo>
                <a:lnTo>
                  <a:pt x="2165" y="180"/>
                </a:lnTo>
                <a:lnTo>
                  <a:pt x="2253" y="308"/>
                </a:lnTo>
                <a:lnTo>
                  <a:pt x="2505" y="440"/>
                </a:lnTo>
                <a:lnTo>
                  <a:pt x="2708" y="463"/>
                </a:lnTo>
                <a:lnTo>
                  <a:pt x="2730" y="317"/>
                </a:lnTo>
                <a:lnTo>
                  <a:pt x="2893" y="317"/>
                </a:lnTo>
                <a:lnTo>
                  <a:pt x="3078" y="410"/>
                </a:lnTo>
                <a:lnTo>
                  <a:pt x="3286" y="458"/>
                </a:lnTo>
                <a:lnTo>
                  <a:pt x="3467" y="396"/>
                </a:lnTo>
                <a:lnTo>
                  <a:pt x="3630" y="6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52" name=""/>
          <p:cNvGrpSpPr/>
          <p:nvPr/>
        </p:nvGrpSpPr>
        <p:grpSpPr>
          <a:xfrm>
            <a:off x="3859200" y="2747880"/>
            <a:ext cx="770400" cy="651600"/>
            <a:chOff x="3859200" y="2747880"/>
            <a:chExt cx="770400" cy="651600"/>
          </a:xfrm>
        </p:grpSpPr>
        <p:grpSp>
          <p:nvGrpSpPr>
            <p:cNvPr id="653" name=""/>
            <p:cNvGrpSpPr/>
            <p:nvPr/>
          </p:nvGrpSpPr>
          <p:grpSpPr>
            <a:xfrm>
              <a:off x="4165560" y="3156120"/>
              <a:ext cx="236880" cy="243360"/>
              <a:chOff x="4165560" y="3156120"/>
              <a:chExt cx="236880" cy="243360"/>
            </a:xfrm>
          </p:grpSpPr>
          <p:sp>
            <p:nvSpPr>
              <p:cNvPr id="654" name=""/>
              <p:cNvSpPr/>
              <p:nvPr/>
            </p:nvSpPr>
            <p:spPr>
              <a:xfrm>
                <a:off x="4165560" y="3249720"/>
                <a:ext cx="113040" cy="132120"/>
              </a:xfrm>
              <a:custGeom>
                <a:avLst/>
                <a:gdLst/>
                <a:ahLst/>
                <a:rect l="0" t="0" r="r" b="b"/>
                <a:pathLst>
                  <a:path w="314" h="367">
                    <a:moveTo>
                      <a:pt x="70" y="105"/>
                    </a:moveTo>
                    <a:lnTo>
                      <a:pt x="97" y="66"/>
                    </a:lnTo>
                    <a:lnTo>
                      <a:pt x="149" y="66"/>
                    </a:lnTo>
                    <a:lnTo>
                      <a:pt x="234" y="0"/>
                    </a:lnTo>
                    <a:lnTo>
                      <a:pt x="252" y="44"/>
                    </a:lnTo>
                    <a:lnTo>
                      <a:pt x="296" y="44"/>
                    </a:lnTo>
                    <a:lnTo>
                      <a:pt x="314" y="66"/>
                    </a:lnTo>
                    <a:lnTo>
                      <a:pt x="287" y="105"/>
                    </a:lnTo>
                    <a:lnTo>
                      <a:pt x="252" y="123"/>
                    </a:lnTo>
                    <a:lnTo>
                      <a:pt x="252" y="154"/>
                    </a:lnTo>
                    <a:lnTo>
                      <a:pt x="247" y="171"/>
                    </a:lnTo>
                    <a:lnTo>
                      <a:pt x="239" y="199"/>
                    </a:lnTo>
                    <a:lnTo>
                      <a:pt x="252" y="230"/>
                    </a:lnTo>
                    <a:lnTo>
                      <a:pt x="234" y="261"/>
                    </a:lnTo>
                    <a:lnTo>
                      <a:pt x="208" y="274"/>
                    </a:lnTo>
                    <a:lnTo>
                      <a:pt x="181" y="274"/>
                    </a:lnTo>
                    <a:lnTo>
                      <a:pt x="177" y="287"/>
                    </a:lnTo>
                    <a:lnTo>
                      <a:pt x="164" y="305"/>
                    </a:lnTo>
                    <a:lnTo>
                      <a:pt x="127" y="318"/>
                    </a:lnTo>
                    <a:lnTo>
                      <a:pt x="119" y="305"/>
                    </a:lnTo>
                    <a:lnTo>
                      <a:pt x="88" y="331"/>
                    </a:lnTo>
                    <a:lnTo>
                      <a:pt x="79" y="340"/>
                    </a:lnTo>
                    <a:lnTo>
                      <a:pt x="39" y="367"/>
                    </a:lnTo>
                    <a:lnTo>
                      <a:pt x="22" y="367"/>
                    </a:lnTo>
                    <a:lnTo>
                      <a:pt x="13" y="349"/>
                    </a:lnTo>
                    <a:lnTo>
                      <a:pt x="8" y="305"/>
                    </a:lnTo>
                    <a:lnTo>
                      <a:pt x="0" y="300"/>
                    </a:lnTo>
                    <a:lnTo>
                      <a:pt x="0" y="265"/>
                    </a:lnTo>
                    <a:lnTo>
                      <a:pt x="22" y="247"/>
                    </a:lnTo>
                    <a:lnTo>
                      <a:pt x="44" y="234"/>
                    </a:lnTo>
                    <a:lnTo>
                      <a:pt x="66" y="203"/>
                    </a:lnTo>
                    <a:lnTo>
                      <a:pt x="88" y="203"/>
                    </a:lnTo>
                    <a:lnTo>
                      <a:pt x="101" y="212"/>
                    </a:lnTo>
                    <a:lnTo>
                      <a:pt x="127" y="203"/>
                    </a:lnTo>
                    <a:lnTo>
                      <a:pt x="101" y="199"/>
                    </a:lnTo>
                    <a:lnTo>
                      <a:pt x="70"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4268880" y="3156120"/>
                <a:ext cx="133560" cy="243360"/>
              </a:xfrm>
              <a:custGeom>
                <a:avLst/>
                <a:gdLst/>
                <a:ahLst/>
                <a:rect l="0" t="0" r="r" b="b"/>
                <a:pathLst>
                  <a:path w="371" h="676">
                    <a:moveTo>
                      <a:pt x="114" y="97"/>
                    </a:moveTo>
                    <a:lnTo>
                      <a:pt x="141" y="70"/>
                    </a:lnTo>
                    <a:lnTo>
                      <a:pt x="217" y="83"/>
                    </a:lnTo>
                    <a:lnTo>
                      <a:pt x="230" y="61"/>
                    </a:lnTo>
                    <a:lnTo>
                      <a:pt x="247" y="39"/>
                    </a:lnTo>
                    <a:lnTo>
                      <a:pt x="261" y="39"/>
                    </a:lnTo>
                    <a:lnTo>
                      <a:pt x="278" y="30"/>
                    </a:lnTo>
                    <a:lnTo>
                      <a:pt x="300" y="13"/>
                    </a:lnTo>
                    <a:lnTo>
                      <a:pt x="331" y="0"/>
                    </a:lnTo>
                    <a:lnTo>
                      <a:pt x="371" y="8"/>
                    </a:lnTo>
                    <a:lnTo>
                      <a:pt x="362" y="39"/>
                    </a:lnTo>
                    <a:lnTo>
                      <a:pt x="349" y="61"/>
                    </a:lnTo>
                    <a:lnTo>
                      <a:pt x="331" y="70"/>
                    </a:lnTo>
                    <a:lnTo>
                      <a:pt x="318" y="83"/>
                    </a:lnTo>
                    <a:lnTo>
                      <a:pt x="265" y="97"/>
                    </a:lnTo>
                    <a:lnTo>
                      <a:pt x="265" y="132"/>
                    </a:lnTo>
                    <a:lnTo>
                      <a:pt x="278" y="145"/>
                    </a:lnTo>
                    <a:lnTo>
                      <a:pt x="322" y="132"/>
                    </a:lnTo>
                    <a:lnTo>
                      <a:pt x="362" y="114"/>
                    </a:lnTo>
                    <a:lnTo>
                      <a:pt x="371" y="132"/>
                    </a:lnTo>
                    <a:lnTo>
                      <a:pt x="371" y="177"/>
                    </a:lnTo>
                    <a:lnTo>
                      <a:pt x="340" y="186"/>
                    </a:lnTo>
                    <a:lnTo>
                      <a:pt x="309" y="186"/>
                    </a:lnTo>
                    <a:lnTo>
                      <a:pt x="287" y="212"/>
                    </a:lnTo>
                    <a:lnTo>
                      <a:pt x="278" y="225"/>
                    </a:lnTo>
                    <a:lnTo>
                      <a:pt x="278" y="252"/>
                    </a:lnTo>
                    <a:lnTo>
                      <a:pt x="300" y="287"/>
                    </a:lnTo>
                    <a:lnTo>
                      <a:pt x="322" y="305"/>
                    </a:lnTo>
                    <a:lnTo>
                      <a:pt x="340" y="331"/>
                    </a:lnTo>
                    <a:lnTo>
                      <a:pt x="349" y="367"/>
                    </a:lnTo>
                    <a:lnTo>
                      <a:pt x="353" y="397"/>
                    </a:lnTo>
                    <a:lnTo>
                      <a:pt x="371" y="437"/>
                    </a:lnTo>
                    <a:lnTo>
                      <a:pt x="371" y="494"/>
                    </a:lnTo>
                    <a:lnTo>
                      <a:pt x="353" y="526"/>
                    </a:lnTo>
                    <a:lnTo>
                      <a:pt x="322" y="553"/>
                    </a:lnTo>
                    <a:lnTo>
                      <a:pt x="318" y="566"/>
                    </a:lnTo>
                    <a:lnTo>
                      <a:pt x="331" y="601"/>
                    </a:lnTo>
                    <a:lnTo>
                      <a:pt x="349" y="632"/>
                    </a:lnTo>
                    <a:lnTo>
                      <a:pt x="300" y="632"/>
                    </a:lnTo>
                    <a:lnTo>
                      <a:pt x="261" y="632"/>
                    </a:lnTo>
                    <a:lnTo>
                      <a:pt x="247" y="628"/>
                    </a:lnTo>
                    <a:lnTo>
                      <a:pt x="217" y="628"/>
                    </a:lnTo>
                    <a:lnTo>
                      <a:pt x="171" y="632"/>
                    </a:lnTo>
                    <a:lnTo>
                      <a:pt x="141" y="645"/>
                    </a:lnTo>
                    <a:lnTo>
                      <a:pt x="114" y="645"/>
                    </a:lnTo>
                    <a:lnTo>
                      <a:pt x="101" y="659"/>
                    </a:lnTo>
                    <a:lnTo>
                      <a:pt x="66" y="676"/>
                    </a:lnTo>
                    <a:lnTo>
                      <a:pt x="52" y="663"/>
                    </a:lnTo>
                    <a:lnTo>
                      <a:pt x="39" y="645"/>
                    </a:lnTo>
                    <a:lnTo>
                      <a:pt x="13" y="641"/>
                    </a:lnTo>
                    <a:lnTo>
                      <a:pt x="0" y="632"/>
                    </a:lnTo>
                    <a:lnTo>
                      <a:pt x="0" y="601"/>
                    </a:lnTo>
                    <a:lnTo>
                      <a:pt x="13" y="562"/>
                    </a:lnTo>
                    <a:lnTo>
                      <a:pt x="39" y="562"/>
                    </a:lnTo>
                    <a:lnTo>
                      <a:pt x="66" y="553"/>
                    </a:lnTo>
                    <a:lnTo>
                      <a:pt x="97" y="553"/>
                    </a:lnTo>
                    <a:lnTo>
                      <a:pt x="97" y="548"/>
                    </a:lnTo>
                    <a:lnTo>
                      <a:pt x="66" y="526"/>
                    </a:lnTo>
                    <a:lnTo>
                      <a:pt x="66" y="503"/>
                    </a:lnTo>
                    <a:lnTo>
                      <a:pt x="66" y="486"/>
                    </a:lnTo>
                    <a:lnTo>
                      <a:pt x="97" y="472"/>
                    </a:lnTo>
                    <a:lnTo>
                      <a:pt x="110" y="459"/>
                    </a:lnTo>
                    <a:lnTo>
                      <a:pt x="127" y="455"/>
                    </a:lnTo>
                    <a:lnTo>
                      <a:pt x="154" y="455"/>
                    </a:lnTo>
                    <a:lnTo>
                      <a:pt x="167" y="446"/>
                    </a:lnTo>
                    <a:lnTo>
                      <a:pt x="171" y="380"/>
                    </a:lnTo>
                    <a:lnTo>
                      <a:pt x="199" y="331"/>
                    </a:lnTo>
                    <a:lnTo>
                      <a:pt x="199" y="305"/>
                    </a:lnTo>
                    <a:lnTo>
                      <a:pt x="141" y="300"/>
                    </a:lnTo>
                    <a:lnTo>
                      <a:pt x="158" y="261"/>
                    </a:lnTo>
                    <a:lnTo>
                      <a:pt x="114" y="239"/>
                    </a:lnTo>
                    <a:lnTo>
                      <a:pt x="79" y="243"/>
                    </a:lnTo>
                    <a:lnTo>
                      <a:pt x="127" y="186"/>
                    </a:lnTo>
                    <a:lnTo>
                      <a:pt x="114" y="97"/>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6" name=""/>
            <p:cNvSpPr/>
            <p:nvPr/>
          </p:nvSpPr>
          <p:spPr>
            <a:xfrm>
              <a:off x="3859200" y="2747880"/>
              <a:ext cx="770400" cy="411480"/>
            </a:xfrm>
            <a:custGeom>
              <a:avLst/>
              <a:gdLst/>
              <a:ahLst/>
              <a:rect l="0" t="0" r="r" b="b"/>
              <a:pathLst>
                <a:path w="2140" h="1143">
                  <a:moveTo>
                    <a:pt x="0" y="1143"/>
                  </a:moveTo>
                  <a:lnTo>
                    <a:pt x="132" y="1112"/>
                  </a:lnTo>
                  <a:lnTo>
                    <a:pt x="180" y="1068"/>
                  </a:lnTo>
                  <a:lnTo>
                    <a:pt x="211" y="1032"/>
                  </a:lnTo>
                  <a:lnTo>
                    <a:pt x="224" y="1006"/>
                  </a:lnTo>
                  <a:lnTo>
                    <a:pt x="255" y="1006"/>
                  </a:lnTo>
                  <a:lnTo>
                    <a:pt x="286" y="984"/>
                  </a:lnTo>
                  <a:lnTo>
                    <a:pt x="330" y="984"/>
                  </a:lnTo>
                  <a:lnTo>
                    <a:pt x="357" y="984"/>
                  </a:lnTo>
                  <a:lnTo>
                    <a:pt x="388" y="984"/>
                  </a:lnTo>
                  <a:lnTo>
                    <a:pt x="401" y="984"/>
                  </a:lnTo>
                  <a:lnTo>
                    <a:pt x="432" y="953"/>
                  </a:lnTo>
                  <a:lnTo>
                    <a:pt x="449" y="927"/>
                  </a:lnTo>
                  <a:lnTo>
                    <a:pt x="489" y="900"/>
                  </a:lnTo>
                  <a:lnTo>
                    <a:pt x="520" y="896"/>
                  </a:lnTo>
                  <a:lnTo>
                    <a:pt x="547" y="878"/>
                  </a:lnTo>
                  <a:lnTo>
                    <a:pt x="578" y="869"/>
                  </a:lnTo>
                  <a:lnTo>
                    <a:pt x="600" y="852"/>
                  </a:lnTo>
                  <a:lnTo>
                    <a:pt x="631" y="838"/>
                  </a:lnTo>
                  <a:lnTo>
                    <a:pt x="662" y="821"/>
                  </a:lnTo>
                  <a:lnTo>
                    <a:pt x="702" y="799"/>
                  </a:lnTo>
                  <a:lnTo>
                    <a:pt x="746" y="803"/>
                  </a:lnTo>
                  <a:lnTo>
                    <a:pt x="807" y="821"/>
                  </a:lnTo>
                  <a:lnTo>
                    <a:pt x="869" y="821"/>
                  </a:lnTo>
                  <a:lnTo>
                    <a:pt x="940" y="799"/>
                  </a:lnTo>
                  <a:lnTo>
                    <a:pt x="971" y="790"/>
                  </a:lnTo>
                  <a:lnTo>
                    <a:pt x="997" y="741"/>
                  </a:lnTo>
                  <a:lnTo>
                    <a:pt x="1028" y="706"/>
                  </a:lnTo>
                  <a:lnTo>
                    <a:pt x="1085" y="666"/>
                  </a:lnTo>
                  <a:lnTo>
                    <a:pt x="1103" y="644"/>
                  </a:lnTo>
                  <a:lnTo>
                    <a:pt x="1103" y="613"/>
                  </a:lnTo>
                  <a:lnTo>
                    <a:pt x="1147" y="587"/>
                  </a:lnTo>
                  <a:lnTo>
                    <a:pt x="1173" y="560"/>
                  </a:lnTo>
                  <a:lnTo>
                    <a:pt x="1191" y="537"/>
                  </a:lnTo>
                  <a:lnTo>
                    <a:pt x="1204" y="524"/>
                  </a:lnTo>
                  <a:lnTo>
                    <a:pt x="1284" y="476"/>
                  </a:lnTo>
                  <a:lnTo>
                    <a:pt x="1284" y="524"/>
                  </a:lnTo>
                  <a:lnTo>
                    <a:pt x="1266" y="551"/>
                  </a:lnTo>
                  <a:lnTo>
                    <a:pt x="1284" y="574"/>
                  </a:lnTo>
                  <a:lnTo>
                    <a:pt x="1341" y="587"/>
                  </a:lnTo>
                  <a:lnTo>
                    <a:pt x="1372" y="587"/>
                  </a:lnTo>
                  <a:lnTo>
                    <a:pt x="1403" y="560"/>
                  </a:lnTo>
                  <a:lnTo>
                    <a:pt x="1429" y="524"/>
                  </a:lnTo>
                  <a:lnTo>
                    <a:pt x="1429" y="502"/>
                  </a:lnTo>
                  <a:lnTo>
                    <a:pt x="1447" y="476"/>
                  </a:lnTo>
                  <a:lnTo>
                    <a:pt x="1447" y="458"/>
                  </a:lnTo>
                  <a:lnTo>
                    <a:pt x="1473" y="418"/>
                  </a:lnTo>
                  <a:lnTo>
                    <a:pt x="1491" y="401"/>
                  </a:lnTo>
                  <a:lnTo>
                    <a:pt x="1526" y="401"/>
                  </a:lnTo>
                  <a:lnTo>
                    <a:pt x="1611" y="401"/>
                  </a:lnTo>
                  <a:lnTo>
                    <a:pt x="1673" y="370"/>
                  </a:lnTo>
                  <a:lnTo>
                    <a:pt x="1730" y="321"/>
                  </a:lnTo>
                  <a:lnTo>
                    <a:pt x="1792" y="308"/>
                  </a:lnTo>
                  <a:lnTo>
                    <a:pt x="1849" y="264"/>
                  </a:lnTo>
                  <a:lnTo>
                    <a:pt x="1884" y="198"/>
                  </a:lnTo>
                  <a:lnTo>
                    <a:pt x="1973" y="127"/>
                  </a:lnTo>
                  <a:lnTo>
                    <a:pt x="2030" y="92"/>
                  </a:lnTo>
                  <a:lnTo>
                    <a:pt x="2087" y="61"/>
                  </a:lnTo>
                  <a:lnTo>
                    <a:pt x="2140" y="26"/>
                  </a:lnTo>
                  <a:lnTo>
                    <a:pt x="2043" y="0"/>
                  </a:lnTo>
                  <a:lnTo>
                    <a:pt x="1951" y="0"/>
                  </a:lnTo>
                  <a:lnTo>
                    <a:pt x="1854" y="39"/>
                  </a:lnTo>
                  <a:lnTo>
                    <a:pt x="1805" y="61"/>
                  </a:lnTo>
                  <a:lnTo>
                    <a:pt x="1730" y="79"/>
                  </a:lnTo>
                  <a:lnTo>
                    <a:pt x="1642" y="88"/>
                  </a:lnTo>
                  <a:lnTo>
                    <a:pt x="1592" y="105"/>
                  </a:lnTo>
                  <a:lnTo>
                    <a:pt x="1491" y="145"/>
                  </a:lnTo>
                  <a:lnTo>
                    <a:pt x="1429" y="167"/>
                  </a:lnTo>
                  <a:lnTo>
                    <a:pt x="1359" y="194"/>
                  </a:lnTo>
                  <a:lnTo>
                    <a:pt x="1284" y="211"/>
                  </a:lnTo>
                  <a:lnTo>
                    <a:pt x="1204" y="233"/>
                  </a:lnTo>
                  <a:lnTo>
                    <a:pt x="1134" y="264"/>
                  </a:lnTo>
                  <a:lnTo>
                    <a:pt x="1076" y="308"/>
                  </a:lnTo>
                  <a:lnTo>
                    <a:pt x="1028" y="348"/>
                  </a:lnTo>
                  <a:lnTo>
                    <a:pt x="984" y="383"/>
                  </a:lnTo>
                  <a:lnTo>
                    <a:pt x="940" y="401"/>
                  </a:lnTo>
                  <a:lnTo>
                    <a:pt x="852" y="458"/>
                  </a:lnTo>
                  <a:lnTo>
                    <a:pt x="763" y="502"/>
                  </a:lnTo>
                  <a:lnTo>
                    <a:pt x="662" y="560"/>
                  </a:lnTo>
                  <a:lnTo>
                    <a:pt x="596" y="636"/>
                  </a:lnTo>
                  <a:lnTo>
                    <a:pt x="511" y="693"/>
                  </a:lnTo>
                  <a:lnTo>
                    <a:pt x="440" y="724"/>
                  </a:lnTo>
                  <a:lnTo>
                    <a:pt x="370" y="799"/>
                  </a:lnTo>
                  <a:lnTo>
                    <a:pt x="321" y="847"/>
                  </a:lnTo>
                  <a:lnTo>
                    <a:pt x="255" y="896"/>
                  </a:lnTo>
                  <a:lnTo>
                    <a:pt x="194" y="927"/>
                  </a:lnTo>
                  <a:lnTo>
                    <a:pt x="132" y="957"/>
                  </a:lnTo>
                  <a:lnTo>
                    <a:pt x="0" y="1143"/>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7" name=""/>
          <p:cNvSpPr/>
          <p:nvPr/>
        </p:nvSpPr>
        <p:spPr>
          <a:xfrm>
            <a:off x="5230800" y="5068800"/>
            <a:ext cx="230400" cy="403560"/>
          </a:xfrm>
          <a:custGeom>
            <a:avLst/>
            <a:gdLst/>
            <a:ahLst/>
            <a:rect l="0" t="0" r="r" b="b"/>
            <a:pathLst>
              <a:path w="640" h="1121">
                <a:moveTo>
                  <a:pt x="119" y="352"/>
                </a:moveTo>
                <a:lnTo>
                  <a:pt x="101" y="574"/>
                </a:lnTo>
                <a:lnTo>
                  <a:pt x="44" y="715"/>
                </a:lnTo>
                <a:lnTo>
                  <a:pt x="0" y="843"/>
                </a:lnTo>
                <a:lnTo>
                  <a:pt x="0" y="944"/>
                </a:lnTo>
                <a:lnTo>
                  <a:pt x="13" y="1028"/>
                </a:lnTo>
                <a:lnTo>
                  <a:pt x="70" y="1103"/>
                </a:lnTo>
                <a:lnTo>
                  <a:pt x="119" y="1107"/>
                </a:lnTo>
                <a:lnTo>
                  <a:pt x="158" y="1107"/>
                </a:lnTo>
                <a:lnTo>
                  <a:pt x="207" y="1121"/>
                </a:lnTo>
                <a:lnTo>
                  <a:pt x="233" y="1059"/>
                </a:lnTo>
                <a:lnTo>
                  <a:pt x="251" y="909"/>
                </a:lnTo>
                <a:lnTo>
                  <a:pt x="327" y="812"/>
                </a:lnTo>
                <a:lnTo>
                  <a:pt x="340" y="666"/>
                </a:lnTo>
                <a:lnTo>
                  <a:pt x="371" y="605"/>
                </a:lnTo>
                <a:lnTo>
                  <a:pt x="402" y="565"/>
                </a:lnTo>
                <a:lnTo>
                  <a:pt x="428" y="454"/>
                </a:lnTo>
                <a:lnTo>
                  <a:pt x="477" y="392"/>
                </a:lnTo>
                <a:lnTo>
                  <a:pt x="508" y="343"/>
                </a:lnTo>
                <a:lnTo>
                  <a:pt x="538" y="299"/>
                </a:lnTo>
                <a:lnTo>
                  <a:pt x="538" y="277"/>
                </a:lnTo>
                <a:lnTo>
                  <a:pt x="613" y="220"/>
                </a:lnTo>
                <a:lnTo>
                  <a:pt x="622" y="123"/>
                </a:lnTo>
                <a:lnTo>
                  <a:pt x="640" y="61"/>
                </a:lnTo>
                <a:lnTo>
                  <a:pt x="569" y="39"/>
                </a:lnTo>
                <a:lnTo>
                  <a:pt x="534" y="0"/>
                </a:lnTo>
                <a:lnTo>
                  <a:pt x="477" y="39"/>
                </a:lnTo>
                <a:lnTo>
                  <a:pt x="428" y="136"/>
                </a:lnTo>
                <a:lnTo>
                  <a:pt x="371" y="211"/>
                </a:lnTo>
                <a:lnTo>
                  <a:pt x="327" y="268"/>
                </a:lnTo>
                <a:lnTo>
                  <a:pt x="299" y="268"/>
                </a:lnTo>
                <a:lnTo>
                  <a:pt x="251" y="299"/>
                </a:lnTo>
                <a:lnTo>
                  <a:pt x="233" y="335"/>
                </a:lnTo>
                <a:lnTo>
                  <a:pt x="119" y="35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4121280" y="2787480"/>
            <a:ext cx="3140280" cy="1889640"/>
          </a:xfrm>
          <a:custGeom>
            <a:avLst/>
            <a:gdLst/>
            <a:ahLst/>
            <a:rect l="0" t="0" r="r" b="b"/>
            <a:pathLst>
              <a:path w="8723" h="5249">
                <a:moveTo>
                  <a:pt x="0" y="2351"/>
                </a:moveTo>
                <a:lnTo>
                  <a:pt x="79" y="2276"/>
                </a:lnTo>
                <a:lnTo>
                  <a:pt x="127" y="2223"/>
                </a:lnTo>
                <a:lnTo>
                  <a:pt x="233" y="2223"/>
                </a:lnTo>
                <a:lnTo>
                  <a:pt x="339" y="2236"/>
                </a:lnTo>
                <a:lnTo>
                  <a:pt x="418" y="2205"/>
                </a:lnTo>
                <a:lnTo>
                  <a:pt x="507" y="2197"/>
                </a:lnTo>
                <a:lnTo>
                  <a:pt x="515" y="2100"/>
                </a:lnTo>
                <a:lnTo>
                  <a:pt x="564" y="2033"/>
                </a:lnTo>
                <a:lnTo>
                  <a:pt x="445" y="1963"/>
                </a:lnTo>
                <a:lnTo>
                  <a:pt x="427" y="1901"/>
                </a:lnTo>
                <a:lnTo>
                  <a:pt x="440" y="1822"/>
                </a:lnTo>
                <a:lnTo>
                  <a:pt x="520" y="1822"/>
                </a:lnTo>
                <a:lnTo>
                  <a:pt x="577" y="1813"/>
                </a:lnTo>
                <a:lnTo>
                  <a:pt x="590" y="1822"/>
                </a:lnTo>
                <a:lnTo>
                  <a:pt x="652" y="1773"/>
                </a:lnTo>
                <a:lnTo>
                  <a:pt x="714" y="1747"/>
                </a:lnTo>
                <a:lnTo>
                  <a:pt x="740" y="1747"/>
                </a:lnTo>
                <a:lnTo>
                  <a:pt x="776" y="1698"/>
                </a:lnTo>
                <a:lnTo>
                  <a:pt x="829" y="1685"/>
                </a:lnTo>
                <a:lnTo>
                  <a:pt x="877" y="1592"/>
                </a:lnTo>
                <a:lnTo>
                  <a:pt x="908" y="1619"/>
                </a:lnTo>
                <a:lnTo>
                  <a:pt x="970" y="1562"/>
                </a:lnTo>
                <a:lnTo>
                  <a:pt x="978" y="1562"/>
                </a:lnTo>
                <a:lnTo>
                  <a:pt x="1058" y="1495"/>
                </a:lnTo>
                <a:lnTo>
                  <a:pt x="1102" y="1487"/>
                </a:lnTo>
                <a:lnTo>
                  <a:pt x="1168" y="1487"/>
                </a:lnTo>
                <a:lnTo>
                  <a:pt x="1208" y="1487"/>
                </a:lnTo>
                <a:lnTo>
                  <a:pt x="1177" y="1407"/>
                </a:lnTo>
                <a:lnTo>
                  <a:pt x="1159" y="1341"/>
                </a:lnTo>
                <a:lnTo>
                  <a:pt x="1146" y="1203"/>
                </a:lnTo>
                <a:lnTo>
                  <a:pt x="1239" y="1190"/>
                </a:lnTo>
                <a:lnTo>
                  <a:pt x="1287" y="1172"/>
                </a:lnTo>
                <a:lnTo>
                  <a:pt x="1265" y="1225"/>
                </a:lnTo>
                <a:lnTo>
                  <a:pt x="1305" y="1265"/>
                </a:lnTo>
                <a:lnTo>
                  <a:pt x="1344" y="1315"/>
                </a:lnTo>
                <a:lnTo>
                  <a:pt x="1371" y="1345"/>
                </a:lnTo>
                <a:lnTo>
                  <a:pt x="1477" y="1341"/>
                </a:lnTo>
                <a:lnTo>
                  <a:pt x="1578" y="1217"/>
                </a:lnTo>
                <a:lnTo>
                  <a:pt x="1644" y="1159"/>
                </a:lnTo>
                <a:lnTo>
                  <a:pt x="1684" y="1124"/>
                </a:lnTo>
                <a:lnTo>
                  <a:pt x="1733" y="1071"/>
                </a:lnTo>
                <a:lnTo>
                  <a:pt x="1781" y="1005"/>
                </a:lnTo>
                <a:lnTo>
                  <a:pt x="1821" y="1031"/>
                </a:lnTo>
                <a:lnTo>
                  <a:pt x="1821" y="987"/>
                </a:lnTo>
                <a:lnTo>
                  <a:pt x="1847" y="970"/>
                </a:lnTo>
                <a:lnTo>
                  <a:pt x="1913" y="983"/>
                </a:lnTo>
                <a:lnTo>
                  <a:pt x="2032" y="1084"/>
                </a:lnTo>
                <a:lnTo>
                  <a:pt x="2015" y="793"/>
                </a:lnTo>
                <a:lnTo>
                  <a:pt x="1909" y="926"/>
                </a:lnTo>
                <a:lnTo>
                  <a:pt x="1830" y="917"/>
                </a:lnTo>
                <a:lnTo>
                  <a:pt x="1803" y="833"/>
                </a:lnTo>
                <a:lnTo>
                  <a:pt x="1803" y="793"/>
                </a:lnTo>
                <a:lnTo>
                  <a:pt x="1781" y="771"/>
                </a:lnTo>
                <a:lnTo>
                  <a:pt x="1847" y="705"/>
                </a:lnTo>
                <a:lnTo>
                  <a:pt x="1882" y="657"/>
                </a:lnTo>
                <a:lnTo>
                  <a:pt x="1927" y="639"/>
                </a:lnTo>
                <a:lnTo>
                  <a:pt x="1957" y="630"/>
                </a:lnTo>
                <a:lnTo>
                  <a:pt x="1984" y="590"/>
                </a:lnTo>
                <a:lnTo>
                  <a:pt x="2015" y="586"/>
                </a:lnTo>
                <a:lnTo>
                  <a:pt x="2054" y="586"/>
                </a:lnTo>
                <a:lnTo>
                  <a:pt x="1984" y="511"/>
                </a:lnTo>
                <a:lnTo>
                  <a:pt x="1909" y="524"/>
                </a:lnTo>
                <a:lnTo>
                  <a:pt x="1860" y="524"/>
                </a:lnTo>
                <a:lnTo>
                  <a:pt x="1821" y="502"/>
                </a:lnTo>
                <a:lnTo>
                  <a:pt x="1821" y="551"/>
                </a:lnTo>
                <a:lnTo>
                  <a:pt x="1781" y="599"/>
                </a:lnTo>
                <a:lnTo>
                  <a:pt x="1728" y="679"/>
                </a:lnTo>
                <a:lnTo>
                  <a:pt x="1671" y="714"/>
                </a:lnTo>
                <a:lnTo>
                  <a:pt x="1627" y="714"/>
                </a:lnTo>
                <a:lnTo>
                  <a:pt x="1613" y="771"/>
                </a:lnTo>
                <a:lnTo>
                  <a:pt x="1613" y="793"/>
                </a:lnTo>
                <a:lnTo>
                  <a:pt x="1583" y="820"/>
                </a:lnTo>
                <a:lnTo>
                  <a:pt x="1622" y="917"/>
                </a:lnTo>
                <a:lnTo>
                  <a:pt x="1644" y="970"/>
                </a:lnTo>
                <a:lnTo>
                  <a:pt x="1596" y="1036"/>
                </a:lnTo>
                <a:lnTo>
                  <a:pt x="1538" y="1084"/>
                </a:lnTo>
                <a:lnTo>
                  <a:pt x="1525" y="1159"/>
                </a:lnTo>
                <a:lnTo>
                  <a:pt x="1494" y="1217"/>
                </a:lnTo>
                <a:lnTo>
                  <a:pt x="1464" y="1217"/>
                </a:lnTo>
                <a:lnTo>
                  <a:pt x="1415" y="1225"/>
                </a:lnTo>
                <a:lnTo>
                  <a:pt x="1371" y="1252"/>
                </a:lnTo>
                <a:lnTo>
                  <a:pt x="1353" y="1239"/>
                </a:lnTo>
                <a:lnTo>
                  <a:pt x="1353" y="1203"/>
                </a:lnTo>
                <a:lnTo>
                  <a:pt x="1344" y="1137"/>
                </a:lnTo>
                <a:lnTo>
                  <a:pt x="1305" y="1137"/>
                </a:lnTo>
                <a:lnTo>
                  <a:pt x="1278" y="1098"/>
                </a:lnTo>
                <a:lnTo>
                  <a:pt x="1287" y="1036"/>
                </a:lnTo>
                <a:lnTo>
                  <a:pt x="1296" y="1005"/>
                </a:lnTo>
                <a:lnTo>
                  <a:pt x="1287" y="987"/>
                </a:lnTo>
                <a:lnTo>
                  <a:pt x="1256" y="1005"/>
                </a:lnTo>
                <a:lnTo>
                  <a:pt x="1239" y="1005"/>
                </a:lnTo>
                <a:lnTo>
                  <a:pt x="1217" y="1001"/>
                </a:lnTo>
                <a:lnTo>
                  <a:pt x="1203" y="987"/>
                </a:lnTo>
                <a:lnTo>
                  <a:pt x="1159" y="1023"/>
                </a:lnTo>
                <a:lnTo>
                  <a:pt x="1120" y="1062"/>
                </a:lnTo>
                <a:lnTo>
                  <a:pt x="1084" y="1106"/>
                </a:lnTo>
                <a:lnTo>
                  <a:pt x="996" y="1098"/>
                </a:lnTo>
                <a:lnTo>
                  <a:pt x="939" y="1084"/>
                </a:lnTo>
                <a:lnTo>
                  <a:pt x="895" y="1049"/>
                </a:lnTo>
                <a:lnTo>
                  <a:pt x="895" y="1023"/>
                </a:lnTo>
                <a:lnTo>
                  <a:pt x="921" y="987"/>
                </a:lnTo>
                <a:lnTo>
                  <a:pt x="952" y="970"/>
                </a:lnTo>
                <a:lnTo>
                  <a:pt x="978" y="930"/>
                </a:lnTo>
                <a:lnTo>
                  <a:pt x="921" y="952"/>
                </a:lnTo>
                <a:lnTo>
                  <a:pt x="895" y="908"/>
                </a:lnTo>
                <a:lnTo>
                  <a:pt x="895" y="881"/>
                </a:lnTo>
                <a:lnTo>
                  <a:pt x="978" y="877"/>
                </a:lnTo>
                <a:lnTo>
                  <a:pt x="1045" y="868"/>
                </a:lnTo>
                <a:lnTo>
                  <a:pt x="1001" y="846"/>
                </a:lnTo>
                <a:lnTo>
                  <a:pt x="934" y="851"/>
                </a:lnTo>
                <a:lnTo>
                  <a:pt x="934" y="802"/>
                </a:lnTo>
                <a:lnTo>
                  <a:pt x="965" y="771"/>
                </a:lnTo>
                <a:lnTo>
                  <a:pt x="1031" y="740"/>
                </a:lnTo>
                <a:lnTo>
                  <a:pt x="1058" y="705"/>
                </a:lnTo>
                <a:lnTo>
                  <a:pt x="1084" y="692"/>
                </a:lnTo>
                <a:lnTo>
                  <a:pt x="1137" y="679"/>
                </a:lnTo>
                <a:lnTo>
                  <a:pt x="1186" y="692"/>
                </a:lnTo>
                <a:lnTo>
                  <a:pt x="1208" y="705"/>
                </a:lnTo>
                <a:lnTo>
                  <a:pt x="1247" y="679"/>
                </a:lnTo>
                <a:lnTo>
                  <a:pt x="1208" y="674"/>
                </a:lnTo>
                <a:lnTo>
                  <a:pt x="1208" y="604"/>
                </a:lnTo>
                <a:lnTo>
                  <a:pt x="1314" y="537"/>
                </a:lnTo>
                <a:lnTo>
                  <a:pt x="1371" y="485"/>
                </a:lnTo>
                <a:lnTo>
                  <a:pt x="1402" y="476"/>
                </a:lnTo>
                <a:lnTo>
                  <a:pt x="1389" y="449"/>
                </a:lnTo>
                <a:lnTo>
                  <a:pt x="1441" y="396"/>
                </a:lnTo>
                <a:lnTo>
                  <a:pt x="1494" y="321"/>
                </a:lnTo>
                <a:lnTo>
                  <a:pt x="1561" y="291"/>
                </a:lnTo>
                <a:lnTo>
                  <a:pt x="1508" y="260"/>
                </a:lnTo>
                <a:lnTo>
                  <a:pt x="1640" y="185"/>
                </a:lnTo>
                <a:lnTo>
                  <a:pt x="1697" y="194"/>
                </a:lnTo>
                <a:lnTo>
                  <a:pt x="1684" y="154"/>
                </a:lnTo>
                <a:lnTo>
                  <a:pt x="1794" y="141"/>
                </a:lnTo>
                <a:lnTo>
                  <a:pt x="2002" y="13"/>
                </a:lnTo>
                <a:lnTo>
                  <a:pt x="2032" y="0"/>
                </a:lnTo>
                <a:lnTo>
                  <a:pt x="1997" y="92"/>
                </a:lnTo>
                <a:lnTo>
                  <a:pt x="2046" y="44"/>
                </a:lnTo>
                <a:lnTo>
                  <a:pt x="2103" y="30"/>
                </a:lnTo>
                <a:lnTo>
                  <a:pt x="2090" y="70"/>
                </a:lnTo>
                <a:lnTo>
                  <a:pt x="2253" y="17"/>
                </a:lnTo>
                <a:lnTo>
                  <a:pt x="2328" y="61"/>
                </a:lnTo>
                <a:lnTo>
                  <a:pt x="2222" y="105"/>
                </a:lnTo>
                <a:lnTo>
                  <a:pt x="2257" y="154"/>
                </a:lnTo>
                <a:lnTo>
                  <a:pt x="2416" y="141"/>
                </a:lnTo>
                <a:lnTo>
                  <a:pt x="2645" y="216"/>
                </a:lnTo>
                <a:lnTo>
                  <a:pt x="2632" y="295"/>
                </a:lnTo>
                <a:lnTo>
                  <a:pt x="2540" y="370"/>
                </a:lnTo>
                <a:lnTo>
                  <a:pt x="2394" y="414"/>
                </a:lnTo>
                <a:lnTo>
                  <a:pt x="2372" y="502"/>
                </a:lnTo>
                <a:lnTo>
                  <a:pt x="2376" y="586"/>
                </a:lnTo>
                <a:lnTo>
                  <a:pt x="2416" y="599"/>
                </a:lnTo>
                <a:lnTo>
                  <a:pt x="2425" y="639"/>
                </a:lnTo>
                <a:lnTo>
                  <a:pt x="2442" y="657"/>
                </a:lnTo>
                <a:lnTo>
                  <a:pt x="2473" y="674"/>
                </a:lnTo>
                <a:lnTo>
                  <a:pt x="2482" y="723"/>
                </a:lnTo>
                <a:lnTo>
                  <a:pt x="2526" y="776"/>
                </a:lnTo>
                <a:lnTo>
                  <a:pt x="2526" y="802"/>
                </a:lnTo>
                <a:lnTo>
                  <a:pt x="2579" y="802"/>
                </a:lnTo>
                <a:lnTo>
                  <a:pt x="2597" y="820"/>
                </a:lnTo>
                <a:lnTo>
                  <a:pt x="2632" y="833"/>
                </a:lnTo>
                <a:lnTo>
                  <a:pt x="2659" y="815"/>
                </a:lnTo>
                <a:lnTo>
                  <a:pt x="2685" y="771"/>
                </a:lnTo>
                <a:lnTo>
                  <a:pt x="2698" y="745"/>
                </a:lnTo>
                <a:lnTo>
                  <a:pt x="2734" y="758"/>
                </a:lnTo>
                <a:lnTo>
                  <a:pt x="2782" y="705"/>
                </a:lnTo>
                <a:lnTo>
                  <a:pt x="2782" y="665"/>
                </a:lnTo>
                <a:lnTo>
                  <a:pt x="2795" y="630"/>
                </a:lnTo>
                <a:lnTo>
                  <a:pt x="2808" y="604"/>
                </a:lnTo>
                <a:lnTo>
                  <a:pt x="2901" y="586"/>
                </a:lnTo>
                <a:lnTo>
                  <a:pt x="2985" y="555"/>
                </a:lnTo>
                <a:lnTo>
                  <a:pt x="3086" y="524"/>
                </a:lnTo>
                <a:lnTo>
                  <a:pt x="3210" y="551"/>
                </a:lnTo>
                <a:lnTo>
                  <a:pt x="3329" y="551"/>
                </a:lnTo>
                <a:lnTo>
                  <a:pt x="3523" y="551"/>
                </a:lnTo>
                <a:lnTo>
                  <a:pt x="3554" y="348"/>
                </a:lnTo>
                <a:lnTo>
                  <a:pt x="3664" y="357"/>
                </a:lnTo>
                <a:lnTo>
                  <a:pt x="3748" y="511"/>
                </a:lnTo>
                <a:lnTo>
                  <a:pt x="3765" y="383"/>
                </a:lnTo>
                <a:lnTo>
                  <a:pt x="4127" y="17"/>
                </a:lnTo>
                <a:lnTo>
                  <a:pt x="4273" y="17"/>
                </a:lnTo>
                <a:lnTo>
                  <a:pt x="4397" y="92"/>
                </a:lnTo>
                <a:lnTo>
                  <a:pt x="4569" y="88"/>
                </a:lnTo>
                <a:lnTo>
                  <a:pt x="4789" y="216"/>
                </a:lnTo>
                <a:lnTo>
                  <a:pt x="5041" y="291"/>
                </a:lnTo>
                <a:lnTo>
                  <a:pt x="5230" y="273"/>
                </a:lnTo>
                <a:lnTo>
                  <a:pt x="5469" y="357"/>
                </a:lnTo>
                <a:lnTo>
                  <a:pt x="5667" y="357"/>
                </a:lnTo>
                <a:lnTo>
                  <a:pt x="5760" y="295"/>
                </a:lnTo>
                <a:lnTo>
                  <a:pt x="5984" y="295"/>
                </a:lnTo>
                <a:lnTo>
                  <a:pt x="6104" y="366"/>
                </a:lnTo>
                <a:lnTo>
                  <a:pt x="6403" y="366"/>
                </a:lnTo>
                <a:lnTo>
                  <a:pt x="6659" y="476"/>
                </a:lnTo>
                <a:lnTo>
                  <a:pt x="7131" y="463"/>
                </a:lnTo>
                <a:lnTo>
                  <a:pt x="7867" y="511"/>
                </a:lnTo>
                <a:lnTo>
                  <a:pt x="8229" y="665"/>
                </a:lnTo>
                <a:lnTo>
                  <a:pt x="8529" y="758"/>
                </a:lnTo>
                <a:lnTo>
                  <a:pt x="8723" y="846"/>
                </a:lnTo>
                <a:lnTo>
                  <a:pt x="8666" y="868"/>
                </a:lnTo>
                <a:lnTo>
                  <a:pt x="8529" y="802"/>
                </a:lnTo>
                <a:lnTo>
                  <a:pt x="8220" y="776"/>
                </a:lnTo>
                <a:lnTo>
                  <a:pt x="8308" y="846"/>
                </a:lnTo>
                <a:lnTo>
                  <a:pt x="8445" y="877"/>
                </a:lnTo>
                <a:lnTo>
                  <a:pt x="8405" y="983"/>
                </a:lnTo>
                <a:lnTo>
                  <a:pt x="8260" y="1049"/>
                </a:lnTo>
                <a:lnTo>
                  <a:pt x="8211" y="1155"/>
                </a:lnTo>
                <a:lnTo>
                  <a:pt x="8405" y="1252"/>
                </a:lnTo>
                <a:lnTo>
                  <a:pt x="8538" y="1381"/>
                </a:lnTo>
                <a:lnTo>
                  <a:pt x="8613" y="1570"/>
                </a:lnTo>
                <a:lnTo>
                  <a:pt x="8524" y="1588"/>
                </a:lnTo>
                <a:lnTo>
                  <a:pt x="8330" y="1531"/>
                </a:lnTo>
                <a:lnTo>
                  <a:pt x="8132" y="1390"/>
                </a:lnTo>
                <a:lnTo>
                  <a:pt x="8057" y="1315"/>
                </a:lnTo>
                <a:lnTo>
                  <a:pt x="8004" y="1217"/>
                </a:lnTo>
                <a:lnTo>
                  <a:pt x="7956" y="1071"/>
                </a:lnTo>
                <a:lnTo>
                  <a:pt x="7881" y="1023"/>
                </a:lnTo>
                <a:lnTo>
                  <a:pt x="7806" y="1014"/>
                </a:lnTo>
                <a:lnTo>
                  <a:pt x="7744" y="1031"/>
                </a:lnTo>
                <a:lnTo>
                  <a:pt x="7819" y="1146"/>
                </a:lnTo>
                <a:lnTo>
                  <a:pt x="7625" y="1159"/>
                </a:lnTo>
                <a:lnTo>
                  <a:pt x="7537" y="1106"/>
                </a:lnTo>
                <a:lnTo>
                  <a:pt x="7369" y="1137"/>
                </a:lnTo>
                <a:lnTo>
                  <a:pt x="7241" y="1225"/>
                </a:lnTo>
                <a:lnTo>
                  <a:pt x="7241" y="1278"/>
                </a:lnTo>
                <a:lnTo>
                  <a:pt x="7285" y="1359"/>
                </a:lnTo>
                <a:lnTo>
                  <a:pt x="7488" y="1381"/>
                </a:lnTo>
                <a:lnTo>
                  <a:pt x="7647" y="1482"/>
                </a:lnTo>
                <a:lnTo>
                  <a:pt x="7916" y="1747"/>
                </a:lnTo>
                <a:lnTo>
                  <a:pt x="8031" y="1928"/>
                </a:lnTo>
                <a:lnTo>
                  <a:pt x="8044" y="2117"/>
                </a:lnTo>
                <a:lnTo>
                  <a:pt x="8017" y="2272"/>
                </a:lnTo>
                <a:lnTo>
                  <a:pt x="7956" y="2272"/>
                </a:lnTo>
                <a:lnTo>
                  <a:pt x="7885" y="2210"/>
                </a:lnTo>
                <a:lnTo>
                  <a:pt x="7779" y="2285"/>
                </a:lnTo>
                <a:lnTo>
                  <a:pt x="7682" y="2351"/>
                </a:lnTo>
                <a:lnTo>
                  <a:pt x="7660" y="2474"/>
                </a:lnTo>
                <a:lnTo>
                  <a:pt x="7775" y="2602"/>
                </a:lnTo>
                <a:lnTo>
                  <a:pt x="7704" y="2708"/>
                </a:lnTo>
                <a:lnTo>
                  <a:pt x="7682" y="2889"/>
                </a:lnTo>
                <a:lnTo>
                  <a:pt x="7819" y="2999"/>
                </a:lnTo>
                <a:lnTo>
                  <a:pt x="7969" y="3034"/>
                </a:lnTo>
                <a:lnTo>
                  <a:pt x="8123" y="3153"/>
                </a:lnTo>
                <a:lnTo>
                  <a:pt x="8260" y="3321"/>
                </a:lnTo>
                <a:lnTo>
                  <a:pt x="8269" y="3559"/>
                </a:lnTo>
                <a:lnTo>
                  <a:pt x="8220" y="3678"/>
                </a:lnTo>
                <a:lnTo>
                  <a:pt x="8075" y="3775"/>
                </a:lnTo>
                <a:lnTo>
                  <a:pt x="7898" y="3824"/>
                </a:lnTo>
                <a:lnTo>
                  <a:pt x="7792" y="3899"/>
                </a:lnTo>
                <a:lnTo>
                  <a:pt x="7726" y="3855"/>
                </a:lnTo>
                <a:lnTo>
                  <a:pt x="7673" y="3899"/>
                </a:lnTo>
                <a:lnTo>
                  <a:pt x="7656" y="4080"/>
                </a:lnTo>
                <a:lnTo>
                  <a:pt x="7695" y="4186"/>
                </a:lnTo>
                <a:lnTo>
                  <a:pt x="7867" y="4301"/>
                </a:lnTo>
                <a:lnTo>
                  <a:pt x="7942" y="4424"/>
                </a:lnTo>
                <a:lnTo>
                  <a:pt x="8000" y="4499"/>
                </a:lnTo>
                <a:lnTo>
                  <a:pt x="7982" y="4627"/>
                </a:lnTo>
                <a:lnTo>
                  <a:pt x="7867" y="4733"/>
                </a:lnTo>
                <a:lnTo>
                  <a:pt x="7748" y="4733"/>
                </a:lnTo>
                <a:lnTo>
                  <a:pt x="7563" y="4579"/>
                </a:lnTo>
                <a:lnTo>
                  <a:pt x="7426" y="4526"/>
                </a:lnTo>
                <a:lnTo>
                  <a:pt x="7369" y="4495"/>
                </a:lnTo>
                <a:lnTo>
                  <a:pt x="7312" y="4574"/>
                </a:lnTo>
                <a:lnTo>
                  <a:pt x="7329" y="4689"/>
                </a:lnTo>
                <a:lnTo>
                  <a:pt x="7374" y="4777"/>
                </a:lnTo>
                <a:lnTo>
                  <a:pt x="7404" y="4918"/>
                </a:lnTo>
                <a:lnTo>
                  <a:pt x="7528" y="4962"/>
                </a:lnTo>
                <a:lnTo>
                  <a:pt x="7488" y="5037"/>
                </a:lnTo>
                <a:lnTo>
                  <a:pt x="7493" y="5148"/>
                </a:lnTo>
                <a:lnTo>
                  <a:pt x="7537" y="5249"/>
                </a:lnTo>
                <a:lnTo>
                  <a:pt x="7457" y="5240"/>
                </a:lnTo>
                <a:lnTo>
                  <a:pt x="7369" y="5117"/>
                </a:lnTo>
                <a:lnTo>
                  <a:pt x="7374" y="4989"/>
                </a:lnTo>
                <a:lnTo>
                  <a:pt x="7343" y="4949"/>
                </a:lnTo>
                <a:lnTo>
                  <a:pt x="7312" y="4804"/>
                </a:lnTo>
                <a:lnTo>
                  <a:pt x="7272" y="4760"/>
                </a:lnTo>
                <a:lnTo>
                  <a:pt x="7254" y="4557"/>
                </a:lnTo>
                <a:lnTo>
                  <a:pt x="7206" y="4424"/>
                </a:lnTo>
                <a:lnTo>
                  <a:pt x="7105" y="4314"/>
                </a:lnTo>
                <a:lnTo>
                  <a:pt x="6933" y="4248"/>
                </a:lnTo>
                <a:lnTo>
                  <a:pt x="6805" y="4142"/>
                </a:lnTo>
                <a:lnTo>
                  <a:pt x="6747" y="4063"/>
                </a:lnTo>
                <a:lnTo>
                  <a:pt x="6659" y="3970"/>
                </a:lnTo>
                <a:lnTo>
                  <a:pt x="6522" y="3771"/>
                </a:lnTo>
                <a:lnTo>
                  <a:pt x="6403" y="3784"/>
                </a:lnTo>
                <a:lnTo>
                  <a:pt x="6249" y="3881"/>
                </a:lnTo>
                <a:lnTo>
                  <a:pt x="6174" y="3961"/>
                </a:lnTo>
                <a:lnTo>
                  <a:pt x="6029" y="4116"/>
                </a:lnTo>
                <a:lnTo>
                  <a:pt x="5932" y="4283"/>
                </a:lnTo>
                <a:lnTo>
                  <a:pt x="5887" y="4341"/>
                </a:lnTo>
                <a:lnTo>
                  <a:pt x="5932" y="4530"/>
                </a:lnTo>
                <a:lnTo>
                  <a:pt x="5923" y="4720"/>
                </a:lnTo>
                <a:lnTo>
                  <a:pt x="5790" y="4852"/>
                </a:lnTo>
                <a:lnTo>
                  <a:pt x="5724" y="4857"/>
                </a:lnTo>
                <a:lnTo>
                  <a:pt x="5574" y="4592"/>
                </a:lnTo>
                <a:lnTo>
                  <a:pt x="5451" y="4394"/>
                </a:lnTo>
                <a:lnTo>
                  <a:pt x="5213" y="4036"/>
                </a:lnTo>
                <a:lnTo>
                  <a:pt x="5204" y="3899"/>
                </a:lnTo>
                <a:lnTo>
                  <a:pt x="5147" y="3833"/>
                </a:lnTo>
                <a:lnTo>
                  <a:pt x="5111" y="3925"/>
                </a:lnTo>
                <a:lnTo>
                  <a:pt x="4904" y="3713"/>
                </a:lnTo>
                <a:lnTo>
                  <a:pt x="4622" y="3559"/>
                </a:lnTo>
                <a:lnTo>
                  <a:pt x="4450" y="3599"/>
                </a:lnTo>
                <a:lnTo>
                  <a:pt x="4193" y="3581"/>
                </a:lnTo>
                <a:lnTo>
                  <a:pt x="4074" y="3467"/>
                </a:lnTo>
                <a:lnTo>
                  <a:pt x="3942" y="3480"/>
                </a:lnTo>
                <a:lnTo>
                  <a:pt x="3748" y="3431"/>
                </a:lnTo>
                <a:lnTo>
                  <a:pt x="3346" y="3048"/>
                </a:lnTo>
                <a:lnTo>
                  <a:pt x="3373" y="3202"/>
                </a:lnTo>
                <a:lnTo>
                  <a:pt x="3492" y="3427"/>
                </a:lnTo>
                <a:lnTo>
                  <a:pt x="3629" y="3581"/>
                </a:lnTo>
                <a:lnTo>
                  <a:pt x="3770" y="3661"/>
                </a:lnTo>
                <a:lnTo>
                  <a:pt x="3929" y="3599"/>
                </a:lnTo>
                <a:lnTo>
                  <a:pt x="4061" y="3599"/>
                </a:lnTo>
                <a:lnTo>
                  <a:pt x="4224" y="3736"/>
                </a:lnTo>
                <a:lnTo>
                  <a:pt x="4321" y="3837"/>
                </a:lnTo>
                <a:lnTo>
                  <a:pt x="4303" y="3908"/>
                </a:lnTo>
                <a:lnTo>
                  <a:pt x="4017" y="4208"/>
                </a:lnTo>
                <a:lnTo>
                  <a:pt x="3827" y="4319"/>
                </a:lnTo>
                <a:lnTo>
                  <a:pt x="3430" y="4473"/>
                </a:lnTo>
                <a:lnTo>
                  <a:pt x="3311" y="4526"/>
                </a:lnTo>
                <a:lnTo>
                  <a:pt x="3241" y="4473"/>
                </a:lnTo>
                <a:lnTo>
                  <a:pt x="3214" y="4411"/>
                </a:lnTo>
                <a:lnTo>
                  <a:pt x="3210" y="4319"/>
                </a:lnTo>
                <a:lnTo>
                  <a:pt x="3170" y="4235"/>
                </a:lnTo>
                <a:lnTo>
                  <a:pt x="3122" y="4160"/>
                </a:lnTo>
                <a:lnTo>
                  <a:pt x="3073" y="4094"/>
                </a:lnTo>
                <a:lnTo>
                  <a:pt x="2998" y="4006"/>
                </a:lnTo>
                <a:lnTo>
                  <a:pt x="2958" y="3944"/>
                </a:lnTo>
                <a:lnTo>
                  <a:pt x="2928" y="3868"/>
                </a:lnTo>
                <a:lnTo>
                  <a:pt x="2870" y="3806"/>
                </a:lnTo>
                <a:lnTo>
                  <a:pt x="2782" y="3647"/>
                </a:lnTo>
                <a:lnTo>
                  <a:pt x="2734" y="3581"/>
                </a:lnTo>
                <a:lnTo>
                  <a:pt x="2672" y="3493"/>
                </a:lnTo>
                <a:lnTo>
                  <a:pt x="2570" y="3370"/>
                </a:lnTo>
                <a:lnTo>
                  <a:pt x="2513" y="3295"/>
                </a:lnTo>
                <a:lnTo>
                  <a:pt x="2465" y="3246"/>
                </a:lnTo>
                <a:lnTo>
                  <a:pt x="2407" y="3140"/>
                </a:lnTo>
                <a:lnTo>
                  <a:pt x="2579" y="3043"/>
                </a:lnTo>
                <a:lnTo>
                  <a:pt x="2645" y="2832"/>
                </a:lnTo>
                <a:lnTo>
                  <a:pt x="2491" y="2770"/>
                </a:lnTo>
                <a:lnTo>
                  <a:pt x="2266" y="2809"/>
                </a:lnTo>
                <a:lnTo>
                  <a:pt x="2222" y="2783"/>
                </a:lnTo>
                <a:lnTo>
                  <a:pt x="2196" y="2783"/>
                </a:lnTo>
                <a:lnTo>
                  <a:pt x="2165" y="2783"/>
                </a:lnTo>
                <a:lnTo>
                  <a:pt x="2138" y="2783"/>
                </a:lnTo>
                <a:lnTo>
                  <a:pt x="2134" y="2739"/>
                </a:lnTo>
                <a:lnTo>
                  <a:pt x="2116" y="2708"/>
                </a:lnTo>
                <a:lnTo>
                  <a:pt x="2116" y="2642"/>
                </a:lnTo>
                <a:lnTo>
                  <a:pt x="2076" y="2611"/>
                </a:lnTo>
                <a:lnTo>
                  <a:pt x="2072" y="2567"/>
                </a:lnTo>
                <a:lnTo>
                  <a:pt x="2046" y="2563"/>
                </a:lnTo>
                <a:lnTo>
                  <a:pt x="2019" y="2532"/>
                </a:lnTo>
                <a:lnTo>
                  <a:pt x="2015" y="2501"/>
                </a:lnTo>
                <a:lnTo>
                  <a:pt x="1997" y="2461"/>
                </a:lnTo>
                <a:lnTo>
                  <a:pt x="1984" y="2430"/>
                </a:lnTo>
                <a:lnTo>
                  <a:pt x="1935" y="2430"/>
                </a:lnTo>
                <a:lnTo>
                  <a:pt x="1900" y="2430"/>
                </a:lnTo>
                <a:lnTo>
                  <a:pt x="1882" y="2430"/>
                </a:lnTo>
                <a:lnTo>
                  <a:pt x="1878" y="2488"/>
                </a:lnTo>
                <a:lnTo>
                  <a:pt x="1878" y="2532"/>
                </a:lnTo>
                <a:lnTo>
                  <a:pt x="1878" y="2580"/>
                </a:lnTo>
                <a:lnTo>
                  <a:pt x="1878" y="2629"/>
                </a:lnTo>
                <a:lnTo>
                  <a:pt x="1878" y="2660"/>
                </a:lnTo>
                <a:lnTo>
                  <a:pt x="1838" y="2677"/>
                </a:lnTo>
                <a:lnTo>
                  <a:pt x="1803" y="2708"/>
                </a:lnTo>
                <a:lnTo>
                  <a:pt x="1759" y="2660"/>
                </a:lnTo>
                <a:lnTo>
                  <a:pt x="1728" y="2593"/>
                </a:lnTo>
                <a:lnTo>
                  <a:pt x="1733" y="2523"/>
                </a:lnTo>
                <a:lnTo>
                  <a:pt x="1684" y="2408"/>
                </a:lnTo>
                <a:lnTo>
                  <a:pt x="1658" y="2346"/>
                </a:lnTo>
                <a:lnTo>
                  <a:pt x="1609" y="2302"/>
                </a:lnTo>
                <a:lnTo>
                  <a:pt x="1538" y="2258"/>
                </a:lnTo>
                <a:lnTo>
                  <a:pt x="1508" y="2205"/>
                </a:lnTo>
                <a:lnTo>
                  <a:pt x="1490" y="2161"/>
                </a:lnTo>
                <a:lnTo>
                  <a:pt x="1433" y="2152"/>
                </a:lnTo>
                <a:lnTo>
                  <a:pt x="1415" y="2130"/>
                </a:lnTo>
                <a:lnTo>
                  <a:pt x="1375" y="2130"/>
                </a:lnTo>
                <a:lnTo>
                  <a:pt x="1344" y="2170"/>
                </a:lnTo>
                <a:lnTo>
                  <a:pt x="1314" y="2205"/>
                </a:lnTo>
                <a:lnTo>
                  <a:pt x="1384" y="2245"/>
                </a:lnTo>
                <a:lnTo>
                  <a:pt x="1419" y="2302"/>
                </a:lnTo>
                <a:lnTo>
                  <a:pt x="1494" y="2377"/>
                </a:lnTo>
                <a:lnTo>
                  <a:pt x="1525" y="2408"/>
                </a:lnTo>
                <a:lnTo>
                  <a:pt x="1583" y="2430"/>
                </a:lnTo>
                <a:lnTo>
                  <a:pt x="1622" y="2501"/>
                </a:lnTo>
                <a:lnTo>
                  <a:pt x="1578" y="2554"/>
                </a:lnTo>
                <a:lnTo>
                  <a:pt x="1565" y="2532"/>
                </a:lnTo>
                <a:lnTo>
                  <a:pt x="1565" y="2501"/>
                </a:lnTo>
                <a:lnTo>
                  <a:pt x="1538" y="2567"/>
                </a:lnTo>
                <a:lnTo>
                  <a:pt x="1534" y="2633"/>
                </a:lnTo>
                <a:lnTo>
                  <a:pt x="1490" y="2655"/>
                </a:lnTo>
                <a:lnTo>
                  <a:pt x="1503" y="2567"/>
                </a:lnTo>
                <a:lnTo>
                  <a:pt x="1494" y="2532"/>
                </a:lnTo>
                <a:lnTo>
                  <a:pt x="1441" y="2505"/>
                </a:lnTo>
                <a:lnTo>
                  <a:pt x="1415" y="2488"/>
                </a:lnTo>
                <a:lnTo>
                  <a:pt x="1389" y="2457"/>
                </a:lnTo>
                <a:lnTo>
                  <a:pt x="1344" y="2426"/>
                </a:lnTo>
                <a:lnTo>
                  <a:pt x="1314" y="2399"/>
                </a:lnTo>
                <a:lnTo>
                  <a:pt x="1278" y="2351"/>
                </a:lnTo>
                <a:lnTo>
                  <a:pt x="1239" y="2324"/>
                </a:lnTo>
                <a:lnTo>
                  <a:pt x="1217" y="2276"/>
                </a:lnTo>
                <a:lnTo>
                  <a:pt x="1208" y="2236"/>
                </a:lnTo>
                <a:lnTo>
                  <a:pt x="1177" y="2223"/>
                </a:lnTo>
                <a:lnTo>
                  <a:pt x="1146" y="2197"/>
                </a:lnTo>
                <a:lnTo>
                  <a:pt x="1084" y="2197"/>
                </a:lnTo>
                <a:lnTo>
                  <a:pt x="1027" y="2205"/>
                </a:lnTo>
                <a:lnTo>
                  <a:pt x="965" y="2197"/>
                </a:lnTo>
                <a:lnTo>
                  <a:pt x="851" y="2205"/>
                </a:lnTo>
                <a:lnTo>
                  <a:pt x="771" y="2210"/>
                </a:lnTo>
                <a:lnTo>
                  <a:pt x="745" y="2227"/>
                </a:lnTo>
                <a:lnTo>
                  <a:pt x="740" y="2276"/>
                </a:lnTo>
                <a:lnTo>
                  <a:pt x="740" y="2333"/>
                </a:lnTo>
                <a:lnTo>
                  <a:pt x="692" y="2391"/>
                </a:lnTo>
                <a:lnTo>
                  <a:pt x="657" y="2413"/>
                </a:lnTo>
                <a:lnTo>
                  <a:pt x="643" y="2430"/>
                </a:lnTo>
                <a:lnTo>
                  <a:pt x="621" y="2488"/>
                </a:lnTo>
                <a:lnTo>
                  <a:pt x="604" y="2523"/>
                </a:lnTo>
                <a:lnTo>
                  <a:pt x="626" y="2549"/>
                </a:lnTo>
                <a:lnTo>
                  <a:pt x="626" y="2593"/>
                </a:lnTo>
                <a:lnTo>
                  <a:pt x="621" y="2615"/>
                </a:lnTo>
                <a:lnTo>
                  <a:pt x="604" y="2655"/>
                </a:lnTo>
                <a:lnTo>
                  <a:pt x="564" y="2708"/>
                </a:lnTo>
                <a:lnTo>
                  <a:pt x="537" y="2686"/>
                </a:lnTo>
                <a:lnTo>
                  <a:pt x="515" y="2704"/>
                </a:lnTo>
                <a:lnTo>
                  <a:pt x="485" y="2721"/>
                </a:lnTo>
                <a:lnTo>
                  <a:pt x="440" y="2735"/>
                </a:lnTo>
                <a:lnTo>
                  <a:pt x="388" y="2770"/>
                </a:lnTo>
                <a:lnTo>
                  <a:pt x="339" y="2783"/>
                </a:lnTo>
                <a:lnTo>
                  <a:pt x="295" y="2783"/>
                </a:lnTo>
                <a:lnTo>
                  <a:pt x="246" y="2783"/>
                </a:lnTo>
                <a:lnTo>
                  <a:pt x="141" y="2809"/>
                </a:lnTo>
                <a:lnTo>
                  <a:pt x="97" y="2809"/>
                </a:lnTo>
                <a:lnTo>
                  <a:pt x="70" y="2752"/>
                </a:lnTo>
                <a:lnTo>
                  <a:pt x="44" y="2677"/>
                </a:lnTo>
                <a:lnTo>
                  <a:pt x="30" y="2611"/>
                </a:lnTo>
                <a:lnTo>
                  <a:pt x="22" y="2549"/>
                </a:lnTo>
                <a:lnTo>
                  <a:pt x="22" y="2461"/>
                </a:lnTo>
                <a:lnTo>
                  <a:pt x="0" y="2351"/>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457200" y="2898720"/>
            <a:ext cx="1864080" cy="1640160"/>
          </a:xfrm>
          <a:custGeom>
            <a:avLst/>
            <a:gdLst/>
            <a:ahLst/>
            <a:rect l="0" t="0" r="r" b="b"/>
            <a:pathLst>
              <a:path w="5178" h="4556">
                <a:moveTo>
                  <a:pt x="0" y="1168"/>
                </a:moveTo>
                <a:lnTo>
                  <a:pt x="242" y="1014"/>
                </a:lnTo>
                <a:lnTo>
                  <a:pt x="388" y="952"/>
                </a:lnTo>
                <a:lnTo>
                  <a:pt x="414" y="851"/>
                </a:lnTo>
                <a:lnTo>
                  <a:pt x="299" y="798"/>
                </a:lnTo>
                <a:lnTo>
                  <a:pt x="295" y="679"/>
                </a:lnTo>
                <a:lnTo>
                  <a:pt x="339" y="648"/>
                </a:lnTo>
                <a:lnTo>
                  <a:pt x="330" y="599"/>
                </a:lnTo>
                <a:lnTo>
                  <a:pt x="520" y="582"/>
                </a:lnTo>
                <a:lnTo>
                  <a:pt x="568" y="493"/>
                </a:lnTo>
                <a:lnTo>
                  <a:pt x="577" y="414"/>
                </a:lnTo>
                <a:lnTo>
                  <a:pt x="736" y="388"/>
                </a:lnTo>
                <a:lnTo>
                  <a:pt x="749" y="308"/>
                </a:lnTo>
                <a:lnTo>
                  <a:pt x="599" y="282"/>
                </a:lnTo>
                <a:lnTo>
                  <a:pt x="674" y="224"/>
                </a:lnTo>
                <a:lnTo>
                  <a:pt x="921" y="224"/>
                </a:lnTo>
                <a:lnTo>
                  <a:pt x="987" y="158"/>
                </a:lnTo>
                <a:lnTo>
                  <a:pt x="1093" y="154"/>
                </a:lnTo>
                <a:lnTo>
                  <a:pt x="1159" y="92"/>
                </a:lnTo>
                <a:lnTo>
                  <a:pt x="1239" y="194"/>
                </a:lnTo>
                <a:lnTo>
                  <a:pt x="1552" y="171"/>
                </a:lnTo>
                <a:lnTo>
                  <a:pt x="1688" y="273"/>
                </a:lnTo>
                <a:lnTo>
                  <a:pt x="2151" y="246"/>
                </a:lnTo>
                <a:lnTo>
                  <a:pt x="2226" y="198"/>
                </a:lnTo>
                <a:lnTo>
                  <a:pt x="2403" y="282"/>
                </a:lnTo>
                <a:lnTo>
                  <a:pt x="2584" y="352"/>
                </a:lnTo>
                <a:lnTo>
                  <a:pt x="2673" y="321"/>
                </a:lnTo>
                <a:lnTo>
                  <a:pt x="2726" y="282"/>
                </a:lnTo>
                <a:lnTo>
                  <a:pt x="2876" y="308"/>
                </a:lnTo>
                <a:lnTo>
                  <a:pt x="2774" y="246"/>
                </a:lnTo>
                <a:lnTo>
                  <a:pt x="2677" y="260"/>
                </a:lnTo>
                <a:lnTo>
                  <a:pt x="2535" y="273"/>
                </a:lnTo>
                <a:lnTo>
                  <a:pt x="2465" y="194"/>
                </a:lnTo>
                <a:lnTo>
                  <a:pt x="2385" y="154"/>
                </a:lnTo>
                <a:lnTo>
                  <a:pt x="2385" y="79"/>
                </a:lnTo>
                <a:lnTo>
                  <a:pt x="2407" y="4"/>
                </a:lnTo>
                <a:lnTo>
                  <a:pt x="2469" y="0"/>
                </a:lnTo>
                <a:lnTo>
                  <a:pt x="2557" y="61"/>
                </a:lnTo>
                <a:lnTo>
                  <a:pt x="2584" y="30"/>
                </a:lnTo>
                <a:lnTo>
                  <a:pt x="2655" y="0"/>
                </a:lnTo>
                <a:lnTo>
                  <a:pt x="2739" y="44"/>
                </a:lnTo>
                <a:lnTo>
                  <a:pt x="2792" y="4"/>
                </a:lnTo>
                <a:lnTo>
                  <a:pt x="2840" y="70"/>
                </a:lnTo>
                <a:lnTo>
                  <a:pt x="2845" y="119"/>
                </a:lnTo>
                <a:lnTo>
                  <a:pt x="2973" y="171"/>
                </a:lnTo>
                <a:lnTo>
                  <a:pt x="2929" y="224"/>
                </a:lnTo>
                <a:lnTo>
                  <a:pt x="2929" y="291"/>
                </a:lnTo>
                <a:lnTo>
                  <a:pt x="3140" y="308"/>
                </a:lnTo>
                <a:lnTo>
                  <a:pt x="3198" y="224"/>
                </a:lnTo>
                <a:lnTo>
                  <a:pt x="3153" y="185"/>
                </a:lnTo>
                <a:lnTo>
                  <a:pt x="3061" y="194"/>
                </a:lnTo>
                <a:lnTo>
                  <a:pt x="3083" y="92"/>
                </a:lnTo>
                <a:lnTo>
                  <a:pt x="3277" y="154"/>
                </a:lnTo>
                <a:lnTo>
                  <a:pt x="3317" y="216"/>
                </a:lnTo>
                <a:lnTo>
                  <a:pt x="3471" y="216"/>
                </a:lnTo>
                <a:lnTo>
                  <a:pt x="3634" y="295"/>
                </a:lnTo>
                <a:lnTo>
                  <a:pt x="3709" y="282"/>
                </a:lnTo>
                <a:lnTo>
                  <a:pt x="3797" y="352"/>
                </a:lnTo>
                <a:lnTo>
                  <a:pt x="3709" y="449"/>
                </a:lnTo>
                <a:lnTo>
                  <a:pt x="3643" y="379"/>
                </a:lnTo>
                <a:lnTo>
                  <a:pt x="3590" y="401"/>
                </a:lnTo>
                <a:lnTo>
                  <a:pt x="3524" y="463"/>
                </a:lnTo>
                <a:lnTo>
                  <a:pt x="3409" y="507"/>
                </a:lnTo>
                <a:lnTo>
                  <a:pt x="3467" y="582"/>
                </a:lnTo>
                <a:lnTo>
                  <a:pt x="3370" y="590"/>
                </a:lnTo>
                <a:lnTo>
                  <a:pt x="3290" y="692"/>
                </a:lnTo>
                <a:lnTo>
                  <a:pt x="3211" y="811"/>
                </a:lnTo>
                <a:lnTo>
                  <a:pt x="3330" y="912"/>
                </a:lnTo>
                <a:lnTo>
                  <a:pt x="3427" y="1036"/>
                </a:lnTo>
                <a:lnTo>
                  <a:pt x="3608" y="1053"/>
                </a:lnTo>
                <a:lnTo>
                  <a:pt x="3766" y="1036"/>
                </a:lnTo>
                <a:lnTo>
                  <a:pt x="3841" y="1106"/>
                </a:lnTo>
                <a:lnTo>
                  <a:pt x="3811" y="1137"/>
                </a:lnTo>
                <a:lnTo>
                  <a:pt x="3762" y="1203"/>
                </a:lnTo>
                <a:lnTo>
                  <a:pt x="3833" y="1314"/>
                </a:lnTo>
                <a:lnTo>
                  <a:pt x="3855" y="1393"/>
                </a:lnTo>
                <a:lnTo>
                  <a:pt x="3943" y="1437"/>
                </a:lnTo>
                <a:lnTo>
                  <a:pt x="4066" y="1362"/>
                </a:lnTo>
                <a:lnTo>
                  <a:pt x="4031" y="1261"/>
                </a:lnTo>
                <a:lnTo>
                  <a:pt x="3930" y="1168"/>
                </a:lnTo>
                <a:lnTo>
                  <a:pt x="4049" y="1062"/>
                </a:lnTo>
                <a:lnTo>
                  <a:pt x="3943" y="881"/>
                </a:lnTo>
                <a:lnTo>
                  <a:pt x="3846" y="811"/>
                </a:lnTo>
                <a:lnTo>
                  <a:pt x="3930" y="745"/>
                </a:lnTo>
                <a:lnTo>
                  <a:pt x="3912" y="648"/>
                </a:lnTo>
                <a:lnTo>
                  <a:pt x="3965" y="590"/>
                </a:lnTo>
                <a:lnTo>
                  <a:pt x="4066" y="648"/>
                </a:lnTo>
                <a:lnTo>
                  <a:pt x="4287" y="859"/>
                </a:lnTo>
                <a:lnTo>
                  <a:pt x="4423" y="890"/>
                </a:lnTo>
                <a:lnTo>
                  <a:pt x="4459" y="833"/>
                </a:lnTo>
                <a:lnTo>
                  <a:pt x="4428" y="723"/>
                </a:lnTo>
                <a:lnTo>
                  <a:pt x="4512" y="736"/>
                </a:lnTo>
                <a:lnTo>
                  <a:pt x="4644" y="864"/>
                </a:lnTo>
                <a:lnTo>
                  <a:pt x="4666" y="939"/>
                </a:lnTo>
                <a:lnTo>
                  <a:pt x="4745" y="987"/>
                </a:lnTo>
                <a:lnTo>
                  <a:pt x="4904" y="1049"/>
                </a:lnTo>
                <a:lnTo>
                  <a:pt x="4983" y="1155"/>
                </a:lnTo>
                <a:lnTo>
                  <a:pt x="5103" y="1221"/>
                </a:lnTo>
                <a:lnTo>
                  <a:pt x="5169" y="1247"/>
                </a:lnTo>
                <a:lnTo>
                  <a:pt x="5178" y="1314"/>
                </a:lnTo>
                <a:lnTo>
                  <a:pt x="5081" y="1358"/>
                </a:lnTo>
                <a:lnTo>
                  <a:pt x="5023" y="1309"/>
                </a:lnTo>
                <a:lnTo>
                  <a:pt x="4979" y="1314"/>
                </a:lnTo>
                <a:lnTo>
                  <a:pt x="4961" y="1419"/>
                </a:lnTo>
                <a:lnTo>
                  <a:pt x="4886" y="1446"/>
                </a:lnTo>
                <a:lnTo>
                  <a:pt x="4798" y="1389"/>
                </a:lnTo>
                <a:lnTo>
                  <a:pt x="4609" y="1389"/>
                </a:lnTo>
                <a:lnTo>
                  <a:pt x="4587" y="1512"/>
                </a:lnTo>
                <a:lnTo>
                  <a:pt x="4635" y="1587"/>
                </a:lnTo>
                <a:lnTo>
                  <a:pt x="4710" y="1543"/>
                </a:lnTo>
                <a:lnTo>
                  <a:pt x="4781" y="1525"/>
                </a:lnTo>
                <a:lnTo>
                  <a:pt x="4847" y="1569"/>
                </a:lnTo>
                <a:lnTo>
                  <a:pt x="4754" y="1653"/>
                </a:lnTo>
                <a:lnTo>
                  <a:pt x="4847" y="1741"/>
                </a:lnTo>
                <a:lnTo>
                  <a:pt x="4979" y="1759"/>
                </a:lnTo>
                <a:lnTo>
                  <a:pt x="4961" y="1807"/>
                </a:lnTo>
                <a:lnTo>
                  <a:pt x="4917" y="1821"/>
                </a:lnTo>
                <a:lnTo>
                  <a:pt x="4798" y="2099"/>
                </a:lnTo>
                <a:lnTo>
                  <a:pt x="4803" y="1913"/>
                </a:lnTo>
                <a:lnTo>
                  <a:pt x="4860" y="1825"/>
                </a:lnTo>
                <a:lnTo>
                  <a:pt x="4798" y="1785"/>
                </a:lnTo>
                <a:lnTo>
                  <a:pt x="4723" y="1843"/>
                </a:lnTo>
                <a:lnTo>
                  <a:pt x="4763" y="1896"/>
                </a:lnTo>
                <a:lnTo>
                  <a:pt x="4710" y="1927"/>
                </a:lnTo>
                <a:lnTo>
                  <a:pt x="4653" y="1962"/>
                </a:lnTo>
                <a:lnTo>
                  <a:pt x="4662" y="2085"/>
                </a:lnTo>
                <a:lnTo>
                  <a:pt x="4578" y="2134"/>
                </a:lnTo>
                <a:lnTo>
                  <a:pt x="4468" y="2151"/>
                </a:lnTo>
                <a:lnTo>
                  <a:pt x="4512" y="2218"/>
                </a:lnTo>
                <a:lnTo>
                  <a:pt x="4468" y="2289"/>
                </a:lnTo>
                <a:lnTo>
                  <a:pt x="4512" y="2346"/>
                </a:lnTo>
                <a:lnTo>
                  <a:pt x="4441" y="2470"/>
                </a:lnTo>
                <a:lnTo>
                  <a:pt x="4423" y="2580"/>
                </a:lnTo>
                <a:lnTo>
                  <a:pt x="4322" y="2651"/>
                </a:lnTo>
                <a:lnTo>
                  <a:pt x="4203" y="2827"/>
                </a:lnTo>
                <a:lnTo>
                  <a:pt x="4190" y="2951"/>
                </a:lnTo>
                <a:lnTo>
                  <a:pt x="4229" y="3048"/>
                </a:lnTo>
                <a:lnTo>
                  <a:pt x="4287" y="3167"/>
                </a:lnTo>
                <a:lnTo>
                  <a:pt x="4318" y="3303"/>
                </a:lnTo>
                <a:lnTo>
                  <a:pt x="4260" y="3356"/>
                </a:lnTo>
                <a:lnTo>
                  <a:pt x="4190" y="3317"/>
                </a:lnTo>
                <a:lnTo>
                  <a:pt x="4203" y="3246"/>
                </a:lnTo>
                <a:lnTo>
                  <a:pt x="4168" y="3105"/>
                </a:lnTo>
                <a:lnTo>
                  <a:pt x="4115" y="3078"/>
                </a:lnTo>
                <a:lnTo>
                  <a:pt x="4084" y="2995"/>
                </a:lnTo>
                <a:lnTo>
                  <a:pt x="4022" y="2995"/>
                </a:lnTo>
                <a:lnTo>
                  <a:pt x="3952" y="2937"/>
                </a:lnTo>
                <a:lnTo>
                  <a:pt x="3872" y="2959"/>
                </a:lnTo>
                <a:lnTo>
                  <a:pt x="3797" y="2924"/>
                </a:lnTo>
                <a:lnTo>
                  <a:pt x="3709" y="2964"/>
                </a:lnTo>
                <a:lnTo>
                  <a:pt x="3555" y="2933"/>
                </a:lnTo>
                <a:lnTo>
                  <a:pt x="3661" y="3039"/>
                </a:lnTo>
                <a:lnTo>
                  <a:pt x="3524" y="3030"/>
                </a:lnTo>
                <a:lnTo>
                  <a:pt x="3427" y="2951"/>
                </a:lnTo>
                <a:lnTo>
                  <a:pt x="3268" y="2951"/>
                </a:lnTo>
                <a:lnTo>
                  <a:pt x="3290" y="3078"/>
                </a:lnTo>
                <a:lnTo>
                  <a:pt x="3171" y="3039"/>
                </a:lnTo>
                <a:lnTo>
                  <a:pt x="3109" y="3167"/>
                </a:lnTo>
                <a:lnTo>
                  <a:pt x="3153" y="3228"/>
                </a:lnTo>
                <a:lnTo>
                  <a:pt x="3109" y="3383"/>
                </a:lnTo>
                <a:lnTo>
                  <a:pt x="3167" y="3559"/>
                </a:lnTo>
                <a:lnTo>
                  <a:pt x="3228" y="3678"/>
                </a:lnTo>
                <a:lnTo>
                  <a:pt x="3299" y="3797"/>
                </a:lnTo>
                <a:lnTo>
                  <a:pt x="3524" y="3788"/>
                </a:lnTo>
                <a:lnTo>
                  <a:pt x="3616" y="3766"/>
                </a:lnTo>
                <a:lnTo>
                  <a:pt x="3634" y="3678"/>
                </a:lnTo>
                <a:lnTo>
                  <a:pt x="3586" y="3616"/>
                </a:lnTo>
                <a:lnTo>
                  <a:pt x="3590" y="3559"/>
                </a:lnTo>
                <a:lnTo>
                  <a:pt x="3727" y="3577"/>
                </a:lnTo>
                <a:lnTo>
                  <a:pt x="3863" y="3542"/>
                </a:lnTo>
                <a:lnTo>
                  <a:pt x="3863" y="3616"/>
                </a:lnTo>
                <a:lnTo>
                  <a:pt x="3824" y="3722"/>
                </a:lnTo>
                <a:lnTo>
                  <a:pt x="3762" y="3802"/>
                </a:lnTo>
                <a:lnTo>
                  <a:pt x="3744" y="3921"/>
                </a:lnTo>
                <a:lnTo>
                  <a:pt x="3833" y="3969"/>
                </a:lnTo>
                <a:lnTo>
                  <a:pt x="3952" y="3952"/>
                </a:lnTo>
                <a:lnTo>
                  <a:pt x="4022" y="3987"/>
                </a:lnTo>
                <a:lnTo>
                  <a:pt x="4084" y="3974"/>
                </a:lnTo>
                <a:lnTo>
                  <a:pt x="4110" y="4049"/>
                </a:lnTo>
                <a:lnTo>
                  <a:pt x="4053" y="4159"/>
                </a:lnTo>
                <a:lnTo>
                  <a:pt x="4102" y="4229"/>
                </a:lnTo>
                <a:lnTo>
                  <a:pt x="4110" y="4357"/>
                </a:lnTo>
                <a:lnTo>
                  <a:pt x="4190" y="4446"/>
                </a:lnTo>
                <a:lnTo>
                  <a:pt x="4291" y="4468"/>
                </a:lnTo>
                <a:lnTo>
                  <a:pt x="4366" y="4446"/>
                </a:lnTo>
                <a:lnTo>
                  <a:pt x="4397" y="4454"/>
                </a:lnTo>
                <a:lnTo>
                  <a:pt x="4529" y="4454"/>
                </a:lnTo>
                <a:lnTo>
                  <a:pt x="4653" y="4463"/>
                </a:lnTo>
                <a:lnTo>
                  <a:pt x="4684" y="4406"/>
                </a:lnTo>
                <a:lnTo>
                  <a:pt x="4578" y="4507"/>
                </a:lnTo>
                <a:lnTo>
                  <a:pt x="4512" y="4494"/>
                </a:lnTo>
                <a:lnTo>
                  <a:pt x="4437" y="4507"/>
                </a:lnTo>
                <a:lnTo>
                  <a:pt x="4291" y="4556"/>
                </a:lnTo>
                <a:lnTo>
                  <a:pt x="4172" y="4490"/>
                </a:lnTo>
                <a:lnTo>
                  <a:pt x="4066" y="4446"/>
                </a:lnTo>
                <a:lnTo>
                  <a:pt x="4018" y="4454"/>
                </a:lnTo>
                <a:lnTo>
                  <a:pt x="4022" y="4397"/>
                </a:lnTo>
                <a:lnTo>
                  <a:pt x="4018" y="4309"/>
                </a:lnTo>
                <a:lnTo>
                  <a:pt x="3921" y="4229"/>
                </a:lnTo>
                <a:lnTo>
                  <a:pt x="3722" y="4181"/>
                </a:lnTo>
                <a:lnTo>
                  <a:pt x="3691" y="4137"/>
                </a:lnTo>
                <a:lnTo>
                  <a:pt x="3634" y="4141"/>
                </a:lnTo>
                <a:lnTo>
                  <a:pt x="3577" y="4106"/>
                </a:lnTo>
                <a:lnTo>
                  <a:pt x="3489" y="4062"/>
                </a:lnTo>
                <a:lnTo>
                  <a:pt x="3396" y="3952"/>
                </a:lnTo>
                <a:lnTo>
                  <a:pt x="3286" y="3921"/>
                </a:lnTo>
                <a:lnTo>
                  <a:pt x="3220" y="3987"/>
                </a:lnTo>
                <a:lnTo>
                  <a:pt x="3149" y="3934"/>
                </a:lnTo>
                <a:lnTo>
                  <a:pt x="3061" y="3934"/>
                </a:lnTo>
                <a:lnTo>
                  <a:pt x="2884" y="3894"/>
                </a:lnTo>
                <a:lnTo>
                  <a:pt x="2566" y="3696"/>
                </a:lnTo>
                <a:lnTo>
                  <a:pt x="2540" y="3493"/>
                </a:lnTo>
                <a:lnTo>
                  <a:pt x="2509" y="3414"/>
                </a:lnTo>
                <a:lnTo>
                  <a:pt x="2451" y="3356"/>
                </a:lnTo>
                <a:lnTo>
                  <a:pt x="2385" y="3242"/>
                </a:lnTo>
                <a:lnTo>
                  <a:pt x="2050" y="2854"/>
                </a:lnTo>
                <a:lnTo>
                  <a:pt x="2050" y="2999"/>
                </a:lnTo>
                <a:lnTo>
                  <a:pt x="2257" y="3259"/>
                </a:lnTo>
                <a:lnTo>
                  <a:pt x="2345" y="3475"/>
                </a:lnTo>
                <a:lnTo>
                  <a:pt x="2213" y="3431"/>
                </a:lnTo>
                <a:lnTo>
                  <a:pt x="2196" y="3303"/>
                </a:lnTo>
                <a:lnTo>
                  <a:pt x="2028" y="3215"/>
                </a:lnTo>
                <a:lnTo>
                  <a:pt x="2121" y="3167"/>
                </a:lnTo>
                <a:lnTo>
                  <a:pt x="1896" y="3030"/>
                </a:lnTo>
                <a:lnTo>
                  <a:pt x="1984" y="2951"/>
                </a:lnTo>
                <a:lnTo>
                  <a:pt x="1909" y="2783"/>
                </a:lnTo>
                <a:lnTo>
                  <a:pt x="1640" y="2443"/>
                </a:lnTo>
                <a:lnTo>
                  <a:pt x="1600" y="2253"/>
                </a:lnTo>
                <a:lnTo>
                  <a:pt x="1618" y="2085"/>
                </a:lnTo>
                <a:lnTo>
                  <a:pt x="1688" y="1927"/>
                </a:lnTo>
                <a:lnTo>
                  <a:pt x="1688" y="1759"/>
                </a:lnTo>
                <a:lnTo>
                  <a:pt x="1640" y="1666"/>
                </a:lnTo>
                <a:lnTo>
                  <a:pt x="1790" y="1631"/>
                </a:lnTo>
                <a:lnTo>
                  <a:pt x="1600" y="1437"/>
                </a:lnTo>
                <a:lnTo>
                  <a:pt x="1613" y="1344"/>
                </a:lnTo>
                <a:lnTo>
                  <a:pt x="1534" y="1221"/>
                </a:lnTo>
                <a:lnTo>
                  <a:pt x="1565" y="1155"/>
                </a:lnTo>
                <a:lnTo>
                  <a:pt x="1508" y="1111"/>
                </a:lnTo>
                <a:lnTo>
                  <a:pt x="1499" y="1031"/>
                </a:lnTo>
                <a:lnTo>
                  <a:pt x="1446" y="965"/>
                </a:lnTo>
                <a:lnTo>
                  <a:pt x="1508" y="908"/>
                </a:lnTo>
                <a:lnTo>
                  <a:pt x="1419" y="864"/>
                </a:lnTo>
                <a:lnTo>
                  <a:pt x="1349" y="926"/>
                </a:lnTo>
                <a:lnTo>
                  <a:pt x="1243" y="811"/>
                </a:lnTo>
                <a:lnTo>
                  <a:pt x="1133" y="776"/>
                </a:lnTo>
                <a:lnTo>
                  <a:pt x="974" y="776"/>
                </a:lnTo>
                <a:lnTo>
                  <a:pt x="868" y="881"/>
                </a:lnTo>
                <a:lnTo>
                  <a:pt x="824" y="851"/>
                </a:lnTo>
                <a:lnTo>
                  <a:pt x="912" y="709"/>
                </a:lnTo>
                <a:lnTo>
                  <a:pt x="833" y="736"/>
                </a:lnTo>
                <a:lnTo>
                  <a:pt x="674" y="881"/>
                </a:lnTo>
                <a:lnTo>
                  <a:pt x="507" y="1014"/>
                </a:lnTo>
                <a:lnTo>
                  <a:pt x="357" y="1049"/>
                </a:lnTo>
                <a:lnTo>
                  <a:pt x="101" y="1177"/>
                </a:lnTo>
                <a:lnTo>
                  <a:pt x="0" y="116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1792440" y="2743200"/>
            <a:ext cx="628920" cy="432000"/>
          </a:xfrm>
          <a:custGeom>
            <a:avLst/>
            <a:gdLst/>
            <a:ahLst/>
            <a:rect l="0" t="0" r="r" b="b"/>
            <a:pathLst>
              <a:path w="1747" h="1200">
                <a:moveTo>
                  <a:pt x="0" y="242"/>
                </a:moveTo>
                <a:lnTo>
                  <a:pt x="35" y="154"/>
                </a:lnTo>
                <a:lnTo>
                  <a:pt x="35" y="88"/>
                </a:lnTo>
                <a:lnTo>
                  <a:pt x="101" y="0"/>
                </a:lnTo>
                <a:lnTo>
                  <a:pt x="414" y="57"/>
                </a:lnTo>
                <a:lnTo>
                  <a:pt x="966" y="163"/>
                </a:lnTo>
                <a:lnTo>
                  <a:pt x="1178" y="251"/>
                </a:lnTo>
                <a:lnTo>
                  <a:pt x="1460" y="335"/>
                </a:lnTo>
                <a:lnTo>
                  <a:pt x="1606" y="489"/>
                </a:lnTo>
                <a:lnTo>
                  <a:pt x="1747" y="568"/>
                </a:lnTo>
                <a:lnTo>
                  <a:pt x="1694" y="631"/>
                </a:lnTo>
                <a:lnTo>
                  <a:pt x="1694" y="702"/>
                </a:lnTo>
                <a:lnTo>
                  <a:pt x="1637" y="715"/>
                </a:lnTo>
                <a:lnTo>
                  <a:pt x="1588" y="785"/>
                </a:lnTo>
                <a:lnTo>
                  <a:pt x="1637" y="852"/>
                </a:lnTo>
                <a:lnTo>
                  <a:pt x="1628" y="900"/>
                </a:lnTo>
                <a:lnTo>
                  <a:pt x="1575" y="962"/>
                </a:lnTo>
                <a:lnTo>
                  <a:pt x="1579" y="1028"/>
                </a:lnTo>
                <a:lnTo>
                  <a:pt x="1676" y="1094"/>
                </a:lnTo>
                <a:lnTo>
                  <a:pt x="1681" y="1160"/>
                </a:lnTo>
                <a:lnTo>
                  <a:pt x="1659" y="1191"/>
                </a:lnTo>
                <a:lnTo>
                  <a:pt x="1562" y="1200"/>
                </a:lnTo>
                <a:lnTo>
                  <a:pt x="1491" y="1165"/>
                </a:lnTo>
                <a:lnTo>
                  <a:pt x="1416" y="1085"/>
                </a:lnTo>
                <a:lnTo>
                  <a:pt x="1381" y="1085"/>
                </a:lnTo>
                <a:lnTo>
                  <a:pt x="1341" y="1054"/>
                </a:lnTo>
                <a:lnTo>
                  <a:pt x="1306" y="957"/>
                </a:lnTo>
                <a:lnTo>
                  <a:pt x="1253" y="918"/>
                </a:lnTo>
                <a:lnTo>
                  <a:pt x="1151" y="869"/>
                </a:lnTo>
                <a:lnTo>
                  <a:pt x="1068" y="838"/>
                </a:lnTo>
                <a:lnTo>
                  <a:pt x="940" y="750"/>
                </a:lnTo>
                <a:lnTo>
                  <a:pt x="882" y="684"/>
                </a:lnTo>
                <a:lnTo>
                  <a:pt x="891" y="636"/>
                </a:lnTo>
                <a:lnTo>
                  <a:pt x="949" y="590"/>
                </a:lnTo>
                <a:lnTo>
                  <a:pt x="896" y="537"/>
                </a:lnTo>
                <a:lnTo>
                  <a:pt x="851" y="568"/>
                </a:lnTo>
                <a:lnTo>
                  <a:pt x="771" y="489"/>
                </a:lnTo>
                <a:lnTo>
                  <a:pt x="758" y="529"/>
                </a:lnTo>
                <a:lnTo>
                  <a:pt x="683" y="529"/>
                </a:lnTo>
                <a:lnTo>
                  <a:pt x="670" y="493"/>
                </a:lnTo>
                <a:lnTo>
                  <a:pt x="670" y="436"/>
                </a:lnTo>
                <a:lnTo>
                  <a:pt x="639" y="405"/>
                </a:lnTo>
                <a:lnTo>
                  <a:pt x="590" y="414"/>
                </a:lnTo>
                <a:lnTo>
                  <a:pt x="524" y="326"/>
                </a:lnTo>
                <a:lnTo>
                  <a:pt x="476" y="317"/>
                </a:lnTo>
                <a:lnTo>
                  <a:pt x="405" y="277"/>
                </a:lnTo>
                <a:lnTo>
                  <a:pt x="255" y="282"/>
                </a:lnTo>
                <a:lnTo>
                  <a:pt x="105" y="277"/>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1" name=""/>
          <p:cNvSpPr/>
          <p:nvPr/>
        </p:nvSpPr>
        <p:spPr>
          <a:xfrm>
            <a:off x="1655640" y="2895480"/>
            <a:ext cx="413280" cy="222480"/>
          </a:xfrm>
          <a:custGeom>
            <a:avLst/>
            <a:gdLst/>
            <a:ahLst/>
            <a:rect l="0" t="0" r="r" b="b"/>
            <a:pathLst>
              <a:path w="1148" h="618">
                <a:moveTo>
                  <a:pt x="35" y="0"/>
                </a:moveTo>
                <a:lnTo>
                  <a:pt x="0" y="52"/>
                </a:lnTo>
                <a:lnTo>
                  <a:pt x="0" y="105"/>
                </a:lnTo>
                <a:lnTo>
                  <a:pt x="74" y="167"/>
                </a:lnTo>
                <a:lnTo>
                  <a:pt x="123" y="154"/>
                </a:lnTo>
                <a:lnTo>
                  <a:pt x="136" y="180"/>
                </a:lnTo>
                <a:lnTo>
                  <a:pt x="207" y="185"/>
                </a:lnTo>
                <a:lnTo>
                  <a:pt x="238" y="145"/>
                </a:lnTo>
                <a:lnTo>
                  <a:pt x="349" y="154"/>
                </a:lnTo>
                <a:lnTo>
                  <a:pt x="362" y="194"/>
                </a:lnTo>
                <a:lnTo>
                  <a:pt x="406" y="211"/>
                </a:lnTo>
                <a:lnTo>
                  <a:pt x="499" y="207"/>
                </a:lnTo>
                <a:lnTo>
                  <a:pt x="530" y="224"/>
                </a:lnTo>
                <a:lnTo>
                  <a:pt x="583" y="251"/>
                </a:lnTo>
                <a:lnTo>
                  <a:pt x="618" y="299"/>
                </a:lnTo>
                <a:lnTo>
                  <a:pt x="618" y="367"/>
                </a:lnTo>
                <a:lnTo>
                  <a:pt x="587" y="380"/>
                </a:lnTo>
                <a:lnTo>
                  <a:pt x="605" y="406"/>
                </a:lnTo>
                <a:lnTo>
                  <a:pt x="556" y="446"/>
                </a:lnTo>
                <a:lnTo>
                  <a:pt x="556" y="503"/>
                </a:lnTo>
                <a:lnTo>
                  <a:pt x="631" y="516"/>
                </a:lnTo>
                <a:lnTo>
                  <a:pt x="666" y="494"/>
                </a:lnTo>
                <a:lnTo>
                  <a:pt x="688" y="472"/>
                </a:lnTo>
                <a:lnTo>
                  <a:pt x="706" y="494"/>
                </a:lnTo>
                <a:lnTo>
                  <a:pt x="750" y="477"/>
                </a:lnTo>
                <a:lnTo>
                  <a:pt x="838" y="516"/>
                </a:lnTo>
                <a:lnTo>
                  <a:pt x="892" y="569"/>
                </a:lnTo>
                <a:lnTo>
                  <a:pt x="905" y="569"/>
                </a:lnTo>
                <a:lnTo>
                  <a:pt x="919" y="600"/>
                </a:lnTo>
                <a:lnTo>
                  <a:pt x="976" y="618"/>
                </a:lnTo>
                <a:lnTo>
                  <a:pt x="1038" y="618"/>
                </a:lnTo>
                <a:lnTo>
                  <a:pt x="994" y="583"/>
                </a:lnTo>
                <a:lnTo>
                  <a:pt x="1011" y="552"/>
                </a:lnTo>
                <a:lnTo>
                  <a:pt x="1064" y="583"/>
                </a:lnTo>
                <a:lnTo>
                  <a:pt x="1113" y="596"/>
                </a:lnTo>
                <a:lnTo>
                  <a:pt x="1126" y="547"/>
                </a:lnTo>
                <a:lnTo>
                  <a:pt x="1069" y="503"/>
                </a:lnTo>
                <a:lnTo>
                  <a:pt x="1025" y="503"/>
                </a:lnTo>
                <a:lnTo>
                  <a:pt x="976" y="464"/>
                </a:lnTo>
                <a:lnTo>
                  <a:pt x="1025" y="464"/>
                </a:lnTo>
                <a:lnTo>
                  <a:pt x="1069" y="490"/>
                </a:lnTo>
                <a:lnTo>
                  <a:pt x="1148" y="490"/>
                </a:lnTo>
                <a:lnTo>
                  <a:pt x="1130" y="441"/>
                </a:lnTo>
                <a:lnTo>
                  <a:pt x="1064" y="393"/>
                </a:lnTo>
                <a:lnTo>
                  <a:pt x="1011" y="380"/>
                </a:lnTo>
                <a:lnTo>
                  <a:pt x="941" y="322"/>
                </a:lnTo>
                <a:lnTo>
                  <a:pt x="852" y="308"/>
                </a:lnTo>
                <a:lnTo>
                  <a:pt x="781" y="286"/>
                </a:lnTo>
                <a:lnTo>
                  <a:pt x="724" y="211"/>
                </a:lnTo>
                <a:lnTo>
                  <a:pt x="688" y="114"/>
                </a:lnTo>
                <a:lnTo>
                  <a:pt x="631" y="114"/>
                </a:lnTo>
                <a:lnTo>
                  <a:pt x="613" y="88"/>
                </a:lnTo>
                <a:lnTo>
                  <a:pt x="583" y="97"/>
                </a:lnTo>
                <a:lnTo>
                  <a:pt x="525" y="57"/>
                </a:lnTo>
                <a:lnTo>
                  <a:pt x="433" y="39"/>
                </a:lnTo>
                <a:lnTo>
                  <a:pt x="389" y="66"/>
                </a:lnTo>
                <a:lnTo>
                  <a:pt x="300" y="39"/>
                </a:lnTo>
                <a:lnTo>
                  <a:pt x="242" y="39"/>
                </a:lnTo>
                <a:lnTo>
                  <a:pt x="220" y="8"/>
                </a:lnTo>
                <a:lnTo>
                  <a:pt x="189" y="0"/>
                </a:lnTo>
                <a:lnTo>
                  <a:pt x="136" y="8"/>
                </a:lnTo>
                <a:lnTo>
                  <a:pt x="35"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1889280" y="4133880"/>
            <a:ext cx="290880" cy="97200"/>
          </a:xfrm>
          <a:custGeom>
            <a:avLst/>
            <a:gdLst/>
            <a:ahLst/>
            <a:rect l="0" t="0" r="r" b="b"/>
            <a:pathLst>
              <a:path w="808" h="270">
                <a:moveTo>
                  <a:pt x="0" y="128"/>
                </a:moveTo>
                <a:lnTo>
                  <a:pt x="70" y="48"/>
                </a:lnTo>
                <a:lnTo>
                  <a:pt x="101" y="48"/>
                </a:lnTo>
                <a:lnTo>
                  <a:pt x="158" y="13"/>
                </a:lnTo>
                <a:lnTo>
                  <a:pt x="221" y="13"/>
                </a:lnTo>
                <a:lnTo>
                  <a:pt x="239" y="4"/>
                </a:lnTo>
                <a:lnTo>
                  <a:pt x="265" y="0"/>
                </a:lnTo>
                <a:lnTo>
                  <a:pt x="340" y="44"/>
                </a:lnTo>
                <a:lnTo>
                  <a:pt x="367" y="75"/>
                </a:lnTo>
                <a:lnTo>
                  <a:pt x="384" y="61"/>
                </a:lnTo>
                <a:lnTo>
                  <a:pt x="446" y="93"/>
                </a:lnTo>
                <a:lnTo>
                  <a:pt x="486" y="93"/>
                </a:lnTo>
                <a:lnTo>
                  <a:pt x="521" y="115"/>
                </a:lnTo>
                <a:lnTo>
                  <a:pt x="578" y="128"/>
                </a:lnTo>
                <a:lnTo>
                  <a:pt x="578" y="172"/>
                </a:lnTo>
                <a:lnTo>
                  <a:pt x="681" y="172"/>
                </a:lnTo>
                <a:lnTo>
                  <a:pt x="703" y="218"/>
                </a:lnTo>
                <a:lnTo>
                  <a:pt x="764" y="218"/>
                </a:lnTo>
                <a:lnTo>
                  <a:pt x="808" y="262"/>
                </a:lnTo>
                <a:lnTo>
                  <a:pt x="786" y="270"/>
                </a:lnTo>
                <a:lnTo>
                  <a:pt x="764" y="253"/>
                </a:lnTo>
                <a:lnTo>
                  <a:pt x="760" y="248"/>
                </a:lnTo>
                <a:lnTo>
                  <a:pt x="703" y="253"/>
                </a:lnTo>
                <a:lnTo>
                  <a:pt x="685" y="262"/>
                </a:lnTo>
                <a:lnTo>
                  <a:pt x="641" y="270"/>
                </a:lnTo>
                <a:lnTo>
                  <a:pt x="565" y="270"/>
                </a:lnTo>
                <a:lnTo>
                  <a:pt x="521" y="270"/>
                </a:lnTo>
                <a:lnTo>
                  <a:pt x="521" y="248"/>
                </a:lnTo>
                <a:lnTo>
                  <a:pt x="446" y="181"/>
                </a:lnTo>
                <a:lnTo>
                  <a:pt x="446" y="142"/>
                </a:lnTo>
                <a:lnTo>
                  <a:pt x="367" y="142"/>
                </a:lnTo>
                <a:lnTo>
                  <a:pt x="336" y="115"/>
                </a:lnTo>
                <a:lnTo>
                  <a:pt x="309" y="142"/>
                </a:lnTo>
                <a:lnTo>
                  <a:pt x="292" y="111"/>
                </a:lnTo>
                <a:lnTo>
                  <a:pt x="265" y="111"/>
                </a:lnTo>
                <a:lnTo>
                  <a:pt x="265" y="66"/>
                </a:lnTo>
                <a:lnTo>
                  <a:pt x="239" y="48"/>
                </a:lnTo>
                <a:lnTo>
                  <a:pt x="167" y="61"/>
                </a:lnTo>
                <a:lnTo>
                  <a:pt x="119" y="111"/>
                </a:lnTo>
                <a:lnTo>
                  <a:pt x="66" y="115"/>
                </a:lnTo>
                <a:lnTo>
                  <a:pt x="0" y="12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2146320" y="4205160"/>
            <a:ext cx="184680" cy="86040"/>
          </a:xfrm>
          <a:custGeom>
            <a:avLst/>
            <a:gdLst/>
            <a:ahLst/>
            <a:rect l="0" t="0" r="r" b="b"/>
            <a:pathLst>
              <a:path w="513" h="239">
                <a:moveTo>
                  <a:pt x="0" y="177"/>
                </a:moveTo>
                <a:lnTo>
                  <a:pt x="44" y="186"/>
                </a:lnTo>
                <a:lnTo>
                  <a:pt x="155" y="177"/>
                </a:lnTo>
                <a:lnTo>
                  <a:pt x="208" y="225"/>
                </a:lnTo>
                <a:lnTo>
                  <a:pt x="269" y="239"/>
                </a:lnTo>
                <a:lnTo>
                  <a:pt x="300" y="177"/>
                </a:lnTo>
                <a:lnTo>
                  <a:pt x="287" y="159"/>
                </a:lnTo>
                <a:lnTo>
                  <a:pt x="318" y="137"/>
                </a:lnTo>
                <a:lnTo>
                  <a:pt x="380" y="177"/>
                </a:lnTo>
                <a:lnTo>
                  <a:pt x="429" y="177"/>
                </a:lnTo>
                <a:lnTo>
                  <a:pt x="429" y="155"/>
                </a:lnTo>
                <a:lnTo>
                  <a:pt x="465" y="155"/>
                </a:lnTo>
                <a:lnTo>
                  <a:pt x="513" y="110"/>
                </a:lnTo>
                <a:lnTo>
                  <a:pt x="478" y="105"/>
                </a:lnTo>
                <a:lnTo>
                  <a:pt x="478" y="61"/>
                </a:lnTo>
                <a:lnTo>
                  <a:pt x="478" y="30"/>
                </a:lnTo>
                <a:lnTo>
                  <a:pt x="407" y="17"/>
                </a:lnTo>
                <a:lnTo>
                  <a:pt x="349" y="30"/>
                </a:lnTo>
                <a:lnTo>
                  <a:pt x="300" y="30"/>
                </a:lnTo>
                <a:lnTo>
                  <a:pt x="230" y="17"/>
                </a:lnTo>
                <a:lnTo>
                  <a:pt x="172" y="0"/>
                </a:lnTo>
                <a:lnTo>
                  <a:pt x="155" y="17"/>
                </a:lnTo>
                <a:lnTo>
                  <a:pt x="150" y="66"/>
                </a:lnTo>
                <a:lnTo>
                  <a:pt x="92" y="66"/>
                </a:lnTo>
                <a:lnTo>
                  <a:pt x="74" y="110"/>
                </a:lnTo>
                <a:lnTo>
                  <a:pt x="44" y="128"/>
                </a:lnTo>
                <a:lnTo>
                  <a:pt x="0" y="177"/>
                </a:lnTo>
                <a:close/>
              </a:path>
            </a:pathLst>
          </a:custGeom>
          <a:solidFill>
            <a:srgbClr val="e1c47b"/>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64" name=""/>
          <p:cNvSpPr/>
          <p:nvPr/>
        </p:nvSpPr>
        <p:spPr>
          <a:xfrm>
            <a:off x="2030400" y="4454640"/>
            <a:ext cx="1175040" cy="1791000"/>
          </a:xfrm>
          <a:custGeom>
            <a:avLst/>
            <a:gdLst/>
            <a:ahLst/>
            <a:rect l="0" t="0" r="r" b="b"/>
            <a:pathLst>
              <a:path w="3264" h="4975">
                <a:moveTo>
                  <a:pt x="251" y="220"/>
                </a:moveTo>
                <a:lnTo>
                  <a:pt x="291" y="163"/>
                </a:lnTo>
                <a:lnTo>
                  <a:pt x="370" y="83"/>
                </a:lnTo>
                <a:lnTo>
                  <a:pt x="489" y="35"/>
                </a:lnTo>
                <a:lnTo>
                  <a:pt x="551" y="0"/>
                </a:lnTo>
                <a:lnTo>
                  <a:pt x="612" y="8"/>
                </a:lnTo>
                <a:lnTo>
                  <a:pt x="599" y="52"/>
                </a:lnTo>
                <a:lnTo>
                  <a:pt x="529" y="88"/>
                </a:lnTo>
                <a:lnTo>
                  <a:pt x="515" y="171"/>
                </a:lnTo>
                <a:lnTo>
                  <a:pt x="529" y="238"/>
                </a:lnTo>
                <a:lnTo>
                  <a:pt x="595" y="238"/>
                </a:lnTo>
                <a:lnTo>
                  <a:pt x="612" y="163"/>
                </a:lnTo>
                <a:lnTo>
                  <a:pt x="630" y="88"/>
                </a:lnTo>
                <a:lnTo>
                  <a:pt x="670" y="114"/>
                </a:lnTo>
                <a:lnTo>
                  <a:pt x="718" y="154"/>
                </a:lnTo>
                <a:lnTo>
                  <a:pt x="802" y="136"/>
                </a:lnTo>
                <a:lnTo>
                  <a:pt x="846" y="171"/>
                </a:lnTo>
                <a:lnTo>
                  <a:pt x="864" y="211"/>
                </a:lnTo>
                <a:lnTo>
                  <a:pt x="983" y="194"/>
                </a:lnTo>
                <a:lnTo>
                  <a:pt x="1221" y="171"/>
                </a:lnTo>
                <a:lnTo>
                  <a:pt x="1309" y="299"/>
                </a:lnTo>
                <a:lnTo>
                  <a:pt x="1459" y="366"/>
                </a:lnTo>
                <a:lnTo>
                  <a:pt x="1446" y="423"/>
                </a:lnTo>
                <a:lnTo>
                  <a:pt x="1516" y="392"/>
                </a:lnTo>
                <a:lnTo>
                  <a:pt x="1583" y="392"/>
                </a:lnTo>
                <a:lnTo>
                  <a:pt x="1672" y="445"/>
                </a:lnTo>
                <a:lnTo>
                  <a:pt x="1773" y="440"/>
                </a:lnTo>
                <a:lnTo>
                  <a:pt x="1861" y="445"/>
                </a:lnTo>
                <a:lnTo>
                  <a:pt x="2007" y="551"/>
                </a:lnTo>
                <a:lnTo>
                  <a:pt x="2157" y="683"/>
                </a:lnTo>
                <a:lnTo>
                  <a:pt x="2219" y="829"/>
                </a:lnTo>
                <a:lnTo>
                  <a:pt x="2179" y="948"/>
                </a:lnTo>
                <a:lnTo>
                  <a:pt x="2360" y="983"/>
                </a:lnTo>
                <a:lnTo>
                  <a:pt x="2664" y="1040"/>
                </a:lnTo>
                <a:lnTo>
                  <a:pt x="2973" y="1106"/>
                </a:lnTo>
                <a:lnTo>
                  <a:pt x="3176" y="1234"/>
                </a:lnTo>
                <a:lnTo>
                  <a:pt x="3264" y="1358"/>
                </a:lnTo>
                <a:lnTo>
                  <a:pt x="3264" y="1512"/>
                </a:lnTo>
                <a:lnTo>
                  <a:pt x="3180" y="1649"/>
                </a:lnTo>
                <a:lnTo>
                  <a:pt x="3092" y="1724"/>
                </a:lnTo>
                <a:lnTo>
                  <a:pt x="3039" y="1772"/>
                </a:lnTo>
                <a:lnTo>
                  <a:pt x="2973" y="1878"/>
                </a:lnTo>
                <a:lnTo>
                  <a:pt x="2968" y="1971"/>
                </a:lnTo>
                <a:lnTo>
                  <a:pt x="2973" y="2081"/>
                </a:lnTo>
                <a:lnTo>
                  <a:pt x="2942" y="2200"/>
                </a:lnTo>
                <a:lnTo>
                  <a:pt x="2893" y="2222"/>
                </a:lnTo>
                <a:lnTo>
                  <a:pt x="2880" y="2284"/>
                </a:lnTo>
                <a:lnTo>
                  <a:pt x="2823" y="2337"/>
                </a:lnTo>
                <a:lnTo>
                  <a:pt x="2814" y="2390"/>
                </a:lnTo>
                <a:lnTo>
                  <a:pt x="2743" y="2456"/>
                </a:lnTo>
                <a:lnTo>
                  <a:pt x="2633" y="2571"/>
                </a:lnTo>
                <a:lnTo>
                  <a:pt x="2536" y="2607"/>
                </a:lnTo>
                <a:lnTo>
                  <a:pt x="2474" y="2593"/>
                </a:lnTo>
                <a:lnTo>
                  <a:pt x="2355" y="2655"/>
                </a:lnTo>
                <a:lnTo>
                  <a:pt x="2236" y="2787"/>
                </a:lnTo>
                <a:lnTo>
                  <a:pt x="2210" y="2836"/>
                </a:lnTo>
                <a:lnTo>
                  <a:pt x="2210" y="2898"/>
                </a:lnTo>
                <a:lnTo>
                  <a:pt x="2236" y="2973"/>
                </a:lnTo>
                <a:lnTo>
                  <a:pt x="2179" y="3043"/>
                </a:lnTo>
                <a:lnTo>
                  <a:pt x="2179" y="3101"/>
                </a:lnTo>
                <a:lnTo>
                  <a:pt x="2086" y="3167"/>
                </a:lnTo>
                <a:lnTo>
                  <a:pt x="2011" y="3215"/>
                </a:lnTo>
                <a:lnTo>
                  <a:pt x="1958" y="3286"/>
                </a:lnTo>
                <a:lnTo>
                  <a:pt x="1936" y="3361"/>
                </a:lnTo>
                <a:lnTo>
                  <a:pt x="1853" y="3453"/>
                </a:lnTo>
                <a:lnTo>
                  <a:pt x="1822" y="3436"/>
                </a:lnTo>
                <a:lnTo>
                  <a:pt x="1760" y="3436"/>
                </a:lnTo>
                <a:lnTo>
                  <a:pt x="1681" y="3471"/>
                </a:lnTo>
                <a:lnTo>
                  <a:pt x="1734" y="3506"/>
                </a:lnTo>
                <a:lnTo>
                  <a:pt x="1734" y="3590"/>
                </a:lnTo>
                <a:lnTo>
                  <a:pt x="1729" y="3656"/>
                </a:lnTo>
                <a:lnTo>
                  <a:pt x="1685" y="3705"/>
                </a:lnTo>
                <a:lnTo>
                  <a:pt x="1583" y="3713"/>
                </a:lnTo>
                <a:lnTo>
                  <a:pt x="1503" y="3736"/>
                </a:lnTo>
                <a:lnTo>
                  <a:pt x="1464" y="3784"/>
                </a:lnTo>
                <a:lnTo>
                  <a:pt x="1464" y="3868"/>
                </a:lnTo>
                <a:lnTo>
                  <a:pt x="1371" y="3890"/>
                </a:lnTo>
                <a:lnTo>
                  <a:pt x="1292" y="3868"/>
                </a:lnTo>
                <a:lnTo>
                  <a:pt x="1265" y="3916"/>
                </a:lnTo>
                <a:lnTo>
                  <a:pt x="1309" y="3947"/>
                </a:lnTo>
                <a:lnTo>
                  <a:pt x="1283" y="4071"/>
                </a:lnTo>
                <a:lnTo>
                  <a:pt x="1252" y="4177"/>
                </a:lnTo>
                <a:lnTo>
                  <a:pt x="1146" y="4177"/>
                </a:lnTo>
                <a:lnTo>
                  <a:pt x="1115" y="4216"/>
                </a:lnTo>
                <a:lnTo>
                  <a:pt x="1120" y="4296"/>
                </a:lnTo>
                <a:lnTo>
                  <a:pt x="1177" y="4296"/>
                </a:lnTo>
                <a:lnTo>
                  <a:pt x="1221" y="4348"/>
                </a:lnTo>
                <a:lnTo>
                  <a:pt x="1195" y="4428"/>
                </a:lnTo>
                <a:lnTo>
                  <a:pt x="1142" y="4432"/>
                </a:lnTo>
                <a:lnTo>
                  <a:pt x="1053" y="4468"/>
                </a:lnTo>
                <a:lnTo>
                  <a:pt x="1027" y="4534"/>
                </a:lnTo>
                <a:lnTo>
                  <a:pt x="1023" y="4631"/>
                </a:lnTo>
                <a:lnTo>
                  <a:pt x="965" y="4679"/>
                </a:lnTo>
                <a:lnTo>
                  <a:pt x="1164" y="4842"/>
                </a:lnTo>
                <a:lnTo>
                  <a:pt x="1221" y="4926"/>
                </a:lnTo>
                <a:lnTo>
                  <a:pt x="1190" y="4975"/>
                </a:lnTo>
                <a:lnTo>
                  <a:pt x="1102" y="4939"/>
                </a:lnTo>
                <a:lnTo>
                  <a:pt x="1027" y="4878"/>
                </a:lnTo>
                <a:lnTo>
                  <a:pt x="926" y="4829"/>
                </a:lnTo>
                <a:lnTo>
                  <a:pt x="833" y="4745"/>
                </a:lnTo>
                <a:lnTo>
                  <a:pt x="771" y="4648"/>
                </a:lnTo>
                <a:lnTo>
                  <a:pt x="758" y="4569"/>
                </a:lnTo>
                <a:lnTo>
                  <a:pt x="776" y="4503"/>
                </a:lnTo>
                <a:lnTo>
                  <a:pt x="771" y="3969"/>
                </a:lnTo>
                <a:lnTo>
                  <a:pt x="745" y="3868"/>
                </a:lnTo>
                <a:lnTo>
                  <a:pt x="670" y="3766"/>
                </a:lnTo>
                <a:lnTo>
                  <a:pt x="670" y="3678"/>
                </a:lnTo>
                <a:lnTo>
                  <a:pt x="718" y="3577"/>
                </a:lnTo>
                <a:lnTo>
                  <a:pt x="758" y="3444"/>
                </a:lnTo>
                <a:lnTo>
                  <a:pt x="745" y="3317"/>
                </a:lnTo>
                <a:lnTo>
                  <a:pt x="732" y="3255"/>
                </a:lnTo>
                <a:lnTo>
                  <a:pt x="727" y="3180"/>
                </a:lnTo>
                <a:lnTo>
                  <a:pt x="749" y="3149"/>
                </a:lnTo>
                <a:lnTo>
                  <a:pt x="771" y="3004"/>
                </a:lnTo>
                <a:lnTo>
                  <a:pt x="749" y="2929"/>
                </a:lnTo>
                <a:lnTo>
                  <a:pt x="784" y="2748"/>
                </a:lnTo>
                <a:lnTo>
                  <a:pt x="749" y="2593"/>
                </a:lnTo>
                <a:lnTo>
                  <a:pt x="776" y="2514"/>
                </a:lnTo>
                <a:lnTo>
                  <a:pt x="815" y="2359"/>
                </a:lnTo>
                <a:lnTo>
                  <a:pt x="776" y="2262"/>
                </a:lnTo>
                <a:lnTo>
                  <a:pt x="696" y="2187"/>
                </a:lnTo>
                <a:lnTo>
                  <a:pt x="670" y="2107"/>
                </a:lnTo>
                <a:lnTo>
                  <a:pt x="582" y="2032"/>
                </a:lnTo>
                <a:lnTo>
                  <a:pt x="489" y="1984"/>
                </a:lnTo>
                <a:lnTo>
                  <a:pt x="357" y="1957"/>
                </a:lnTo>
                <a:lnTo>
                  <a:pt x="291" y="1847"/>
                </a:lnTo>
                <a:lnTo>
                  <a:pt x="202" y="1741"/>
                </a:lnTo>
                <a:lnTo>
                  <a:pt x="194" y="1649"/>
                </a:lnTo>
                <a:lnTo>
                  <a:pt x="189" y="1569"/>
                </a:lnTo>
                <a:lnTo>
                  <a:pt x="163" y="1512"/>
                </a:lnTo>
                <a:lnTo>
                  <a:pt x="119" y="1446"/>
                </a:lnTo>
                <a:lnTo>
                  <a:pt x="52" y="1415"/>
                </a:lnTo>
                <a:lnTo>
                  <a:pt x="4" y="1353"/>
                </a:lnTo>
                <a:lnTo>
                  <a:pt x="61" y="1292"/>
                </a:lnTo>
                <a:lnTo>
                  <a:pt x="61" y="1155"/>
                </a:lnTo>
                <a:lnTo>
                  <a:pt x="30" y="1080"/>
                </a:lnTo>
                <a:lnTo>
                  <a:pt x="0" y="1009"/>
                </a:lnTo>
                <a:lnTo>
                  <a:pt x="30" y="903"/>
                </a:lnTo>
                <a:lnTo>
                  <a:pt x="158" y="643"/>
                </a:lnTo>
                <a:lnTo>
                  <a:pt x="163" y="529"/>
                </a:lnTo>
                <a:lnTo>
                  <a:pt x="238" y="410"/>
                </a:lnTo>
                <a:lnTo>
                  <a:pt x="238" y="343"/>
                </a:lnTo>
                <a:lnTo>
                  <a:pt x="251" y="22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s positioned to serve key markets</a:t>
            </a:r>
            <a:endParaRPr b="0" lang="en-US" sz="2400" spc="-1" strike="noStrike">
              <a:solidFill>
                <a:srgbClr val="000000"/>
              </a:solidFill>
              <a:latin typeface="Arial"/>
            </a:endParaRPr>
          </a:p>
        </p:txBody>
      </p:sp>
      <p:sp>
        <p:nvSpPr>
          <p:cNvPr id="666" name=""/>
          <p:cNvSpPr/>
          <p:nvPr/>
        </p:nvSpPr>
        <p:spPr>
          <a:xfrm>
            <a:off x="4352760" y="34005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4048200" y="31719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4505400" y="309564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2028960" y="3476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1000080" y="36543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6715080" y="453060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7134120" y="3692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Changes in the society - the internet</a:t>
            </a:r>
            <a:endParaRPr b="0" lang="en-US" sz="3600" spc="-1" strike="noStrike">
              <a:solidFill>
                <a:srgbClr val="000000"/>
              </a:solidFill>
              <a:latin typeface="Arial"/>
            </a:endParaRPr>
          </a:p>
        </p:txBody>
      </p:sp>
      <p:pic>
        <p:nvPicPr>
          <p:cNvPr id="70" name="" descr=""/>
          <p:cNvPicPr/>
          <p:nvPr/>
        </p:nvPicPr>
        <p:blipFill>
          <a:blip r:embed="rId1"/>
          <a:stretch/>
        </p:blipFill>
        <p:spPr>
          <a:xfrm>
            <a:off x="47520" y="609480"/>
            <a:ext cx="9039240" cy="5619600"/>
          </a:xfrm>
          <a:prstGeom prst="rect">
            <a:avLst/>
          </a:prstGeom>
          <a:ln w="0">
            <a:noFill/>
          </a:ln>
        </p:spPr>
      </p:pic>
      <p:sp>
        <p:nvSpPr>
          <p:cNvPr id="71" name=""/>
          <p:cNvSpPr txBox="1"/>
          <p:nvPr/>
        </p:nvSpPr>
        <p:spPr>
          <a:xfrm>
            <a:off x="720720" y="647640"/>
            <a:ext cx="7772400" cy="606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emergence of the</a:t>
            </a:r>
            <a:r>
              <a:rPr b="0" lang="en-US" sz="2400" spc="-1" strike="noStrike">
                <a:solidFill>
                  <a:srgbClr val="000000"/>
                </a:solidFill>
                <a:latin typeface="Matura MT Script Capitals"/>
                <a:ea typeface="Matura MT Script Capitals"/>
              </a:rPr>
              <a:t>  </a:t>
            </a:r>
            <a:r>
              <a:rPr b="0" i="1" lang="en-US" sz="2400" spc="-1" strike="noStrike">
                <a:solidFill>
                  <a:srgbClr val="000000"/>
                </a:solidFill>
                <a:latin typeface="Comic Sans MS"/>
                <a:ea typeface="Comic Sans MS"/>
              </a:rPr>
              <a:t>INTERN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ll date growth achieved through the sharing and transferring of information</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w a backbone connecting 20 million people - still growing @ 10% a month</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eb is the first broadcast advertising  medium which is also a point of sale</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makings of  </a:t>
            </a:r>
            <a:r>
              <a:rPr b="0" i="1" lang="en-US" sz="2000" spc="-1" strike="noStrike">
                <a:solidFill>
                  <a:srgbClr val="000000"/>
                </a:solidFill>
                <a:latin typeface="Times New Roman"/>
                <a:ea typeface="Times New Roman"/>
              </a:rPr>
              <a:t>the ultimate marketplace</a:t>
            </a:r>
            <a:r>
              <a:rPr b="0" lang="en-US" sz="2000" spc="-1" strike="noStrike">
                <a:solidFill>
                  <a:srgbClr val="000000"/>
                </a:solidFill>
                <a:latin typeface="Times New Roman"/>
                <a:ea typeface="Times New Roman"/>
              </a:rPr>
              <a:t> - potential to cataclyze sale of goods &amp; services ... </a:t>
            </a:r>
            <a:r>
              <a:rPr b="1" lang="en-US" sz="2000" spc="-1" strike="noStrike">
                <a:solidFill>
                  <a:srgbClr val="000000"/>
                </a:solidFill>
                <a:latin typeface="Times New Roman"/>
                <a:ea typeface="Times New Roman"/>
              </a:rPr>
              <a:t>but without a medium of exchange </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sent conventional instruments present bottlenecks in clearing and  sett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75" name="" descr=""/>
          <p:cNvPicPr/>
          <p:nvPr/>
        </p:nvPicPr>
        <p:blipFill>
          <a:blip r:embed="rId1"/>
          <a:stretch/>
        </p:blipFill>
        <p:spPr>
          <a:xfrm>
            <a:off x="5600520" y="3828960"/>
            <a:ext cx="3098880" cy="2660760"/>
          </a:xfrm>
          <a:prstGeom prst="rect">
            <a:avLst/>
          </a:prstGeom>
          <a:ln w="0">
            <a:noFill/>
          </a:ln>
        </p:spPr>
      </p:pic>
      <p:sp>
        <p:nvSpPr>
          <p:cNvPr id="676" name=""/>
          <p:cNvSpPr txBox="1"/>
          <p:nvPr/>
        </p:nvSpPr>
        <p:spPr>
          <a:xfrm>
            <a:off x="457200" y="760320"/>
            <a:ext cx="8197920" cy="111420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How do you make Money on Pennies?</a:t>
            </a:r>
            <a:endParaRPr b="0" lang="en-US" sz="4400" spc="-1" strike="noStrike">
              <a:solidFill>
                <a:srgbClr val="000000"/>
              </a:solidFill>
              <a:latin typeface="Arial"/>
            </a:endParaRPr>
          </a:p>
        </p:txBody>
      </p:sp>
      <p:sp>
        <p:nvSpPr>
          <p:cNvPr id="677" name=""/>
          <p:cNvSpPr txBox="1"/>
          <p:nvPr/>
        </p:nvSpPr>
        <p:spPr>
          <a:xfrm>
            <a:off x="457200" y="2743200"/>
            <a:ext cx="3922560" cy="38498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Vendo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content paid by user</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service paid by user</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rok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Transaction Fees</a:t>
            </a:r>
            <a:endParaRPr b="0" lang="en-US" sz="24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Most paid by vendors</a:t>
            </a:r>
            <a:endParaRPr b="0" lang="en-US" sz="20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Some paid by users</a:t>
            </a:r>
            <a:endParaRPr b="0" lang="en-US" sz="20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loat (interest income)</a:t>
            </a:r>
            <a:endParaRPr b="0" lang="en-US" sz="2400" spc="-1" strike="noStrike">
              <a:solidFill>
                <a:srgbClr val="000000"/>
              </a:solidFill>
              <a:latin typeface="Arial"/>
            </a:endParaRPr>
          </a:p>
        </p:txBody>
      </p:sp>
      <p:sp>
        <p:nvSpPr>
          <p:cNvPr id="678" name=""/>
          <p:cNvSpPr txBox="1"/>
          <p:nvPr/>
        </p:nvSpPr>
        <p:spPr>
          <a:xfrm>
            <a:off x="4645080" y="2703600"/>
            <a:ext cx="3813120" cy="33926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sting Provid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a percentage of vendor revenue</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preferred service</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Us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Promotional incentiv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Advertising rebat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requent user rewards</a:t>
            </a:r>
            <a:endParaRPr b="0" lang="en-US" sz="2400" spc="-1" strike="noStrike">
              <a:solidFill>
                <a:srgbClr val="000000"/>
              </a:solidFill>
              <a:latin typeface="Arial"/>
            </a:endParaRPr>
          </a:p>
        </p:txBody>
      </p:sp>
      <p:sp>
        <p:nvSpPr>
          <p:cNvPr id="679"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pends who you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Technologies</a:t>
            </a:r>
            <a:endParaRPr b="0" lang="en-US" sz="4400" spc="-1" strike="noStrike">
              <a:solidFill>
                <a:srgbClr val="000000"/>
              </a:solidFill>
              <a:latin typeface="Arial"/>
            </a:endParaRPr>
          </a:p>
        </p:txBody>
      </p:sp>
      <p:sp>
        <p:nvSpPr>
          <p:cNvPr id="681" name=""/>
          <p:cNvSpPr txBox="1"/>
          <p:nvPr/>
        </p:nvSpPr>
        <p:spPr>
          <a:xfrm>
            <a:off x="685800" y="2703600"/>
            <a:ext cx="7772400" cy="37422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move from the laboratory to trial deployment:</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market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business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ease-of-use</a:t>
            </a:r>
            <a:endParaRPr b="0" lang="en-US" sz="28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partnerships are                                   key to ramp-up</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become pervasive</a:t>
            </a:r>
            <a:endParaRPr b="0" lang="en-US" sz="3200" spc="-1" strike="noStrike">
              <a:solidFill>
                <a:srgbClr val="000000"/>
              </a:solidFill>
              <a:latin typeface="Arial"/>
            </a:endParaRPr>
          </a:p>
        </p:txBody>
      </p:sp>
      <p:sp>
        <p:nvSpPr>
          <p:cNvPr id="682"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ritical Next Steps</a:t>
            </a:r>
            <a:endParaRPr b="0" lang="en-US" sz="3200" spc="-1" strike="noStrike">
              <a:solidFill>
                <a:srgbClr val="000000"/>
              </a:solidFill>
              <a:latin typeface="Arial"/>
            </a:endParaRPr>
          </a:p>
        </p:txBody>
      </p:sp>
      <p:sp>
        <p:nvSpPr>
          <p:cNvPr id="683" name=""/>
          <p:cNvSpPr/>
          <p:nvPr/>
        </p:nvSpPr>
        <p:spPr>
          <a:xfrm>
            <a:off x="6832440" y="4233960"/>
            <a:ext cx="1482840" cy="77472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84" name="" descr=""/>
          <p:cNvPicPr/>
          <p:nvPr/>
        </p:nvPicPr>
        <p:blipFill>
          <a:blip r:embed="rId1"/>
          <a:stretch/>
        </p:blipFill>
        <p:spPr>
          <a:xfrm>
            <a:off x="6608880" y="4227480"/>
            <a:ext cx="1327320" cy="708120"/>
          </a:xfrm>
          <a:prstGeom prst="rect">
            <a:avLst/>
          </a:prstGeom>
          <a:ln w="0">
            <a:noFill/>
          </a:ln>
        </p:spPr>
      </p:pic>
      <p:pic>
        <p:nvPicPr>
          <p:cNvPr id="685" name="" descr=""/>
          <p:cNvPicPr/>
          <p:nvPr/>
        </p:nvPicPr>
        <p:blipFill>
          <a:blip r:embed="rId2"/>
          <a:stretch/>
        </p:blipFill>
        <p:spPr>
          <a:xfrm>
            <a:off x="6900840" y="4508640"/>
            <a:ext cx="1785960" cy="2044800"/>
          </a:xfrm>
          <a:prstGeom prst="rect">
            <a:avLst/>
          </a:prstGeom>
          <a:ln w="0">
            <a:noFill/>
          </a:ln>
        </p:spPr>
      </p:pic>
      <p:pic>
        <p:nvPicPr>
          <p:cNvPr id="686" name="" descr=""/>
          <p:cNvPicPr/>
          <p:nvPr/>
        </p:nvPicPr>
        <p:blipFill>
          <a:blip r:embed="rId3"/>
          <a:stretch/>
        </p:blipFill>
        <p:spPr>
          <a:xfrm>
            <a:off x="6862680" y="4476600"/>
            <a:ext cx="1811160" cy="2076480"/>
          </a:xfrm>
          <a:prstGeom prst="rect">
            <a:avLst/>
          </a:prstGeom>
          <a:ln w="0">
            <a:noFill/>
          </a:ln>
        </p:spPr>
      </p:pic>
      <p:pic>
        <p:nvPicPr>
          <p:cNvPr id="687" name="" descr=""/>
          <p:cNvPicPr/>
          <p:nvPr/>
        </p:nvPicPr>
        <p:blipFill>
          <a:blip r:embed="rId4"/>
          <a:stretch/>
        </p:blipFill>
        <p:spPr>
          <a:xfrm>
            <a:off x="5813280" y="4916520"/>
            <a:ext cx="1484280" cy="812880"/>
          </a:xfrm>
          <a:prstGeom prst="rect">
            <a:avLst/>
          </a:prstGeom>
          <a:ln w="0">
            <a:noFill/>
          </a:ln>
        </p:spPr>
      </p:pic>
      <p:pic>
        <p:nvPicPr>
          <p:cNvPr id="688" name="" descr=""/>
          <p:cNvPicPr/>
          <p:nvPr/>
        </p:nvPicPr>
        <p:blipFill>
          <a:blip r:embed="rId5"/>
          <a:stretch/>
        </p:blipFill>
        <p:spPr>
          <a:xfrm>
            <a:off x="7066080" y="5541840"/>
            <a:ext cx="1616040" cy="992160"/>
          </a:xfrm>
          <a:prstGeom prst="rect">
            <a:avLst/>
          </a:prstGeom>
          <a:ln w="0">
            <a:noFill/>
          </a:ln>
        </p:spPr>
      </p:pic>
      <p:pic>
        <p:nvPicPr>
          <p:cNvPr id="689" name="" descr=""/>
          <p:cNvPicPr/>
          <p:nvPr/>
        </p:nvPicPr>
        <p:blipFill>
          <a:blip r:embed="rId6"/>
          <a:stretch/>
        </p:blipFill>
        <p:spPr>
          <a:xfrm>
            <a:off x="5370480" y="5694480"/>
            <a:ext cx="1963800" cy="820800"/>
          </a:xfrm>
          <a:prstGeom prst="rect">
            <a:avLst/>
          </a:prstGeom>
          <a:ln w="0">
            <a:noFill/>
          </a:ln>
        </p:spPr>
      </p:pic>
      <p:pic>
        <p:nvPicPr>
          <p:cNvPr id="690" name="" descr=""/>
          <p:cNvPicPr/>
          <p:nvPr/>
        </p:nvPicPr>
        <p:blipFill>
          <a:blip r:embed="rId7"/>
          <a:stretch/>
        </p:blipFill>
        <p:spPr>
          <a:xfrm>
            <a:off x="7102440" y="5411880"/>
            <a:ext cx="611280" cy="712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Beyond the Horizon</a:t>
            </a:r>
            <a:endParaRPr b="0" lang="en-US" sz="4400" spc="-1" strike="noStrike">
              <a:solidFill>
                <a:srgbClr val="000000"/>
              </a:solidFill>
              <a:latin typeface="Arial"/>
            </a:endParaRPr>
          </a:p>
        </p:txBody>
      </p:sp>
      <p:sp>
        <p:nvSpPr>
          <p:cNvPr id="694" name=""/>
          <p:cNvSpPr/>
          <p:nvPr/>
        </p:nvSpPr>
        <p:spPr>
          <a:xfrm>
            <a:off x="6237360" y="4178160"/>
            <a:ext cx="2298600" cy="2298600"/>
          </a:xfrm>
          <a:prstGeom prst="ellipse">
            <a:avLst/>
          </a:prstGeom>
          <a:gradFill rotWithShape="0">
            <a:gsLst>
              <a:gs pos="0">
                <a:srgbClr val="e8d29a"/>
              </a:gs>
              <a:gs pos="100000">
                <a:srgbClr val="f1e4c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95" name="" descr=""/>
          <p:cNvPicPr/>
          <p:nvPr/>
        </p:nvPicPr>
        <p:blipFill>
          <a:blip r:embed="rId1"/>
          <a:stretch/>
        </p:blipFill>
        <p:spPr>
          <a:xfrm>
            <a:off x="6475320" y="2963880"/>
            <a:ext cx="2224080" cy="2932200"/>
          </a:xfrm>
          <a:prstGeom prst="rect">
            <a:avLst/>
          </a:prstGeom>
          <a:ln w="0">
            <a:noFill/>
          </a:ln>
        </p:spPr>
      </p:pic>
      <p:sp>
        <p:nvSpPr>
          <p:cNvPr id="696" name=""/>
          <p:cNvSpPr/>
          <p:nvPr/>
        </p:nvSpPr>
        <p:spPr>
          <a:xfrm>
            <a:off x="6777000" y="2676600"/>
            <a:ext cx="1910160" cy="1057680"/>
          </a:xfrm>
          <a:custGeom>
            <a:avLst/>
            <a:gdLst/>
            <a:ahLst/>
            <a:rect l="0" t="0" r="r" b="b"/>
            <a:pathLst>
              <a:path w="5306" h="2938">
                <a:moveTo>
                  <a:pt x="0" y="0"/>
                </a:moveTo>
                <a:lnTo>
                  <a:pt x="0" y="458"/>
                </a:lnTo>
                <a:lnTo>
                  <a:pt x="5306" y="2938"/>
                </a:lnTo>
                <a:lnTo>
                  <a:pt x="5306" y="235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4030560" y="2160720"/>
            <a:ext cx="4656600" cy="4316760"/>
          </a:xfrm>
          <a:custGeom>
            <a:avLst/>
            <a:gdLst/>
            <a:ahLst/>
            <a:rect l="0" t="0" r="r" b="b"/>
            <a:pathLst>
              <a:path w="12935" h="11991">
                <a:moveTo>
                  <a:pt x="0" y="11991"/>
                </a:moveTo>
                <a:lnTo>
                  <a:pt x="8838" y="2019"/>
                </a:lnTo>
                <a:lnTo>
                  <a:pt x="7594" y="1464"/>
                </a:lnTo>
                <a:lnTo>
                  <a:pt x="12715" y="0"/>
                </a:lnTo>
                <a:lnTo>
                  <a:pt x="12935" y="3858"/>
                </a:lnTo>
                <a:lnTo>
                  <a:pt x="11634" y="3258"/>
                </a:lnTo>
                <a:lnTo>
                  <a:pt x="1477" y="11955"/>
                </a:lnTo>
                <a:lnTo>
                  <a:pt x="0" y="11991"/>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4465800" y="3330720"/>
            <a:ext cx="3762720" cy="3146760"/>
          </a:xfrm>
          <a:custGeom>
            <a:avLst/>
            <a:gdLst/>
            <a:ahLst/>
            <a:rect l="0" t="0" r="r" b="b"/>
            <a:pathLst>
              <a:path w="10452" h="8741">
                <a:moveTo>
                  <a:pt x="0" y="8741"/>
                </a:moveTo>
                <a:lnTo>
                  <a:pt x="595" y="8741"/>
                </a:lnTo>
                <a:lnTo>
                  <a:pt x="10452" y="560"/>
                </a:lnTo>
                <a:lnTo>
                  <a:pt x="10452" y="0"/>
                </a:lnTo>
                <a:lnTo>
                  <a:pt x="0" y="8741"/>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5060880" y="5321160"/>
            <a:ext cx="489240" cy="444960"/>
          </a:xfrm>
          <a:custGeom>
            <a:avLst/>
            <a:gdLst/>
            <a:ahLst/>
            <a:rect l="0" t="0" r="r" b="b"/>
            <a:pathLst>
              <a:path fill="none" w="1359" h="1236">
                <a:moveTo>
                  <a:pt x="0" y="0"/>
                </a:moveTo>
                <a:lnTo>
                  <a:pt x="1359" y="688"/>
                </a:lnTo>
                <a:lnTo>
                  <a:pt x="1359" y="12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 name=""/>
          <p:cNvGrpSpPr/>
          <p:nvPr/>
        </p:nvGrpSpPr>
        <p:grpSpPr>
          <a:xfrm>
            <a:off x="463680" y="5321160"/>
            <a:ext cx="4604040" cy="1149840"/>
            <a:chOff x="463680" y="5321160"/>
            <a:chExt cx="4604040" cy="1149840"/>
          </a:xfrm>
        </p:grpSpPr>
        <p:sp>
          <p:nvSpPr>
            <p:cNvPr id="701" name=""/>
            <p:cNvSpPr/>
            <p:nvPr/>
          </p:nvSpPr>
          <p:spPr>
            <a:xfrm>
              <a:off x="463680" y="5321160"/>
              <a:ext cx="4604040" cy="1149840"/>
            </a:xfrm>
            <a:custGeom>
              <a:avLst/>
              <a:gdLst/>
              <a:ahLst/>
              <a:rect l="0" t="0" r="r" b="b"/>
              <a:pathLst>
                <a:path w="12789" h="3194">
                  <a:moveTo>
                    <a:pt x="1305" y="1076"/>
                  </a:moveTo>
                  <a:lnTo>
                    <a:pt x="1340" y="1094"/>
                  </a:lnTo>
                  <a:lnTo>
                    <a:pt x="0" y="3194"/>
                  </a:lnTo>
                  <a:lnTo>
                    <a:pt x="9944" y="3194"/>
                  </a:lnTo>
                  <a:lnTo>
                    <a:pt x="12789" y="0"/>
                  </a:lnTo>
                  <a:lnTo>
                    <a:pt x="1993" y="0"/>
                  </a:lnTo>
                  <a:lnTo>
                    <a:pt x="1322" y="1076"/>
                  </a:lnTo>
                  <a:lnTo>
                    <a:pt x="1305" y="1076"/>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txBox="1"/>
            <p:nvPr/>
          </p:nvSpPr>
          <p:spPr>
            <a:xfrm>
              <a:off x="996840" y="5689440"/>
              <a:ext cx="3649680" cy="384120"/>
            </a:xfrm>
            <a:prstGeom prst="rect">
              <a:avLst/>
            </a:prstGeom>
            <a:noFill/>
            <a:ln w="0">
              <a:noFill/>
            </a:ln>
          </p:spPr>
          <p:txBody>
            <a:bodyPr lIns="0" rIns="0" tIns="0" bIns="0" anchor="t">
              <a:noAutofit/>
            </a:bodyPr>
            <a:p>
              <a:pPr marL="91440" indent="-91440">
                <a:lnSpc>
                  <a:spcPct val="80000"/>
                </a:lnSpc>
                <a:spcBef>
                  <a:spcPts val="1199"/>
                </a:spcBef>
                <a:buClr>
                  <a:srgbClr val="990000"/>
                </a:buClr>
                <a:buSzPct val="130000"/>
                <a:buFont typeface="Symbol"/>
                <a:buChar char=""/>
              </a:pPr>
              <a:r>
                <a:rPr b="1" lang="en-US" sz="2400" spc="-1" strike="noStrike">
                  <a:solidFill>
                    <a:srgbClr val="000000"/>
                  </a:solidFill>
                  <a:latin typeface="Arial"/>
                  <a:ea typeface="Arial"/>
                </a:rPr>
                <a:t>Intranet metering</a:t>
              </a:r>
              <a:endParaRPr b="0" lang="en-US" sz="2400" spc="-1" strike="noStrike">
                <a:solidFill>
                  <a:srgbClr val="000000"/>
                </a:solidFill>
                <a:latin typeface="Arial"/>
              </a:endParaRPr>
            </a:p>
          </p:txBody>
        </p:sp>
      </p:grpSp>
      <p:sp>
        <p:nvSpPr>
          <p:cNvPr id="703" name=""/>
          <p:cNvSpPr/>
          <p:nvPr/>
        </p:nvSpPr>
        <p:spPr>
          <a:xfrm>
            <a:off x="6107040" y="4148280"/>
            <a:ext cx="706680" cy="557640"/>
          </a:xfrm>
          <a:custGeom>
            <a:avLst/>
            <a:gdLst/>
            <a:ahLst/>
            <a:rect l="0" t="0" r="r" b="b"/>
            <a:pathLst>
              <a:path fill="none" w="1963" h="1549">
                <a:moveTo>
                  <a:pt x="0" y="0"/>
                </a:moveTo>
                <a:lnTo>
                  <a:pt x="1963" y="1037"/>
                </a:lnTo>
                <a:lnTo>
                  <a:pt x="1945" y="15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4" name=""/>
          <p:cNvGrpSpPr/>
          <p:nvPr/>
        </p:nvGrpSpPr>
        <p:grpSpPr>
          <a:xfrm>
            <a:off x="1251000" y="4146480"/>
            <a:ext cx="5176800" cy="1124280"/>
            <a:chOff x="1251000" y="4146480"/>
            <a:chExt cx="5176800" cy="1124280"/>
          </a:xfrm>
        </p:grpSpPr>
        <p:sp>
          <p:nvSpPr>
            <p:cNvPr id="705" name=""/>
            <p:cNvSpPr/>
            <p:nvPr/>
          </p:nvSpPr>
          <p:spPr>
            <a:xfrm>
              <a:off x="1251000" y="4146480"/>
              <a:ext cx="4839120" cy="1124280"/>
            </a:xfrm>
            <a:custGeom>
              <a:avLst/>
              <a:gdLst/>
              <a:ahLst/>
              <a:rect l="0" t="0" r="r" b="b"/>
              <a:pathLst>
                <a:path w="13442" h="3123">
                  <a:moveTo>
                    <a:pt x="0" y="3123"/>
                  </a:moveTo>
                  <a:lnTo>
                    <a:pt x="1957" y="0"/>
                  </a:lnTo>
                  <a:lnTo>
                    <a:pt x="13442" y="0"/>
                  </a:lnTo>
                  <a:lnTo>
                    <a:pt x="10726" y="3123"/>
                  </a:lnTo>
                  <a:lnTo>
                    <a:pt x="0" y="3123"/>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6" name=""/>
            <p:cNvSpPr txBox="1"/>
            <p:nvPr/>
          </p:nvSpPr>
          <p:spPr>
            <a:xfrm>
              <a:off x="1733400" y="4505400"/>
              <a:ext cx="4694400" cy="403200"/>
            </a:xfrm>
            <a:prstGeom prst="rect">
              <a:avLst/>
            </a:prstGeom>
            <a:noFill/>
            <a:ln w="0">
              <a:noFill/>
            </a:ln>
          </p:spPr>
          <p:txBody>
            <a:bodyPr lIns="0" rIns="0" tIns="0" bIns="0" anchor="t">
              <a:noAutofit/>
            </a:bodyPr>
            <a:p>
              <a:pPr marL="295200" indent="-295200">
                <a:lnSpc>
                  <a:spcPct val="85000"/>
                </a:lnSpc>
                <a:spcBef>
                  <a:spcPts val="961"/>
                </a:spcBef>
                <a:buClr>
                  <a:srgbClr val="990000"/>
                </a:buClr>
                <a:buSzPct val="130000"/>
                <a:buFont typeface="Symbol"/>
                <a:buChar char=""/>
              </a:pPr>
              <a:r>
                <a:rPr b="1" lang="en-US" sz="2400" spc="-1" strike="noStrike">
                  <a:solidFill>
                    <a:srgbClr val="000000"/>
                  </a:solidFill>
                  <a:latin typeface="Arial"/>
                  <a:ea typeface="Arial"/>
                </a:rPr>
                <a:t>Uses beyond the Web</a:t>
              </a:r>
              <a:endParaRPr b="0" lang="en-US" sz="2400" spc="-1" strike="noStrike">
                <a:solidFill>
                  <a:srgbClr val="000000"/>
                </a:solidFill>
                <a:latin typeface="Arial"/>
              </a:endParaRPr>
            </a:p>
          </p:txBody>
        </p:sp>
      </p:grpSp>
      <p:sp>
        <p:nvSpPr>
          <p:cNvPr id="707" name=""/>
          <p:cNvSpPr/>
          <p:nvPr/>
        </p:nvSpPr>
        <p:spPr>
          <a:xfrm>
            <a:off x="7221600" y="2894040"/>
            <a:ext cx="1006920" cy="636840"/>
          </a:xfrm>
          <a:custGeom>
            <a:avLst/>
            <a:gdLst/>
            <a:ahLst/>
            <a:rect l="0" t="0" r="r" b="b"/>
            <a:pathLst>
              <a:path fill="none" w="2797" h="1769">
                <a:moveTo>
                  <a:pt x="0" y="0"/>
                </a:moveTo>
                <a:lnTo>
                  <a:pt x="2771" y="1187"/>
                </a:lnTo>
                <a:lnTo>
                  <a:pt x="2797" y="176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8" name=""/>
          <p:cNvGrpSpPr/>
          <p:nvPr/>
        </p:nvGrpSpPr>
        <p:grpSpPr>
          <a:xfrm>
            <a:off x="2000160" y="2978280"/>
            <a:ext cx="5132880" cy="1111680"/>
            <a:chOff x="2000160" y="2978280"/>
            <a:chExt cx="5132880" cy="1111680"/>
          </a:xfrm>
        </p:grpSpPr>
        <p:sp>
          <p:nvSpPr>
            <p:cNvPr id="709" name=""/>
            <p:cNvSpPr/>
            <p:nvPr/>
          </p:nvSpPr>
          <p:spPr>
            <a:xfrm>
              <a:off x="2000160" y="2978280"/>
              <a:ext cx="5132880" cy="1111680"/>
            </a:xfrm>
            <a:custGeom>
              <a:avLst/>
              <a:gdLst/>
              <a:ahLst/>
              <a:rect l="0" t="0" r="r" b="b"/>
              <a:pathLst>
                <a:path w="14258" h="3088">
                  <a:moveTo>
                    <a:pt x="0" y="3088"/>
                  </a:moveTo>
                  <a:lnTo>
                    <a:pt x="1975" y="0"/>
                  </a:lnTo>
                  <a:lnTo>
                    <a:pt x="14258" y="0"/>
                  </a:lnTo>
                  <a:lnTo>
                    <a:pt x="11502" y="3088"/>
                  </a:lnTo>
                  <a:lnTo>
                    <a:pt x="0" y="3088"/>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txBox="1"/>
            <p:nvPr/>
          </p:nvSpPr>
          <p:spPr>
            <a:xfrm>
              <a:off x="2462040" y="3352680"/>
              <a:ext cx="4019400" cy="420840"/>
            </a:xfrm>
            <a:prstGeom prst="rect">
              <a:avLst/>
            </a:prstGeom>
            <a:noFill/>
            <a:ln w="0">
              <a:noFill/>
            </a:ln>
          </p:spPr>
          <p:txBody>
            <a:bodyPr lIns="0" rIns="0" tIns="0" bIns="0" anchor="t">
              <a:noAutofit/>
            </a:bodyPr>
            <a:p>
              <a:pPr marL="91440" indent="-91440">
                <a:lnSpc>
                  <a:spcPct val="90000"/>
                </a:lnSpc>
                <a:spcBef>
                  <a:spcPts val="1199"/>
                </a:spcBef>
                <a:buClr>
                  <a:srgbClr val="990000"/>
                </a:buClr>
                <a:buSzPct val="130000"/>
                <a:buFont typeface="Symbol"/>
                <a:buChar char=""/>
              </a:pPr>
              <a:r>
                <a:rPr b="1" lang="en-US" sz="2400" spc="-1" strike="noStrike">
                  <a:solidFill>
                    <a:srgbClr val="000000"/>
                  </a:solidFill>
                  <a:latin typeface="Arial"/>
                  <a:ea typeface="Arial"/>
                </a:rPr>
                <a:t>Smart Card integration</a:t>
              </a:r>
              <a:endParaRPr b="0" lang="en-US" sz="2400" spc="-1" strike="noStrike">
                <a:solidFill>
                  <a:srgbClr val="000000"/>
                </a:solidFill>
                <a:latin typeface="Arial"/>
              </a:endParaRPr>
            </a:p>
          </p:txBody>
        </p:sp>
      </p:grpSp>
      <p:sp>
        <p:nvSpPr>
          <p:cNvPr id="711"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icrocommerce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713" name=""/>
          <p:cNvSpPr txBox="1"/>
          <p:nvPr/>
        </p:nvSpPr>
        <p:spPr>
          <a:xfrm>
            <a:off x="619200" y="2743200"/>
            <a:ext cx="799164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 you really think Internet users                             will pay mone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can anyone make money</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 such small transaction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bout copyright protection?</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ll different micropayment systems                     ever interoperate?</a:t>
            </a:r>
            <a:endParaRPr b="0" lang="en-US" sz="3200" spc="-1" strike="noStrike">
              <a:solidFill>
                <a:srgbClr val="000000"/>
              </a:solidFill>
              <a:latin typeface="Arial"/>
            </a:endParaRPr>
          </a:p>
        </p:txBody>
      </p:sp>
      <p:sp>
        <p:nvSpPr>
          <p:cNvPr id="714"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mmon Questions</a:t>
            </a:r>
            <a:endParaRPr b="0" lang="en-US" sz="3200" spc="-1" strike="noStrike">
              <a:solidFill>
                <a:srgbClr val="000000"/>
              </a:solidFill>
              <a:latin typeface="Arial"/>
            </a:endParaRPr>
          </a:p>
        </p:txBody>
      </p:sp>
      <p:pic>
        <p:nvPicPr>
          <p:cNvPr id="715" name="" descr=""/>
          <p:cNvPicPr/>
          <p:nvPr/>
        </p:nvPicPr>
        <p:blipFill>
          <a:blip r:embed="rId1"/>
          <a:stretch/>
        </p:blipFill>
        <p:spPr>
          <a:xfrm>
            <a:off x="6154560" y="3017880"/>
            <a:ext cx="2478240" cy="2479680"/>
          </a:xfrm>
          <a:prstGeom prst="rect">
            <a:avLst/>
          </a:prstGeom>
          <a:ln w="0">
            <a:noFill/>
          </a:ln>
        </p:spPr>
      </p:pic>
      <p:pic>
        <p:nvPicPr>
          <p:cNvPr id="716" name="" descr=""/>
          <p:cNvPicPr/>
          <p:nvPr/>
        </p:nvPicPr>
        <p:blipFill>
          <a:blip r:embed="rId2"/>
          <a:stretch/>
        </p:blipFill>
        <p:spPr>
          <a:xfrm>
            <a:off x="6183360" y="3071880"/>
            <a:ext cx="2459160" cy="2462040"/>
          </a:xfrm>
          <a:prstGeom prst="rect">
            <a:avLst/>
          </a:prstGeom>
          <a:ln w="0">
            <a:noFill/>
          </a:ln>
        </p:spPr>
      </p:pic>
      <p:pic>
        <p:nvPicPr>
          <p:cNvPr id="717" name="" descr=""/>
          <p:cNvPicPr/>
          <p:nvPr/>
        </p:nvPicPr>
        <p:blipFill>
          <a:blip r:embed="rId3"/>
          <a:stretch/>
        </p:blipFill>
        <p:spPr>
          <a:xfrm>
            <a:off x="6154560" y="3035160"/>
            <a:ext cx="2532240" cy="2540160"/>
          </a:xfrm>
          <a:prstGeom prst="rect">
            <a:avLst/>
          </a:prstGeom>
          <a:ln w="0">
            <a:noFill/>
          </a:ln>
        </p:spPr>
      </p:pic>
      <p:sp>
        <p:nvSpPr>
          <p:cNvPr id="718" name=""/>
          <p:cNvSpPr/>
          <p:nvPr/>
        </p:nvSpPr>
        <p:spPr>
          <a:xfrm>
            <a:off x="5508720" y="5907240"/>
            <a:ext cx="2540160" cy="646200"/>
          </a:xfrm>
          <a:prstGeom prst="ellipse">
            <a:avLst/>
          </a:pr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a:off x="7032600" y="2793960"/>
            <a:ext cx="797400" cy="2734200"/>
          </a:xfrm>
          <a:custGeom>
            <a:avLst/>
            <a:gdLst/>
            <a:ahLst/>
            <a:rect l="0" t="0" r="r" b="b"/>
            <a:pathLst>
              <a:path w="2215" h="7595">
                <a:moveTo>
                  <a:pt x="0" y="537"/>
                </a:moveTo>
                <a:lnTo>
                  <a:pt x="922" y="1785"/>
                </a:lnTo>
                <a:lnTo>
                  <a:pt x="436" y="2708"/>
                </a:lnTo>
                <a:lnTo>
                  <a:pt x="1262" y="3392"/>
                </a:lnTo>
                <a:lnTo>
                  <a:pt x="922" y="4115"/>
                </a:lnTo>
                <a:lnTo>
                  <a:pt x="1491" y="5341"/>
                </a:lnTo>
                <a:lnTo>
                  <a:pt x="896" y="6087"/>
                </a:lnTo>
                <a:lnTo>
                  <a:pt x="1006" y="7595"/>
                </a:lnTo>
                <a:lnTo>
                  <a:pt x="1332" y="6105"/>
                </a:lnTo>
                <a:lnTo>
                  <a:pt x="2215" y="5089"/>
                </a:lnTo>
                <a:lnTo>
                  <a:pt x="1575" y="4146"/>
                </a:lnTo>
                <a:lnTo>
                  <a:pt x="2065" y="3400"/>
                </a:lnTo>
                <a:lnTo>
                  <a:pt x="1438" y="2981"/>
                </a:lnTo>
                <a:lnTo>
                  <a:pt x="2189" y="2329"/>
                </a:lnTo>
                <a:lnTo>
                  <a:pt x="2198" y="0"/>
                </a:lnTo>
                <a:lnTo>
                  <a:pt x="0" y="53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txBox="1"/>
          <p:nvPr/>
        </p:nvSpPr>
        <p:spPr>
          <a:xfrm>
            <a:off x="6956280" y="1703520"/>
            <a:ext cx="1276200" cy="2712960"/>
          </a:xfrm>
          <a:prstGeom prst="rect">
            <a:avLst/>
          </a:prstGeom>
          <a:noFill/>
          <a:ln w="0">
            <a:noFill/>
          </a:ln>
        </p:spPr>
        <p:txBody>
          <a:bodyPr lIns="0" rIns="0" tIns="0" bIns="0" anchor="t">
            <a:noAutofit/>
          </a:bodyPr>
          <a:p>
            <a:pPr>
              <a:lnSpc>
                <a:spcPct val="100000"/>
              </a:lnSpc>
            </a:pPr>
            <a:r>
              <a:rPr b="1" lang="en-US" sz="17200" spc="-1" strike="noStrike">
                <a:solidFill>
                  <a:srgbClr val="990000"/>
                </a:solidFill>
                <a:latin typeface="Times New Roman"/>
                <a:ea typeface="Times New Roman"/>
              </a:rPr>
              <a:t>?</a:t>
            </a:r>
            <a:endParaRPr b="0" lang="en-US" sz="17200" spc="-1" strike="noStrike">
              <a:solidFill>
                <a:srgbClr val="000000"/>
              </a:solidFill>
              <a:latin typeface="Arial"/>
            </a:endParaRPr>
          </a:p>
        </p:txBody>
      </p:sp>
      <p:sp>
        <p:nvSpPr>
          <p:cNvPr id="721" name=""/>
          <p:cNvSpPr/>
          <p:nvPr/>
        </p:nvSpPr>
        <p:spPr>
          <a:xfrm>
            <a:off x="7062840" y="3027240"/>
            <a:ext cx="555840" cy="2519640"/>
          </a:xfrm>
          <a:custGeom>
            <a:avLst/>
            <a:gdLst/>
            <a:ahLst/>
            <a:rect l="0" t="0" r="r" b="b"/>
            <a:pathLst>
              <a:path w="1544" h="6999">
                <a:moveTo>
                  <a:pt x="0" y="0"/>
                </a:moveTo>
                <a:lnTo>
                  <a:pt x="812" y="1111"/>
                </a:lnTo>
                <a:lnTo>
                  <a:pt x="330" y="2085"/>
                </a:lnTo>
                <a:lnTo>
                  <a:pt x="1112" y="2738"/>
                </a:lnTo>
                <a:lnTo>
                  <a:pt x="825" y="3443"/>
                </a:lnTo>
                <a:lnTo>
                  <a:pt x="1376" y="4719"/>
                </a:lnTo>
                <a:lnTo>
                  <a:pt x="758" y="5398"/>
                </a:lnTo>
                <a:lnTo>
                  <a:pt x="913" y="6999"/>
                </a:lnTo>
                <a:lnTo>
                  <a:pt x="1019" y="5235"/>
                </a:lnTo>
                <a:lnTo>
                  <a:pt x="1491" y="4613"/>
                </a:lnTo>
                <a:lnTo>
                  <a:pt x="1544" y="4587"/>
                </a:lnTo>
                <a:lnTo>
                  <a:pt x="966" y="3227"/>
                </a:lnTo>
                <a:lnTo>
                  <a:pt x="1187" y="2685"/>
                </a:lnTo>
                <a:lnTo>
                  <a:pt x="1271" y="2495"/>
                </a:lnTo>
                <a:lnTo>
                  <a:pt x="498" y="1816"/>
                </a:lnTo>
                <a:lnTo>
                  <a:pt x="882" y="1111"/>
                </a:lnTo>
                <a:lnTo>
                  <a:pt x="966" y="784"/>
                </a:lnTo>
                <a:lnTo>
                  <a:pt x="551" y="52"/>
                </a:lnTo>
                <a:lnTo>
                  <a:pt x="0" y="0"/>
                </a:lnTo>
                <a:close/>
              </a:path>
            </a:pathLst>
          </a:cu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2" name=""/>
          <p:cNvSpPr/>
          <p:nvPr/>
        </p:nvSpPr>
        <p:spPr>
          <a:xfrm>
            <a:off x="6546960" y="5641920"/>
            <a:ext cx="810000" cy="878400"/>
          </a:xfrm>
          <a:custGeom>
            <a:avLst/>
            <a:gdLst/>
            <a:ahLst/>
            <a:rect l="0" t="0" r="r" b="b"/>
            <a:pathLst>
              <a:path w="2250" h="2440">
                <a:moveTo>
                  <a:pt x="127" y="0"/>
                </a:moveTo>
                <a:lnTo>
                  <a:pt x="953" y="724"/>
                </a:lnTo>
                <a:lnTo>
                  <a:pt x="0" y="746"/>
                </a:lnTo>
                <a:lnTo>
                  <a:pt x="847" y="1204"/>
                </a:lnTo>
                <a:lnTo>
                  <a:pt x="414" y="1323"/>
                </a:lnTo>
                <a:lnTo>
                  <a:pt x="935" y="1880"/>
                </a:lnTo>
                <a:lnTo>
                  <a:pt x="216" y="1933"/>
                </a:lnTo>
                <a:lnTo>
                  <a:pt x="216" y="2440"/>
                </a:lnTo>
                <a:lnTo>
                  <a:pt x="697" y="2070"/>
                </a:lnTo>
                <a:lnTo>
                  <a:pt x="1752" y="2008"/>
                </a:lnTo>
                <a:lnTo>
                  <a:pt x="1125" y="1522"/>
                </a:lnTo>
                <a:lnTo>
                  <a:pt x="1726" y="1438"/>
                </a:lnTo>
                <a:lnTo>
                  <a:pt x="1076" y="1121"/>
                </a:lnTo>
                <a:lnTo>
                  <a:pt x="1951" y="1138"/>
                </a:lnTo>
                <a:lnTo>
                  <a:pt x="2250" y="141"/>
                </a:lnTo>
                <a:lnTo>
                  <a:pt x="12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mo of a working prototype</a:t>
            </a:r>
            <a:endParaRPr b="0" lang="en-US" sz="4400" spc="-1" strike="noStrike">
              <a:solidFill>
                <a:srgbClr val="000000"/>
              </a:solidFill>
              <a:latin typeface="Arial"/>
            </a:endParaRPr>
          </a:p>
        </p:txBody>
      </p:sp>
      <p:sp>
        <p:nvSpPr>
          <p:cNvPr id="7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http://www.research.digital.com/src/millicent/html/demo.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2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Leg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152280" y="152280"/>
            <a:ext cx="8915400" cy="1350360"/>
          </a:xfrm>
          <a:prstGeom prst="rect">
            <a:avLst/>
          </a:prstGeom>
          <a:noFill/>
          <a:ln w="0">
            <a:noFill/>
          </a:ln>
        </p:spPr>
        <p:txBody>
          <a:bodyPr lIns="0" rIns="0" tIns="0" bIns="0" anchor="t">
            <a:noAutofit/>
          </a:bodyPr>
          <a:p>
            <a:pPr algn="ctr">
              <a:lnSpc>
                <a:spcPct val="100000"/>
              </a:lnSpc>
            </a:pPr>
            <a:r>
              <a:rPr b="0" lang="en-US" sz="4800" spc="-1" strike="noStrike">
                <a:solidFill>
                  <a:srgbClr val="000000"/>
                </a:solidFill>
                <a:latin typeface="Times New Roman"/>
                <a:ea typeface="Times New Roman"/>
              </a:rPr>
              <a:t>eps - </a:t>
            </a:r>
            <a:r>
              <a:rPr b="0" i="1" lang="en-US" sz="4800" spc="-1" strike="noStrike">
                <a:solidFill>
                  <a:srgbClr val="000000"/>
                </a:solidFill>
                <a:latin typeface="Times New Roman"/>
                <a:ea typeface="Times New Roman"/>
              </a:rPr>
              <a:t>a law enforcements perspective</a:t>
            </a:r>
            <a:endParaRPr b="0" lang="en-US" sz="4800" spc="-1" strike="noStrike">
              <a:solidFill>
                <a:srgbClr val="000000"/>
              </a:solidFill>
              <a:latin typeface="Arial"/>
            </a:endParaRPr>
          </a:p>
        </p:txBody>
      </p:sp>
      <p:sp>
        <p:nvSpPr>
          <p:cNvPr id="728"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ed : makes the systems efficient</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attractive to those who seek to use it for illicit purpos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ity : makes them secure</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impedes law enforcement from obtaining necessary information to detect illegal activity</a:t>
            </a:r>
            <a:endParaRPr b="0" lang="en-US" sz="3200" spc="-1" strike="noStrike">
              <a:solidFill>
                <a:srgbClr val="000000"/>
              </a:solidFill>
              <a:latin typeface="Arial"/>
            </a:endParaRPr>
          </a:p>
        </p:txBody>
      </p:sp>
      <p:pic>
        <p:nvPicPr>
          <p:cNvPr id="729"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 Treasury responds</a:t>
            </a:r>
            <a:endParaRPr b="0" lang="en-US" sz="4400" spc="-1" strike="noStrike">
              <a:solidFill>
                <a:srgbClr val="000000"/>
              </a:solidFill>
              <a:latin typeface="Arial"/>
            </a:endParaRPr>
          </a:p>
        </p:txBody>
      </p:sp>
      <p:sp>
        <p:nvSpPr>
          <p:cNvPr id="73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618ffd"/>
                </a:solidFill>
                <a:latin typeface="Times New Roman"/>
                <a:ea typeface="Times New Roman"/>
              </a:rPr>
              <a:t>Financial Crimes Enforcement Network (FinCEN) </a:t>
            </a:r>
            <a:r>
              <a:rPr b="0" lang="en-US" sz="2800" spc="-1" strike="noStrike">
                <a:solidFill>
                  <a:srgbClr val="000000"/>
                </a:solidFill>
                <a:latin typeface="Times New Roman"/>
                <a:ea typeface="Times New Roman"/>
              </a:rPr>
              <a:t>has been designated as the coordinator for the Treasury law enforcement bureaus, in 1990, which include the US Customs Service, The Bureau of Alcohol Tobacco and Firearms, The US Secret Service, and the Internal Revenue Service's Criminal Investigations Division.</a:t>
            </a:r>
            <a:endParaRPr b="0" lang="en-US" sz="2800" spc="-1" strike="noStrike">
              <a:solidFill>
                <a:srgbClr val="000000"/>
              </a:solidFill>
              <a:latin typeface="Arial"/>
            </a:endParaRPr>
          </a:p>
        </p:txBody>
      </p:sp>
      <p:pic>
        <p:nvPicPr>
          <p:cNvPr id="732" name="" descr=""/>
          <p:cNvPicPr/>
          <p:nvPr/>
        </p:nvPicPr>
        <p:blipFill>
          <a:blip r:embed="rId1"/>
          <a:stretch/>
        </p:blipFill>
        <p:spPr>
          <a:xfrm>
            <a:off x="76320" y="5054760"/>
            <a:ext cx="8912160" cy="1708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4e47"/>
                </a:solidFill>
                <a:latin typeface="Times New Roman"/>
                <a:ea typeface="Times New Roman"/>
              </a:rPr>
              <a:t>Fincen - </a:t>
            </a:r>
            <a:r>
              <a:rPr b="0" i="1" lang="en-US" sz="4400" spc="-1" strike="noStrike">
                <a:solidFill>
                  <a:srgbClr val="004e47"/>
                </a:solidFill>
                <a:latin typeface="Times New Roman"/>
                <a:ea typeface="Times New Roman"/>
              </a:rPr>
              <a:t>objective</a:t>
            </a:r>
            <a:endParaRPr b="0" lang="en-US" sz="4400" spc="-1" strike="noStrike">
              <a:solidFill>
                <a:srgbClr val="000000"/>
              </a:solidFill>
              <a:latin typeface="Arial"/>
            </a:endParaRPr>
          </a:p>
        </p:txBody>
      </p:sp>
      <p:sp>
        <p:nvSpPr>
          <p:cNvPr id="734" name=""/>
          <p:cNvSpPr txBox="1"/>
          <p:nvPr/>
        </p:nvSpPr>
        <p:spPr>
          <a:xfrm>
            <a:off x="380880" y="129528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crease its understanding of these new technologie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y opportunities for, and the vulnerabilities of these systems to money laundering as well as other types of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pose adequate means for law enforcement to detect criminal activity . </a:t>
            </a:r>
            <a:endParaRPr b="0" lang="en-US" sz="3200" spc="-1" strike="noStrike">
              <a:solidFill>
                <a:srgbClr val="000000"/>
              </a:solidFill>
              <a:latin typeface="Arial"/>
            </a:endParaRPr>
          </a:p>
        </p:txBody>
      </p:sp>
      <p:pic>
        <p:nvPicPr>
          <p:cNvPr id="735" name="" descr=""/>
          <p:cNvPicPr/>
          <p:nvPr/>
        </p:nvPicPr>
        <p:blipFill>
          <a:blip r:embed="rId1"/>
          <a:stretch/>
        </p:blipFill>
        <p:spPr>
          <a:xfrm>
            <a:off x="152280" y="5334120"/>
            <a:ext cx="8686800" cy="1438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w enforcement's specific concerns</a:t>
            </a:r>
            <a:endParaRPr b="0" lang="en-US" sz="4400" spc="-1" strike="noStrike">
              <a:solidFill>
                <a:srgbClr val="000000"/>
              </a:solidFill>
              <a:latin typeface="Arial"/>
            </a:endParaRPr>
          </a:p>
        </p:txBody>
      </p:sp>
      <p:sp>
        <p:nvSpPr>
          <p:cNvPr id="737"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ffectiveness of Current Regulatory/Policy Initiatives Against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Impact on Traditional Investigative Techniques and Analysi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Jurisdictional Issues</a:t>
            </a:r>
            <a:endParaRPr b="0" lang="en-US" sz="3200" spc="-1" strike="noStrike">
              <a:solidFill>
                <a:srgbClr val="000000"/>
              </a:solidFill>
              <a:latin typeface="Arial"/>
            </a:endParaRPr>
          </a:p>
        </p:txBody>
      </p:sp>
      <p:pic>
        <p:nvPicPr>
          <p:cNvPr id="738"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52280"/>
            <a:ext cx="7772400" cy="154764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desirable features</a:t>
            </a:r>
            <a:endParaRPr b="0" lang="en-US" sz="3600" spc="-1" strike="noStrike">
              <a:solidFill>
                <a:srgbClr val="000000"/>
              </a:solidFill>
              <a:latin typeface="Arial"/>
            </a:endParaRPr>
          </a:p>
        </p:txBody>
      </p:sp>
      <p:sp>
        <p:nvSpPr>
          <p:cNvPr id="73" name=""/>
          <p:cNvSpPr txBox="1"/>
          <p:nvPr/>
        </p:nvSpPr>
        <p:spPr>
          <a:xfrm>
            <a:off x="833400" y="2070000"/>
            <a:ext cx="7772400" cy="45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ecur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nsure positive identity of custom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afegaurd against breaches of personal priva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ata not altered as it is sen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calab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users rapidly ri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nonym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traceable i.e. who spends - how much -wher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ow transaction cos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ompatible and interchange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Reliable and accurate accountability</a:t>
            </a:r>
            <a:endParaRPr b="0" lang="en-US" sz="2400" spc="-1" strike="noStrike">
              <a:solidFill>
                <a:srgbClr val="000000"/>
              </a:solidFill>
              <a:latin typeface="Arial"/>
            </a:endParaRPr>
          </a:p>
        </p:txBody>
      </p:sp>
      <p:pic>
        <p:nvPicPr>
          <p:cNvPr id="74" name="" descr=""/>
          <p:cNvPicPr/>
          <p:nvPr/>
        </p:nvPicPr>
        <p:blipFill>
          <a:blip r:embed="rId1"/>
          <a:stretch/>
        </p:blipFill>
        <p:spPr>
          <a:xfrm>
            <a:off x="885960" y="2230560"/>
            <a:ext cx="228600" cy="190440"/>
          </a:xfrm>
          <a:prstGeom prst="rect">
            <a:avLst/>
          </a:prstGeom>
          <a:ln w="0">
            <a:noFill/>
          </a:ln>
        </p:spPr>
      </p:pic>
      <p:pic>
        <p:nvPicPr>
          <p:cNvPr id="75" name="" descr=""/>
          <p:cNvPicPr/>
          <p:nvPr/>
        </p:nvPicPr>
        <p:blipFill>
          <a:blip r:embed="rId2"/>
          <a:stretch/>
        </p:blipFill>
        <p:spPr>
          <a:xfrm>
            <a:off x="879480" y="3705120"/>
            <a:ext cx="228600" cy="190440"/>
          </a:xfrm>
          <a:prstGeom prst="rect">
            <a:avLst/>
          </a:prstGeom>
          <a:ln w="0">
            <a:noFill/>
          </a:ln>
        </p:spPr>
      </p:pic>
      <p:pic>
        <p:nvPicPr>
          <p:cNvPr id="76" name="" descr=""/>
          <p:cNvPicPr/>
          <p:nvPr/>
        </p:nvPicPr>
        <p:blipFill>
          <a:blip r:embed="rId3"/>
          <a:stretch/>
        </p:blipFill>
        <p:spPr>
          <a:xfrm>
            <a:off x="907920" y="4546440"/>
            <a:ext cx="228600" cy="190440"/>
          </a:xfrm>
          <a:prstGeom prst="rect">
            <a:avLst/>
          </a:prstGeom>
          <a:ln w="0">
            <a:noFill/>
          </a:ln>
        </p:spPr>
      </p:pic>
      <p:pic>
        <p:nvPicPr>
          <p:cNvPr id="77" name="" descr=""/>
          <p:cNvPicPr/>
          <p:nvPr/>
        </p:nvPicPr>
        <p:blipFill>
          <a:blip r:embed="rId4"/>
          <a:stretch/>
        </p:blipFill>
        <p:spPr>
          <a:xfrm>
            <a:off x="903240" y="5334120"/>
            <a:ext cx="228600" cy="190440"/>
          </a:xfrm>
          <a:prstGeom prst="rect">
            <a:avLst/>
          </a:prstGeom>
          <a:ln w="0">
            <a:noFill/>
          </a:ln>
        </p:spPr>
      </p:pic>
      <p:pic>
        <p:nvPicPr>
          <p:cNvPr id="78" name="" descr=""/>
          <p:cNvPicPr/>
          <p:nvPr/>
        </p:nvPicPr>
        <p:blipFill>
          <a:blip r:embed="rId5"/>
          <a:stretch/>
        </p:blipFill>
        <p:spPr>
          <a:xfrm>
            <a:off x="896760" y="5784840"/>
            <a:ext cx="228600" cy="190440"/>
          </a:xfrm>
          <a:prstGeom prst="rect">
            <a:avLst/>
          </a:prstGeom>
          <a:ln w="0">
            <a:noFill/>
          </a:ln>
        </p:spPr>
      </p:pic>
      <p:pic>
        <p:nvPicPr>
          <p:cNvPr id="79" name="" descr=""/>
          <p:cNvPicPr/>
          <p:nvPr/>
        </p:nvPicPr>
        <p:blipFill>
          <a:blip r:embed="rId6"/>
          <a:stretch/>
        </p:blipFill>
        <p:spPr>
          <a:xfrm>
            <a:off x="871560" y="620244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eps taken by FinCEN</a:t>
            </a:r>
            <a:endParaRPr b="0" lang="en-US" sz="4400" spc="-1" strike="noStrike">
              <a:solidFill>
                <a:srgbClr val="000000"/>
              </a:solidFill>
              <a:latin typeface="Arial"/>
            </a:endParaRPr>
          </a:p>
        </p:txBody>
      </p:sp>
      <p:sp>
        <p:nvSpPr>
          <p:cNvPr id="740" name=""/>
          <p:cNvSpPr txBox="1"/>
          <p:nvPr/>
        </p:nvSpPr>
        <p:spPr>
          <a:xfrm>
            <a:off x="457200" y="1371600"/>
            <a:ext cx="838188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oney Counci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payments Colloquium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Coordina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inued Partnership with Industr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inCEN has created a subgroup of its Bank Secrecy Act Advisory Group (BSAAG) to study privacy issues and the government's obligation to protect against criminal activity. </a:t>
            </a:r>
            <a:endParaRPr b="0" lang="en-US" sz="3200" spc="-1" strike="noStrike">
              <a:solidFill>
                <a:srgbClr val="000000"/>
              </a:solidFill>
              <a:latin typeface="Arial"/>
            </a:endParaRPr>
          </a:p>
        </p:txBody>
      </p:sp>
      <p:pic>
        <p:nvPicPr>
          <p:cNvPr id="741" name="" descr=""/>
          <p:cNvPicPr/>
          <p:nvPr/>
        </p:nvPicPr>
        <p:blipFill>
          <a:blip r:embed="rId1"/>
          <a:stretch/>
        </p:blipFill>
        <p:spPr>
          <a:xfrm>
            <a:off x="7466040" y="57240"/>
            <a:ext cx="1601640" cy="12384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Present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ps - concerns</a:t>
            </a:r>
            <a:endParaRPr b="0" lang="en-US" sz="4400" spc="-1" strike="noStrike">
              <a:solidFill>
                <a:srgbClr val="000000"/>
              </a:solidFill>
              <a:latin typeface="Arial"/>
            </a:endParaRPr>
          </a:p>
        </p:txBody>
      </p:sp>
      <p:sp>
        <p:nvSpPr>
          <p:cNvPr id="7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ata security and integr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al systems for accounting of a large number of small value transaction,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an accepted standard and compatibility between different payment system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licy and regulatory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curity</a:t>
            </a:r>
            <a:endParaRPr b="0" lang="en-US" sz="4400" spc="-1" strike="noStrike">
              <a:solidFill>
                <a:srgbClr val="000000"/>
              </a:solidFill>
              <a:latin typeface="Arial"/>
            </a:endParaRPr>
          </a:p>
        </p:txBody>
      </p:sp>
      <p:sp>
        <p:nvSpPr>
          <p:cNvPr id="747" name=""/>
          <p:cNvSpPr txBox="1"/>
          <p:nvPr/>
        </p:nvSpPr>
        <p:spPr>
          <a:xfrm>
            <a:off x="609480" y="1676520"/>
            <a:ext cx="838188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hallenge is to address the security issue without sacrificing any of the benefits that the Internet provides by its open architectu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t present most payment schemes operate in a closed-loop system, and are geared towards large pay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most all are incompatible with each oth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ree types of security concern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itive identity of the custom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tect sensitive customer inform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data is not altered or changed as it is transmitted across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ccounting for Large Number of Small Transactions</a:t>
            </a:r>
            <a:endParaRPr b="0" lang="en-US" sz="4400" spc="-1" strike="noStrike">
              <a:solidFill>
                <a:srgbClr val="000000"/>
              </a:solidFill>
              <a:latin typeface="Arial"/>
            </a:endParaRPr>
          </a:p>
        </p:txBody>
      </p:sp>
      <p:sp>
        <p:nvSpPr>
          <p:cNvPr id="749" name=""/>
          <p:cNvSpPr txBox="1"/>
          <p:nvPr/>
        </p:nvSpPr>
        <p:spPr>
          <a:xfrm>
            <a:off x="685800" y="23623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current electronic payment systems are designed around relatively small numbers of high value transaction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 the future, a large percentage of transactions on the Internet are likely to be high volume, but with a small dollar value per transac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ayment system must have correspondingly small transaction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685800" y="0"/>
            <a:ext cx="82296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ization and Compatibility</a:t>
            </a:r>
            <a:endParaRPr b="0" lang="en-US" sz="4400" spc="-1" strike="noStrike">
              <a:solidFill>
                <a:srgbClr val="000000"/>
              </a:solidFill>
              <a:latin typeface="Arial"/>
            </a:endParaRPr>
          </a:p>
        </p:txBody>
      </p:sp>
      <p:sp>
        <p:nvSpPr>
          <p:cNvPr id="751" name=""/>
          <p:cNvSpPr txBox="1"/>
          <p:nvPr/>
        </p:nvSpPr>
        <p:spPr>
          <a:xfrm>
            <a:off x="685800" y="1295280"/>
            <a:ext cx="8381880" cy="48009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y new payment systems must be easy to use and understan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the new electronic payment systems being designed or proposed must also be compatible with each o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umers will not put up with the hassle and inconvenience of keeping track of which stores will accept which type of paymen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arket will probably only support a few different networks, similar to VISA, Discover, and American Express in the credit card market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icy and Regulatory Issues</a:t>
            </a:r>
            <a:endParaRPr b="0" lang="en-US" sz="4400" spc="-1" strike="noStrike">
              <a:solidFill>
                <a:srgbClr val="000000"/>
              </a:solidFill>
              <a:latin typeface="Arial"/>
            </a:endParaRPr>
          </a:p>
        </p:txBody>
      </p:sp>
      <p:sp>
        <p:nvSpPr>
          <p:cNvPr id="753" name=""/>
          <p:cNvSpPr txBox="1"/>
          <p:nvPr/>
        </p:nvSpPr>
        <p:spPr>
          <a:xfrm>
            <a:off x="685800" y="1981080"/>
            <a:ext cx="83059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re would no longer be national currencies, but rather just 'cybercurrencies'.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rst Union bank has even registered "Cyberbank" as a trademar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ome governments might ban e-cash because of concerns over control and loss of national ident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oney laundering easier or harder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tection of copyrights and trade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5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
          <p:cNvGrpSpPr/>
          <p:nvPr/>
        </p:nvGrpSpPr>
        <p:grpSpPr>
          <a:xfrm>
            <a:off x="5468760" y="2701800"/>
            <a:ext cx="3243600" cy="3699000"/>
            <a:chOff x="5468760" y="2701800"/>
            <a:chExt cx="3243600" cy="3699000"/>
          </a:xfrm>
        </p:grpSpPr>
        <p:sp>
          <p:nvSpPr>
            <p:cNvPr id="757"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60" name=""/>
            <p:cNvGrpSpPr/>
            <p:nvPr/>
          </p:nvGrpSpPr>
          <p:grpSpPr>
            <a:xfrm>
              <a:off x="7593120" y="2701800"/>
              <a:ext cx="1000080" cy="1001880"/>
              <a:chOff x="7593120" y="2701800"/>
              <a:chExt cx="1000080" cy="1001880"/>
            </a:xfrm>
          </p:grpSpPr>
          <p:pic>
            <p:nvPicPr>
              <p:cNvPr id="761" name="" descr=""/>
              <p:cNvPicPr/>
              <p:nvPr/>
            </p:nvPicPr>
            <p:blipFill>
              <a:blip r:embed="rId1"/>
              <a:stretch/>
            </p:blipFill>
            <p:spPr>
              <a:xfrm>
                <a:off x="7593120" y="2701800"/>
                <a:ext cx="1000080" cy="1001880"/>
              </a:xfrm>
              <a:prstGeom prst="rect">
                <a:avLst/>
              </a:prstGeom>
              <a:ln w="0">
                <a:noFill/>
              </a:ln>
            </p:spPr>
          </p:pic>
          <p:sp>
            <p:nvSpPr>
              <p:cNvPr id="762"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63" name="" descr=""/>
            <p:cNvPicPr/>
            <p:nvPr/>
          </p:nvPicPr>
          <p:blipFill>
            <a:blip r:embed="rId2"/>
            <a:stretch/>
          </p:blipFill>
          <p:spPr>
            <a:xfrm>
              <a:off x="7491240" y="3338640"/>
              <a:ext cx="1000080" cy="1001880"/>
            </a:xfrm>
            <a:prstGeom prst="rect">
              <a:avLst/>
            </a:prstGeom>
            <a:ln w="0">
              <a:noFill/>
            </a:ln>
          </p:spPr>
        </p:pic>
        <p:pic>
          <p:nvPicPr>
            <p:cNvPr id="764" name="" descr=""/>
            <p:cNvPicPr/>
            <p:nvPr/>
          </p:nvPicPr>
          <p:blipFill>
            <a:blip r:embed="rId3"/>
            <a:stretch/>
          </p:blipFill>
          <p:spPr>
            <a:xfrm>
              <a:off x="6978600" y="3854520"/>
              <a:ext cx="1208160" cy="1208160"/>
            </a:xfrm>
            <a:prstGeom prst="rect">
              <a:avLst/>
            </a:prstGeom>
            <a:ln w="0">
              <a:noFill/>
            </a:ln>
          </p:spPr>
        </p:pic>
        <p:sp>
          <p:nvSpPr>
            <p:cNvPr id="765"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66" name="" descr=""/>
            <p:cNvPicPr/>
            <p:nvPr/>
          </p:nvPicPr>
          <p:blipFill>
            <a:blip r:embed="rId4"/>
            <a:stretch/>
          </p:blipFill>
          <p:spPr>
            <a:xfrm>
              <a:off x="5468760" y="4216320"/>
              <a:ext cx="1984320" cy="1987560"/>
            </a:xfrm>
            <a:prstGeom prst="rect">
              <a:avLst/>
            </a:prstGeom>
            <a:ln w="0">
              <a:noFill/>
            </a:ln>
          </p:spPr>
        </p:pic>
      </p:grpSp>
      <p:sp>
        <p:nvSpPr>
          <p:cNvPr id="76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68" name=""/>
          <p:cNvSpPr txBox="1"/>
          <p:nvPr/>
        </p:nvSpPr>
        <p:spPr>
          <a:xfrm>
            <a:off x="609480" y="1371600"/>
            <a:ext cx="84582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commerce is projected to grow by $ 1 trillion by the year 20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apid growth of the Internet and the World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ide Web are the major facto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vide the ability to engage in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erce around the clock and</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ound the globe</a:t>
            </a:r>
            <a:endParaRPr b="0" lang="en-US" sz="28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30 million users of the Internet spread across 96</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different countries using over 6.6 million host</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computers, and these figures are rising very rapid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770" name="" descr=""/>
          <p:cNvPicPr/>
          <p:nvPr/>
        </p:nvPicPr>
        <p:blipFill>
          <a:blip r:embed="rId1"/>
          <a:stretch/>
        </p:blipFill>
        <p:spPr>
          <a:xfrm>
            <a:off x="5981760" y="4133880"/>
            <a:ext cx="3098880" cy="2660760"/>
          </a:xfrm>
          <a:prstGeom prst="rect">
            <a:avLst/>
          </a:prstGeom>
          <a:ln w="0">
            <a:noFill/>
          </a:ln>
        </p:spPr>
      </p:pic>
      <p:sp>
        <p:nvSpPr>
          <p:cNvPr id="771" name=""/>
          <p:cNvSpPr txBox="1"/>
          <p:nvPr/>
        </p:nvSpPr>
        <p:spPr>
          <a:xfrm>
            <a:off x="380880" y="1600200"/>
            <a:ext cx="861048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ltimately the actual content, and not the methods of payment would entice the cyber shoppers to part with their money</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t a huge market for content would not develop until telecommunication lines can deliver sound, video, and animation at quality and speed that would appeal to shopp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limitations will begin to vanish, as     faster connection lines, innovative compression algorithms, and superior browser technology become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 P Rep</dc:creator>
  <dc:description/>
  <dc:language>en-US</dc:language>
  <cp:lastModifiedBy>D P Rep</cp:lastModifiedBy>
  <cp:revision>0</cp:revision>
  <dc:subject/>
  <dc:title>Evolution of money and payment system</dc:title>
</cp:coreProperties>
</file>