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png" ContentType="image/png"/>
  <Override PartName="/ppt/media/image14.gif" ContentType="image/gif"/>
  <Override PartName="/ppt/media/image1.wmf" ContentType="image/x-wmf"/>
  <Override PartName="/ppt/media/image11.png" ContentType="image/png"/>
  <Override PartName="/ppt/media/image6.png" ContentType="image/png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13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F75-D364-4CFB-B6FB-9D0D2FC5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C38-8C40-4F1D-BF33-99E1DE80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B17-0DEC-4450-B054-8FA705B0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5D3-630F-4C32-8814-CC4E9ED0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831-63D3-4869-A3B1-09F7624A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5BC3-FFEF-4527-A8D2-FB5118E9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90A-F54C-43DB-B71B-59105A0C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8572-046C-4BA7-A657-4A58366B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87D-7030-4360-AEB3-D984CA74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ABF-499A-4958-9195-20CE494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1AD-EF82-47FA-8E66-11E4A7B9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82A2-DDAC-4A3D-9BEC-068AEA02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A3DF-EE5F-4ECA-9A61-B345CDCA519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1.png"/><Relationship Id="rId35" Type="http://schemas.openxmlformats.org/officeDocument/2006/relationships/image" Target="../media/image11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12.png"/><Relationship Id="rId42" Type="http://schemas.openxmlformats.org/officeDocument/2006/relationships/image" Target="../media/image13.png"/><Relationship Id="rId43" Type="http://schemas.openxmlformats.org/officeDocument/2006/relationships/image" Target="../media/image12.png"/><Relationship Id="rId4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-4680"/>
            <a:ext cx="9144000" cy="6858000"/>
            <a:chOff x="0" y="-4680"/>
            <a:chExt cx="9144000" cy="68580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156204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3124080" y="-468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468648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6248520" y="-468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"/>
            <a:srcRect l="0" t="0" r="14836" b="0"/>
            <a:stretch/>
          </p:blipFill>
          <p:spPr>
            <a:xfrm>
              <a:off x="7810560" y="-468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7"/>
            <a:stretch/>
          </p:blipFill>
          <p:spPr>
            <a:xfrm>
              <a:off x="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8"/>
            <a:stretch/>
          </p:blipFill>
          <p:spPr>
            <a:xfrm>
              <a:off x="156204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3124080" y="155736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0"/>
            <a:stretch/>
          </p:blipFill>
          <p:spPr>
            <a:xfrm>
              <a:off x="468648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1"/>
            <a:stretch/>
          </p:blipFill>
          <p:spPr>
            <a:xfrm>
              <a:off x="6248520" y="155736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2"/>
            <a:srcRect l="0" t="0" r="14836" b="0"/>
            <a:stretch/>
          </p:blipFill>
          <p:spPr>
            <a:xfrm>
              <a:off x="7810560" y="155736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3"/>
            <a:stretch/>
          </p:blipFill>
          <p:spPr>
            <a:xfrm>
              <a:off x="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"/>
            <a:stretch/>
          </p:blipFill>
          <p:spPr>
            <a:xfrm>
              <a:off x="156204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5"/>
            <a:stretch/>
          </p:blipFill>
          <p:spPr>
            <a:xfrm>
              <a:off x="3124080" y="311940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6"/>
            <a:stretch/>
          </p:blipFill>
          <p:spPr>
            <a:xfrm>
              <a:off x="468648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7"/>
            <a:stretch/>
          </p:blipFill>
          <p:spPr>
            <a:xfrm>
              <a:off x="6248520" y="311940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8"/>
            <a:srcRect l="0" t="0" r="14836" b="0"/>
            <a:stretch/>
          </p:blipFill>
          <p:spPr>
            <a:xfrm>
              <a:off x="7810560" y="311940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9"/>
            <a:stretch/>
          </p:blipFill>
          <p:spPr>
            <a:xfrm>
              <a:off x="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20"/>
            <a:stretch/>
          </p:blipFill>
          <p:spPr>
            <a:xfrm>
              <a:off x="156204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1"/>
            <a:stretch/>
          </p:blipFill>
          <p:spPr>
            <a:xfrm>
              <a:off x="3124080" y="4681440"/>
              <a:ext cx="156240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2"/>
            <a:stretch/>
          </p:blipFill>
          <p:spPr>
            <a:xfrm>
              <a:off x="468648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23"/>
            <a:stretch/>
          </p:blipFill>
          <p:spPr>
            <a:xfrm>
              <a:off x="6248520" y="4681440"/>
              <a:ext cx="15620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24"/>
            <a:srcRect l="0" t="0" r="14836" b="0"/>
            <a:stretch/>
          </p:blipFill>
          <p:spPr>
            <a:xfrm>
              <a:off x="7810560" y="4681440"/>
              <a:ext cx="1333440" cy="15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25"/>
            <a:srcRect l="0" t="0" r="0" b="60960"/>
            <a:stretch/>
          </p:blipFill>
          <p:spPr>
            <a:xfrm>
              <a:off x="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6"/>
            <a:srcRect l="0" t="0" r="0" b="60960"/>
            <a:stretch/>
          </p:blipFill>
          <p:spPr>
            <a:xfrm>
              <a:off x="156204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27"/>
            <a:srcRect l="0" t="0" r="0" b="60960"/>
            <a:stretch/>
          </p:blipFill>
          <p:spPr>
            <a:xfrm>
              <a:off x="3124080" y="6243480"/>
              <a:ext cx="156240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8"/>
            <a:srcRect l="0" t="0" r="0" b="60960"/>
            <a:stretch/>
          </p:blipFill>
          <p:spPr>
            <a:xfrm>
              <a:off x="468648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29"/>
            <a:srcRect l="0" t="0" r="0" b="60960"/>
            <a:stretch/>
          </p:blipFill>
          <p:spPr>
            <a:xfrm>
              <a:off x="6248520" y="6243480"/>
              <a:ext cx="156204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30"/>
            <a:srcRect l="0" t="0" r="14836" b="60960"/>
            <a:stretch/>
          </p:blipFill>
          <p:spPr>
            <a:xfrm>
              <a:off x="7810560" y="6243480"/>
              <a:ext cx="133344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365040" y="223920"/>
            <a:ext cx="8410680" cy="6400800"/>
            <a:chOff x="365040" y="223920"/>
            <a:chExt cx="8410680" cy="6400800"/>
          </a:xfrm>
        </p:grpSpPr>
        <p:grpSp>
          <p:nvGrpSpPr>
            <p:cNvPr id="210" name=""/>
            <p:cNvGrpSpPr/>
            <p:nvPr/>
          </p:nvGrpSpPr>
          <p:grpSpPr>
            <a:xfrm>
              <a:off x="1225440" y="223920"/>
              <a:ext cx="7550280" cy="4790880"/>
              <a:chOff x="1225440" y="223920"/>
              <a:chExt cx="7550280" cy="47908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5440" y="223920"/>
                <a:ext cx="7550280" cy="4790880"/>
              </a:xfrm>
              <a:custGeom>
                <a:avLst/>
                <a:gdLst/>
                <a:ahLst/>
                <a:rect l="l" t="t" r="r" b="b"/>
                <a:pathLst>
                  <a:path w="4756" h="3018">
                    <a:moveTo>
                      <a:pt x="0" y="1638"/>
                    </a:moveTo>
                    <a:lnTo>
                      <a:pt x="6" y="1620"/>
                    </a:lnTo>
                    <a:lnTo>
                      <a:pt x="152" y="1508"/>
                    </a:lnTo>
                    <a:lnTo>
                      <a:pt x="300" y="1482"/>
                    </a:lnTo>
                    <a:lnTo>
                      <a:pt x="330" y="1456"/>
                    </a:lnTo>
                    <a:lnTo>
                      <a:pt x="292" y="1428"/>
                    </a:lnTo>
                    <a:lnTo>
                      <a:pt x="392" y="1378"/>
                    </a:lnTo>
                    <a:lnTo>
                      <a:pt x="416" y="1302"/>
                    </a:lnTo>
                    <a:lnTo>
                      <a:pt x="526" y="1212"/>
                    </a:lnTo>
                    <a:lnTo>
                      <a:pt x="636" y="1168"/>
                    </a:lnTo>
                    <a:lnTo>
                      <a:pt x="682" y="1128"/>
                    </a:lnTo>
                    <a:lnTo>
                      <a:pt x="692" y="1104"/>
                    </a:lnTo>
                    <a:lnTo>
                      <a:pt x="716" y="1044"/>
                    </a:lnTo>
                    <a:lnTo>
                      <a:pt x="766" y="970"/>
                    </a:lnTo>
                    <a:lnTo>
                      <a:pt x="844" y="912"/>
                    </a:lnTo>
                    <a:lnTo>
                      <a:pt x="850" y="848"/>
                    </a:lnTo>
                    <a:lnTo>
                      <a:pt x="912" y="868"/>
                    </a:lnTo>
                    <a:lnTo>
                      <a:pt x="922" y="934"/>
                    </a:lnTo>
                    <a:lnTo>
                      <a:pt x="944" y="924"/>
                    </a:lnTo>
                    <a:lnTo>
                      <a:pt x="976" y="868"/>
                    </a:lnTo>
                    <a:lnTo>
                      <a:pt x="992" y="864"/>
                    </a:lnTo>
                    <a:lnTo>
                      <a:pt x="1002" y="960"/>
                    </a:lnTo>
                    <a:lnTo>
                      <a:pt x="1096" y="954"/>
                    </a:lnTo>
                    <a:lnTo>
                      <a:pt x="1114" y="1070"/>
                    </a:lnTo>
                    <a:lnTo>
                      <a:pt x="1160" y="1124"/>
                    </a:lnTo>
                    <a:lnTo>
                      <a:pt x="1112" y="1180"/>
                    </a:lnTo>
                    <a:lnTo>
                      <a:pt x="1126" y="1186"/>
                    </a:lnTo>
                    <a:lnTo>
                      <a:pt x="1216" y="1150"/>
                    </a:lnTo>
                    <a:lnTo>
                      <a:pt x="1292" y="1150"/>
                    </a:lnTo>
                    <a:lnTo>
                      <a:pt x="1302" y="1138"/>
                    </a:lnTo>
                    <a:lnTo>
                      <a:pt x="1292" y="1118"/>
                    </a:lnTo>
                    <a:lnTo>
                      <a:pt x="1206" y="1106"/>
                    </a:lnTo>
                    <a:lnTo>
                      <a:pt x="1176" y="1080"/>
                    </a:lnTo>
                    <a:lnTo>
                      <a:pt x="1158" y="1038"/>
                    </a:lnTo>
                    <a:lnTo>
                      <a:pt x="1148" y="1014"/>
                    </a:lnTo>
                    <a:lnTo>
                      <a:pt x="1138" y="962"/>
                    </a:lnTo>
                    <a:lnTo>
                      <a:pt x="1150" y="932"/>
                    </a:lnTo>
                    <a:lnTo>
                      <a:pt x="1198" y="926"/>
                    </a:lnTo>
                    <a:lnTo>
                      <a:pt x="1156" y="854"/>
                    </a:lnTo>
                    <a:lnTo>
                      <a:pt x="1150" y="802"/>
                    </a:lnTo>
                    <a:lnTo>
                      <a:pt x="1176" y="744"/>
                    </a:lnTo>
                    <a:lnTo>
                      <a:pt x="1266" y="732"/>
                    </a:lnTo>
                    <a:lnTo>
                      <a:pt x="1256" y="672"/>
                    </a:lnTo>
                    <a:lnTo>
                      <a:pt x="1342" y="660"/>
                    </a:lnTo>
                    <a:lnTo>
                      <a:pt x="1370" y="628"/>
                    </a:lnTo>
                    <a:lnTo>
                      <a:pt x="1282" y="612"/>
                    </a:lnTo>
                    <a:lnTo>
                      <a:pt x="1252" y="590"/>
                    </a:lnTo>
                    <a:lnTo>
                      <a:pt x="1252" y="582"/>
                    </a:lnTo>
                    <a:lnTo>
                      <a:pt x="1548" y="302"/>
                    </a:lnTo>
                    <a:lnTo>
                      <a:pt x="2378" y="0"/>
                    </a:lnTo>
                    <a:lnTo>
                      <a:pt x="3112" y="10"/>
                    </a:lnTo>
                    <a:lnTo>
                      <a:pt x="3094" y="34"/>
                    </a:lnTo>
                    <a:lnTo>
                      <a:pt x="3030" y="164"/>
                    </a:lnTo>
                    <a:lnTo>
                      <a:pt x="2992" y="206"/>
                    </a:lnTo>
                    <a:lnTo>
                      <a:pt x="2872" y="284"/>
                    </a:lnTo>
                    <a:lnTo>
                      <a:pt x="2852" y="310"/>
                    </a:lnTo>
                    <a:lnTo>
                      <a:pt x="2864" y="328"/>
                    </a:lnTo>
                    <a:lnTo>
                      <a:pt x="2944" y="304"/>
                    </a:lnTo>
                    <a:lnTo>
                      <a:pt x="3020" y="324"/>
                    </a:lnTo>
                    <a:lnTo>
                      <a:pt x="3046" y="302"/>
                    </a:lnTo>
                    <a:lnTo>
                      <a:pt x="3076" y="300"/>
                    </a:lnTo>
                    <a:lnTo>
                      <a:pt x="3144" y="152"/>
                    </a:lnTo>
                    <a:lnTo>
                      <a:pt x="3220" y="166"/>
                    </a:lnTo>
                    <a:lnTo>
                      <a:pt x="3284" y="138"/>
                    </a:lnTo>
                    <a:lnTo>
                      <a:pt x="3290" y="134"/>
                    </a:lnTo>
                    <a:lnTo>
                      <a:pt x="3312" y="138"/>
                    </a:lnTo>
                    <a:lnTo>
                      <a:pt x="3318" y="160"/>
                    </a:lnTo>
                    <a:lnTo>
                      <a:pt x="3302" y="188"/>
                    </a:lnTo>
                    <a:lnTo>
                      <a:pt x="3324" y="222"/>
                    </a:lnTo>
                    <a:lnTo>
                      <a:pt x="3396" y="246"/>
                    </a:lnTo>
                    <a:lnTo>
                      <a:pt x="3416" y="278"/>
                    </a:lnTo>
                    <a:lnTo>
                      <a:pt x="3358" y="316"/>
                    </a:lnTo>
                    <a:lnTo>
                      <a:pt x="3346" y="366"/>
                    </a:lnTo>
                    <a:lnTo>
                      <a:pt x="3390" y="378"/>
                    </a:lnTo>
                    <a:lnTo>
                      <a:pt x="3454" y="362"/>
                    </a:lnTo>
                    <a:lnTo>
                      <a:pt x="3486" y="318"/>
                    </a:lnTo>
                    <a:lnTo>
                      <a:pt x="3512" y="326"/>
                    </a:lnTo>
                    <a:lnTo>
                      <a:pt x="3582" y="392"/>
                    </a:lnTo>
                    <a:lnTo>
                      <a:pt x="3520" y="470"/>
                    </a:lnTo>
                    <a:lnTo>
                      <a:pt x="3456" y="460"/>
                    </a:lnTo>
                    <a:lnTo>
                      <a:pt x="3448" y="484"/>
                    </a:lnTo>
                    <a:lnTo>
                      <a:pt x="3472" y="518"/>
                    </a:lnTo>
                    <a:lnTo>
                      <a:pt x="3576" y="520"/>
                    </a:lnTo>
                    <a:lnTo>
                      <a:pt x="3640" y="546"/>
                    </a:lnTo>
                    <a:lnTo>
                      <a:pt x="3684" y="586"/>
                    </a:lnTo>
                    <a:lnTo>
                      <a:pt x="3760" y="606"/>
                    </a:lnTo>
                    <a:lnTo>
                      <a:pt x="3838" y="574"/>
                    </a:lnTo>
                    <a:lnTo>
                      <a:pt x="4052" y="490"/>
                    </a:lnTo>
                    <a:lnTo>
                      <a:pt x="4068" y="514"/>
                    </a:lnTo>
                    <a:lnTo>
                      <a:pt x="3966" y="596"/>
                    </a:lnTo>
                    <a:lnTo>
                      <a:pt x="3882" y="704"/>
                    </a:lnTo>
                    <a:lnTo>
                      <a:pt x="3822" y="702"/>
                    </a:lnTo>
                    <a:lnTo>
                      <a:pt x="3756" y="802"/>
                    </a:lnTo>
                    <a:lnTo>
                      <a:pt x="3714" y="834"/>
                    </a:lnTo>
                    <a:lnTo>
                      <a:pt x="3484" y="904"/>
                    </a:lnTo>
                    <a:lnTo>
                      <a:pt x="3468" y="948"/>
                    </a:lnTo>
                    <a:lnTo>
                      <a:pt x="3364" y="1024"/>
                    </a:lnTo>
                    <a:lnTo>
                      <a:pt x="3326" y="944"/>
                    </a:lnTo>
                    <a:lnTo>
                      <a:pt x="3334" y="936"/>
                    </a:lnTo>
                    <a:lnTo>
                      <a:pt x="3414" y="862"/>
                    </a:lnTo>
                    <a:lnTo>
                      <a:pt x="3520" y="846"/>
                    </a:lnTo>
                    <a:lnTo>
                      <a:pt x="3556" y="820"/>
                    </a:lnTo>
                    <a:lnTo>
                      <a:pt x="3588" y="782"/>
                    </a:lnTo>
                    <a:lnTo>
                      <a:pt x="3554" y="766"/>
                    </a:lnTo>
                    <a:lnTo>
                      <a:pt x="3552" y="710"/>
                    </a:lnTo>
                    <a:lnTo>
                      <a:pt x="3522" y="702"/>
                    </a:lnTo>
                    <a:lnTo>
                      <a:pt x="3366" y="774"/>
                    </a:lnTo>
                    <a:lnTo>
                      <a:pt x="3296" y="776"/>
                    </a:lnTo>
                    <a:lnTo>
                      <a:pt x="3202" y="726"/>
                    </a:lnTo>
                    <a:lnTo>
                      <a:pt x="3180" y="734"/>
                    </a:lnTo>
                    <a:lnTo>
                      <a:pt x="3192" y="780"/>
                    </a:lnTo>
                    <a:lnTo>
                      <a:pt x="3138" y="862"/>
                    </a:lnTo>
                    <a:lnTo>
                      <a:pt x="3112" y="928"/>
                    </a:lnTo>
                    <a:lnTo>
                      <a:pt x="3040" y="926"/>
                    </a:lnTo>
                    <a:lnTo>
                      <a:pt x="2966" y="950"/>
                    </a:lnTo>
                    <a:lnTo>
                      <a:pt x="2862" y="950"/>
                    </a:lnTo>
                    <a:lnTo>
                      <a:pt x="2862" y="1012"/>
                    </a:lnTo>
                    <a:lnTo>
                      <a:pt x="2898" y="1036"/>
                    </a:lnTo>
                    <a:lnTo>
                      <a:pt x="2948" y="1042"/>
                    </a:lnTo>
                    <a:lnTo>
                      <a:pt x="2958" y="1066"/>
                    </a:lnTo>
                    <a:lnTo>
                      <a:pt x="2936" y="1098"/>
                    </a:lnTo>
                    <a:lnTo>
                      <a:pt x="2972" y="1126"/>
                    </a:lnTo>
                    <a:lnTo>
                      <a:pt x="2920" y="1160"/>
                    </a:lnTo>
                    <a:lnTo>
                      <a:pt x="2900" y="1160"/>
                    </a:lnTo>
                    <a:lnTo>
                      <a:pt x="2900" y="1106"/>
                    </a:lnTo>
                    <a:lnTo>
                      <a:pt x="2804" y="1058"/>
                    </a:lnTo>
                    <a:lnTo>
                      <a:pt x="2736" y="1072"/>
                    </a:lnTo>
                    <a:lnTo>
                      <a:pt x="2682" y="1030"/>
                    </a:lnTo>
                    <a:lnTo>
                      <a:pt x="2646" y="1030"/>
                    </a:lnTo>
                    <a:lnTo>
                      <a:pt x="2584" y="1070"/>
                    </a:lnTo>
                    <a:lnTo>
                      <a:pt x="2448" y="1102"/>
                    </a:lnTo>
                    <a:lnTo>
                      <a:pt x="2438" y="1130"/>
                    </a:lnTo>
                    <a:lnTo>
                      <a:pt x="2568" y="1188"/>
                    </a:lnTo>
                    <a:lnTo>
                      <a:pt x="2592" y="1218"/>
                    </a:lnTo>
                    <a:lnTo>
                      <a:pt x="2660" y="1224"/>
                    </a:lnTo>
                    <a:lnTo>
                      <a:pt x="2752" y="1266"/>
                    </a:lnTo>
                    <a:lnTo>
                      <a:pt x="2760" y="1268"/>
                    </a:lnTo>
                    <a:lnTo>
                      <a:pt x="2800" y="1344"/>
                    </a:lnTo>
                    <a:lnTo>
                      <a:pt x="2920" y="1398"/>
                    </a:lnTo>
                    <a:lnTo>
                      <a:pt x="2902" y="1498"/>
                    </a:lnTo>
                    <a:lnTo>
                      <a:pt x="2920" y="1544"/>
                    </a:lnTo>
                    <a:lnTo>
                      <a:pt x="2904" y="1594"/>
                    </a:lnTo>
                    <a:lnTo>
                      <a:pt x="2726" y="1818"/>
                    </a:lnTo>
                    <a:lnTo>
                      <a:pt x="2740" y="1862"/>
                    </a:lnTo>
                    <a:lnTo>
                      <a:pt x="2764" y="1850"/>
                    </a:lnTo>
                    <a:lnTo>
                      <a:pt x="2788" y="1808"/>
                    </a:lnTo>
                    <a:lnTo>
                      <a:pt x="2828" y="1814"/>
                    </a:lnTo>
                    <a:lnTo>
                      <a:pt x="2908" y="1760"/>
                    </a:lnTo>
                    <a:lnTo>
                      <a:pt x="2916" y="1674"/>
                    </a:lnTo>
                    <a:lnTo>
                      <a:pt x="3022" y="1558"/>
                    </a:lnTo>
                    <a:lnTo>
                      <a:pt x="3046" y="1508"/>
                    </a:lnTo>
                    <a:lnTo>
                      <a:pt x="3086" y="1428"/>
                    </a:lnTo>
                    <a:lnTo>
                      <a:pt x="3156" y="1338"/>
                    </a:lnTo>
                    <a:lnTo>
                      <a:pt x="3172" y="1250"/>
                    </a:lnTo>
                    <a:lnTo>
                      <a:pt x="3210" y="1240"/>
                    </a:lnTo>
                    <a:lnTo>
                      <a:pt x="3262" y="1320"/>
                    </a:lnTo>
                    <a:lnTo>
                      <a:pt x="3452" y="1292"/>
                    </a:lnTo>
                    <a:lnTo>
                      <a:pt x="3472" y="1324"/>
                    </a:lnTo>
                    <a:lnTo>
                      <a:pt x="3460" y="1346"/>
                    </a:lnTo>
                    <a:lnTo>
                      <a:pt x="3422" y="1370"/>
                    </a:lnTo>
                    <a:lnTo>
                      <a:pt x="3496" y="1478"/>
                    </a:lnTo>
                    <a:lnTo>
                      <a:pt x="3520" y="1482"/>
                    </a:lnTo>
                    <a:lnTo>
                      <a:pt x="3580" y="1396"/>
                    </a:lnTo>
                    <a:lnTo>
                      <a:pt x="3628" y="1364"/>
                    </a:lnTo>
                    <a:lnTo>
                      <a:pt x="3626" y="1334"/>
                    </a:lnTo>
                    <a:lnTo>
                      <a:pt x="3576" y="1276"/>
                    </a:lnTo>
                    <a:lnTo>
                      <a:pt x="3568" y="1184"/>
                    </a:lnTo>
                    <a:lnTo>
                      <a:pt x="3540" y="1172"/>
                    </a:lnTo>
                    <a:lnTo>
                      <a:pt x="3524" y="1166"/>
                    </a:lnTo>
                    <a:lnTo>
                      <a:pt x="3520" y="1150"/>
                    </a:lnTo>
                    <a:lnTo>
                      <a:pt x="3584" y="1092"/>
                    </a:lnTo>
                    <a:lnTo>
                      <a:pt x="3654" y="1102"/>
                    </a:lnTo>
                    <a:lnTo>
                      <a:pt x="3650" y="1020"/>
                    </a:lnTo>
                    <a:lnTo>
                      <a:pt x="3690" y="1054"/>
                    </a:lnTo>
                    <a:lnTo>
                      <a:pt x="3732" y="1042"/>
                    </a:lnTo>
                    <a:lnTo>
                      <a:pt x="3766" y="1054"/>
                    </a:lnTo>
                    <a:lnTo>
                      <a:pt x="3766" y="940"/>
                    </a:lnTo>
                    <a:lnTo>
                      <a:pt x="3876" y="864"/>
                    </a:lnTo>
                    <a:lnTo>
                      <a:pt x="3920" y="788"/>
                    </a:lnTo>
                    <a:lnTo>
                      <a:pt x="3950" y="800"/>
                    </a:lnTo>
                    <a:lnTo>
                      <a:pt x="3962" y="872"/>
                    </a:lnTo>
                    <a:lnTo>
                      <a:pt x="4032" y="866"/>
                    </a:lnTo>
                    <a:lnTo>
                      <a:pt x="4040" y="894"/>
                    </a:lnTo>
                    <a:lnTo>
                      <a:pt x="4022" y="936"/>
                    </a:lnTo>
                    <a:lnTo>
                      <a:pt x="4092" y="990"/>
                    </a:lnTo>
                    <a:lnTo>
                      <a:pt x="4138" y="1144"/>
                    </a:lnTo>
                    <a:lnTo>
                      <a:pt x="4136" y="1170"/>
                    </a:lnTo>
                    <a:lnTo>
                      <a:pt x="4130" y="1178"/>
                    </a:lnTo>
                    <a:lnTo>
                      <a:pt x="4096" y="1212"/>
                    </a:lnTo>
                    <a:lnTo>
                      <a:pt x="4096" y="1242"/>
                    </a:lnTo>
                    <a:lnTo>
                      <a:pt x="4120" y="1276"/>
                    </a:lnTo>
                    <a:lnTo>
                      <a:pt x="4142" y="1280"/>
                    </a:lnTo>
                    <a:lnTo>
                      <a:pt x="4172" y="1240"/>
                    </a:lnTo>
                    <a:lnTo>
                      <a:pt x="4224" y="1364"/>
                    </a:lnTo>
                    <a:lnTo>
                      <a:pt x="4256" y="1376"/>
                    </a:lnTo>
                    <a:lnTo>
                      <a:pt x="4284" y="1334"/>
                    </a:lnTo>
                    <a:lnTo>
                      <a:pt x="4252" y="1200"/>
                    </a:lnTo>
                    <a:lnTo>
                      <a:pt x="4252" y="1126"/>
                    </a:lnTo>
                    <a:lnTo>
                      <a:pt x="4306" y="1066"/>
                    </a:lnTo>
                    <a:lnTo>
                      <a:pt x="4298" y="994"/>
                    </a:lnTo>
                    <a:lnTo>
                      <a:pt x="4370" y="1014"/>
                    </a:lnTo>
                    <a:lnTo>
                      <a:pt x="4398" y="1062"/>
                    </a:lnTo>
                    <a:lnTo>
                      <a:pt x="4376" y="1128"/>
                    </a:lnTo>
                    <a:lnTo>
                      <a:pt x="4414" y="1186"/>
                    </a:lnTo>
                    <a:lnTo>
                      <a:pt x="4552" y="1194"/>
                    </a:lnTo>
                    <a:lnTo>
                      <a:pt x="4602" y="1156"/>
                    </a:lnTo>
                    <a:lnTo>
                      <a:pt x="4620" y="1168"/>
                    </a:lnTo>
                    <a:lnTo>
                      <a:pt x="4648" y="1188"/>
                    </a:lnTo>
                    <a:lnTo>
                      <a:pt x="4696" y="1192"/>
                    </a:lnTo>
                    <a:lnTo>
                      <a:pt x="4704" y="1218"/>
                    </a:lnTo>
                    <a:lnTo>
                      <a:pt x="4662" y="1286"/>
                    </a:lnTo>
                    <a:lnTo>
                      <a:pt x="4672" y="1322"/>
                    </a:lnTo>
                    <a:lnTo>
                      <a:pt x="4752" y="1406"/>
                    </a:lnTo>
                    <a:lnTo>
                      <a:pt x="4756" y="1446"/>
                    </a:lnTo>
                    <a:lnTo>
                      <a:pt x="4714" y="1446"/>
                    </a:lnTo>
                    <a:lnTo>
                      <a:pt x="4632" y="1388"/>
                    </a:lnTo>
                    <a:lnTo>
                      <a:pt x="4584" y="1394"/>
                    </a:lnTo>
                    <a:lnTo>
                      <a:pt x="4526" y="1438"/>
                    </a:lnTo>
                    <a:lnTo>
                      <a:pt x="4444" y="1582"/>
                    </a:lnTo>
                    <a:lnTo>
                      <a:pt x="4528" y="1616"/>
                    </a:lnTo>
                    <a:lnTo>
                      <a:pt x="4564" y="1682"/>
                    </a:lnTo>
                    <a:lnTo>
                      <a:pt x="4608" y="1718"/>
                    </a:lnTo>
                    <a:lnTo>
                      <a:pt x="4620" y="1782"/>
                    </a:lnTo>
                    <a:lnTo>
                      <a:pt x="4606" y="1826"/>
                    </a:lnTo>
                    <a:lnTo>
                      <a:pt x="4644" y="1904"/>
                    </a:lnTo>
                    <a:lnTo>
                      <a:pt x="4630" y="1936"/>
                    </a:lnTo>
                    <a:lnTo>
                      <a:pt x="4554" y="1826"/>
                    </a:lnTo>
                    <a:lnTo>
                      <a:pt x="4490" y="1852"/>
                    </a:lnTo>
                    <a:lnTo>
                      <a:pt x="4490" y="1878"/>
                    </a:lnTo>
                    <a:lnTo>
                      <a:pt x="4530" y="1926"/>
                    </a:lnTo>
                    <a:lnTo>
                      <a:pt x="4532" y="1940"/>
                    </a:lnTo>
                    <a:lnTo>
                      <a:pt x="4500" y="1946"/>
                    </a:lnTo>
                    <a:lnTo>
                      <a:pt x="4410" y="1904"/>
                    </a:lnTo>
                    <a:lnTo>
                      <a:pt x="4340" y="1828"/>
                    </a:lnTo>
                    <a:lnTo>
                      <a:pt x="4288" y="1840"/>
                    </a:lnTo>
                    <a:lnTo>
                      <a:pt x="4196" y="1804"/>
                    </a:lnTo>
                    <a:lnTo>
                      <a:pt x="4174" y="1756"/>
                    </a:lnTo>
                    <a:lnTo>
                      <a:pt x="4150" y="1742"/>
                    </a:lnTo>
                    <a:lnTo>
                      <a:pt x="4130" y="1772"/>
                    </a:lnTo>
                    <a:lnTo>
                      <a:pt x="4152" y="1818"/>
                    </a:lnTo>
                    <a:lnTo>
                      <a:pt x="4134" y="1840"/>
                    </a:lnTo>
                    <a:lnTo>
                      <a:pt x="4082" y="1814"/>
                    </a:lnTo>
                    <a:lnTo>
                      <a:pt x="4044" y="1824"/>
                    </a:lnTo>
                    <a:lnTo>
                      <a:pt x="3980" y="1786"/>
                    </a:lnTo>
                    <a:lnTo>
                      <a:pt x="3922" y="1772"/>
                    </a:lnTo>
                    <a:lnTo>
                      <a:pt x="3878" y="1724"/>
                    </a:lnTo>
                    <a:lnTo>
                      <a:pt x="3850" y="1720"/>
                    </a:lnTo>
                    <a:lnTo>
                      <a:pt x="3850" y="1764"/>
                    </a:lnTo>
                    <a:lnTo>
                      <a:pt x="3830" y="1764"/>
                    </a:lnTo>
                    <a:lnTo>
                      <a:pt x="3726" y="1754"/>
                    </a:lnTo>
                    <a:lnTo>
                      <a:pt x="3672" y="1688"/>
                    </a:lnTo>
                    <a:lnTo>
                      <a:pt x="3636" y="1670"/>
                    </a:lnTo>
                    <a:lnTo>
                      <a:pt x="3600" y="1696"/>
                    </a:lnTo>
                    <a:lnTo>
                      <a:pt x="3564" y="1676"/>
                    </a:lnTo>
                    <a:lnTo>
                      <a:pt x="3546" y="1764"/>
                    </a:lnTo>
                    <a:lnTo>
                      <a:pt x="3504" y="1806"/>
                    </a:lnTo>
                    <a:lnTo>
                      <a:pt x="3490" y="1880"/>
                    </a:lnTo>
                    <a:lnTo>
                      <a:pt x="3572" y="2080"/>
                    </a:lnTo>
                    <a:lnTo>
                      <a:pt x="3552" y="2120"/>
                    </a:lnTo>
                    <a:lnTo>
                      <a:pt x="3490" y="2060"/>
                    </a:lnTo>
                    <a:lnTo>
                      <a:pt x="3444" y="2068"/>
                    </a:lnTo>
                    <a:lnTo>
                      <a:pt x="3472" y="1972"/>
                    </a:lnTo>
                    <a:lnTo>
                      <a:pt x="3452" y="1936"/>
                    </a:lnTo>
                    <a:lnTo>
                      <a:pt x="3382" y="2028"/>
                    </a:lnTo>
                    <a:lnTo>
                      <a:pt x="3310" y="2016"/>
                    </a:lnTo>
                    <a:lnTo>
                      <a:pt x="3310" y="2028"/>
                    </a:lnTo>
                    <a:lnTo>
                      <a:pt x="3304" y="2050"/>
                    </a:lnTo>
                    <a:lnTo>
                      <a:pt x="3320" y="2074"/>
                    </a:lnTo>
                    <a:lnTo>
                      <a:pt x="3414" y="2082"/>
                    </a:lnTo>
                    <a:lnTo>
                      <a:pt x="3462" y="2104"/>
                    </a:lnTo>
                    <a:lnTo>
                      <a:pt x="3486" y="2158"/>
                    </a:lnTo>
                    <a:lnTo>
                      <a:pt x="3468" y="2224"/>
                    </a:lnTo>
                    <a:lnTo>
                      <a:pt x="3526" y="2320"/>
                    </a:lnTo>
                    <a:lnTo>
                      <a:pt x="3520" y="2372"/>
                    </a:lnTo>
                    <a:lnTo>
                      <a:pt x="3538" y="2400"/>
                    </a:lnTo>
                    <a:lnTo>
                      <a:pt x="3674" y="2388"/>
                    </a:lnTo>
                    <a:lnTo>
                      <a:pt x="3720" y="2516"/>
                    </a:lnTo>
                    <a:lnTo>
                      <a:pt x="3750" y="2530"/>
                    </a:lnTo>
                    <a:lnTo>
                      <a:pt x="3798" y="2494"/>
                    </a:lnTo>
                    <a:lnTo>
                      <a:pt x="3842" y="2494"/>
                    </a:lnTo>
                    <a:lnTo>
                      <a:pt x="3870" y="2544"/>
                    </a:lnTo>
                    <a:lnTo>
                      <a:pt x="3920" y="2578"/>
                    </a:lnTo>
                    <a:lnTo>
                      <a:pt x="3924" y="2602"/>
                    </a:lnTo>
                    <a:lnTo>
                      <a:pt x="3880" y="2696"/>
                    </a:lnTo>
                    <a:lnTo>
                      <a:pt x="3798" y="2744"/>
                    </a:lnTo>
                    <a:lnTo>
                      <a:pt x="3794" y="2748"/>
                    </a:lnTo>
                    <a:lnTo>
                      <a:pt x="3728" y="2700"/>
                    </a:lnTo>
                    <a:lnTo>
                      <a:pt x="3712" y="2700"/>
                    </a:lnTo>
                    <a:lnTo>
                      <a:pt x="3694" y="2798"/>
                    </a:lnTo>
                    <a:lnTo>
                      <a:pt x="3716" y="2848"/>
                    </a:lnTo>
                    <a:lnTo>
                      <a:pt x="3760" y="2842"/>
                    </a:lnTo>
                    <a:lnTo>
                      <a:pt x="3794" y="2804"/>
                    </a:lnTo>
                    <a:lnTo>
                      <a:pt x="3820" y="2818"/>
                    </a:lnTo>
                    <a:lnTo>
                      <a:pt x="3806" y="2890"/>
                    </a:lnTo>
                    <a:lnTo>
                      <a:pt x="3860" y="2930"/>
                    </a:lnTo>
                    <a:lnTo>
                      <a:pt x="3840" y="2950"/>
                    </a:lnTo>
                    <a:lnTo>
                      <a:pt x="3808" y="2954"/>
                    </a:lnTo>
                    <a:lnTo>
                      <a:pt x="3790" y="3018"/>
                    </a:lnTo>
                    <a:lnTo>
                      <a:pt x="3760" y="2992"/>
                    </a:lnTo>
                    <a:lnTo>
                      <a:pt x="3748" y="2954"/>
                    </a:lnTo>
                    <a:lnTo>
                      <a:pt x="3690" y="2922"/>
                    </a:lnTo>
                    <a:lnTo>
                      <a:pt x="3616" y="2942"/>
                    </a:lnTo>
                    <a:lnTo>
                      <a:pt x="3576" y="2880"/>
                    </a:lnTo>
                    <a:lnTo>
                      <a:pt x="3620" y="2806"/>
                    </a:lnTo>
                    <a:lnTo>
                      <a:pt x="3576" y="2754"/>
                    </a:lnTo>
                    <a:lnTo>
                      <a:pt x="3564" y="2680"/>
                    </a:lnTo>
                    <a:lnTo>
                      <a:pt x="3518" y="2596"/>
                    </a:lnTo>
                    <a:lnTo>
                      <a:pt x="3474" y="2512"/>
                    </a:lnTo>
                    <a:lnTo>
                      <a:pt x="3512" y="2458"/>
                    </a:lnTo>
                    <a:lnTo>
                      <a:pt x="3502" y="2436"/>
                    </a:lnTo>
                    <a:lnTo>
                      <a:pt x="3430" y="2426"/>
                    </a:lnTo>
                    <a:lnTo>
                      <a:pt x="3354" y="2350"/>
                    </a:lnTo>
                    <a:lnTo>
                      <a:pt x="3324" y="2350"/>
                    </a:lnTo>
                    <a:lnTo>
                      <a:pt x="3404" y="2444"/>
                    </a:lnTo>
                    <a:lnTo>
                      <a:pt x="3406" y="2474"/>
                    </a:lnTo>
                    <a:lnTo>
                      <a:pt x="3350" y="2548"/>
                    </a:lnTo>
                    <a:lnTo>
                      <a:pt x="3362" y="2602"/>
                    </a:lnTo>
                    <a:lnTo>
                      <a:pt x="3348" y="2656"/>
                    </a:lnTo>
                    <a:lnTo>
                      <a:pt x="3258" y="2770"/>
                    </a:lnTo>
                    <a:lnTo>
                      <a:pt x="3216" y="2744"/>
                    </a:lnTo>
                    <a:lnTo>
                      <a:pt x="3168" y="2682"/>
                    </a:lnTo>
                    <a:lnTo>
                      <a:pt x="3152" y="2638"/>
                    </a:lnTo>
                    <a:lnTo>
                      <a:pt x="3062" y="2594"/>
                    </a:lnTo>
                    <a:lnTo>
                      <a:pt x="3018" y="2544"/>
                    </a:lnTo>
                    <a:lnTo>
                      <a:pt x="3000" y="2514"/>
                    </a:lnTo>
                    <a:lnTo>
                      <a:pt x="2964" y="2450"/>
                    </a:lnTo>
                    <a:lnTo>
                      <a:pt x="2880" y="2378"/>
                    </a:lnTo>
                    <a:lnTo>
                      <a:pt x="2852" y="2372"/>
                    </a:lnTo>
                    <a:lnTo>
                      <a:pt x="2852" y="2404"/>
                    </a:lnTo>
                    <a:lnTo>
                      <a:pt x="2936" y="2488"/>
                    </a:lnTo>
                    <a:lnTo>
                      <a:pt x="2940" y="2542"/>
                    </a:lnTo>
                    <a:lnTo>
                      <a:pt x="2898" y="2528"/>
                    </a:lnTo>
                    <a:lnTo>
                      <a:pt x="2806" y="2448"/>
                    </a:lnTo>
                    <a:lnTo>
                      <a:pt x="2776" y="2452"/>
                    </a:lnTo>
                    <a:lnTo>
                      <a:pt x="2744" y="2502"/>
                    </a:lnTo>
                    <a:lnTo>
                      <a:pt x="2768" y="2612"/>
                    </a:lnTo>
                    <a:lnTo>
                      <a:pt x="2756" y="2618"/>
                    </a:lnTo>
                    <a:lnTo>
                      <a:pt x="2684" y="2582"/>
                    </a:lnTo>
                    <a:lnTo>
                      <a:pt x="2658" y="2670"/>
                    </a:lnTo>
                    <a:lnTo>
                      <a:pt x="2616" y="2678"/>
                    </a:lnTo>
                    <a:lnTo>
                      <a:pt x="2580" y="2712"/>
                    </a:lnTo>
                    <a:lnTo>
                      <a:pt x="2556" y="2708"/>
                    </a:lnTo>
                    <a:lnTo>
                      <a:pt x="2502" y="2578"/>
                    </a:lnTo>
                    <a:lnTo>
                      <a:pt x="2520" y="2534"/>
                    </a:lnTo>
                    <a:lnTo>
                      <a:pt x="2526" y="2524"/>
                    </a:lnTo>
                    <a:lnTo>
                      <a:pt x="2516" y="2490"/>
                    </a:lnTo>
                    <a:lnTo>
                      <a:pt x="2458" y="2472"/>
                    </a:lnTo>
                    <a:lnTo>
                      <a:pt x="2446" y="2454"/>
                    </a:lnTo>
                    <a:lnTo>
                      <a:pt x="2460" y="2414"/>
                    </a:lnTo>
                    <a:lnTo>
                      <a:pt x="2434" y="2378"/>
                    </a:lnTo>
                    <a:lnTo>
                      <a:pt x="2362" y="2332"/>
                    </a:lnTo>
                    <a:lnTo>
                      <a:pt x="2264" y="2346"/>
                    </a:lnTo>
                    <a:lnTo>
                      <a:pt x="2108" y="2224"/>
                    </a:lnTo>
                    <a:lnTo>
                      <a:pt x="2100" y="2188"/>
                    </a:lnTo>
                    <a:lnTo>
                      <a:pt x="2146" y="2090"/>
                    </a:lnTo>
                    <a:lnTo>
                      <a:pt x="2138" y="2074"/>
                    </a:lnTo>
                    <a:lnTo>
                      <a:pt x="2120" y="2076"/>
                    </a:lnTo>
                    <a:lnTo>
                      <a:pt x="2024" y="2196"/>
                    </a:lnTo>
                    <a:lnTo>
                      <a:pt x="2000" y="2154"/>
                    </a:lnTo>
                    <a:lnTo>
                      <a:pt x="2014" y="2120"/>
                    </a:lnTo>
                    <a:lnTo>
                      <a:pt x="1990" y="2076"/>
                    </a:lnTo>
                    <a:lnTo>
                      <a:pt x="1992" y="2010"/>
                    </a:lnTo>
                    <a:lnTo>
                      <a:pt x="1964" y="1974"/>
                    </a:lnTo>
                    <a:lnTo>
                      <a:pt x="1928" y="1966"/>
                    </a:lnTo>
                    <a:lnTo>
                      <a:pt x="1872" y="1988"/>
                    </a:lnTo>
                    <a:lnTo>
                      <a:pt x="1820" y="2006"/>
                    </a:lnTo>
                    <a:lnTo>
                      <a:pt x="1674" y="2024"/>
                    </a:lnTo>
                    <a:lnTo>
                      <a:pt x="1580" y="2054"/>
                    </a:lnTo>
                    <a:lnTo>
                      <a:pt x="1480" y="2054"/>
                    </a:lnTo>
                    <a:lnTo>
                      <a:pt x="1422" y="2084"/>
                    </a:lnTo>
                    <a:lnTo>
                      <a:pt x="1336" y="2096"/>
                    </a:lnTo>
                    <a:lnTo>
                      <a:pt x="1258" y="2138"/>
                    </a:lnTo>
                    <a:lnTo>
                      <a:pt x="1126" y="2140"/>
                    </a:lnTo>
                    <a:lnTo>
                      <a:pt x="1086" y="2122"/>
                    </a:lnTo>
                    <a:lnTo>
                      <a:pt x="1074" y="2086"/>
                    </a:lnTo>
                    <a:lnTo>
                      <a:pt x="1000" y="2096"/>
                    </a:lnTo>
                    <a:lnTo>
                      <a:pt x="974" y="2062"/>
                    </a:lnTo>
                    <a:lnTo>
                      <a:pt x="952" y="2070"/>
                    </a:lnTo>
                    <a:lnTo>
                      <a:pt x="894" y="2010"/>
                    </a:lnTo>
                    <a:lnTo>
                      <a:pt x="870" y="1988"/>
                    </a:lnTo>
                    <a:lnTo>
                      <a:pt x="878" y="1960"/>
                    </a:lnTo>
                    <a:lnTo>
                      <a:pt x="866" y="1944"/>
                    </a:lnTo>
                    <a:lnTo>
                      <a:pt x="774" y="1932"/>
                    </a:lnTo>
                    <a:lnTo>
                      <a:pt x="726" y="1908"/>
                    </a:lnTo>
                    <a:lnTo>
                      <a:pt x="710" y="1812"/>
                    </a:lnTo>
                    <a:lnTo>
                      <a:pt x="676" y="1786"/>
                    </a:lnTo>
                    <a:lnTo>
                      <a:pt x="644" y="1782"/>
                    </a:lnTo>
                    <a:lnTo>
                      <a:pt x="600" y="1812"/>
                    </a:lnTo>
                    <a:lnTo>
                      <a:pt x="584" y="1908"/>
                    </a:lnTo>
                    <a:lnTo>
                      <a:pt x="416" y="2034"/>
                    </a:lnTo>
                    <a:lnTo>
                      <a:pt x="394" y="2034"/>
                    </a:lnTo>
                    <a:lnTo>
                      <a:pt x="312" y="2000"/>
                    </a:lnTo>
                    <a:lnTo>
                      <a:pt x="250" y="1992"/>
                    </a:lnTo>
                    <a:lnTo>
                      <a:pt x="176" y="1934"/>
                    </a:lnTo>
                    <a:lnTo>
                      <a:pt x="150" y="1902"/>
                    </a:lnTo>
                    <a:lnTo>
                      <a:pt x="186" y="1884"/>
                    </a:lnTo>
                    <a:lnTo>
                      <a:pt x="192" y="1866"/>
                    </a:lnTo>
                    <a:lnTo>
                      <a:pt x="186" y="1838"/>
                    </a:lnTo>
                    <a:lnTo>
                      <a:pt x="182" y="1822"/>
                    </a:lnTo>
                    <a:lnTo>
                      <a:pt x="122" y="1742"/>
                    </a:lnTo>
                    <a:lnTo>
                      <a:pt x="118" y="1692"/>
                    </a:lnTo>
                    <a:lnTo>
                      <a:pt x="92" y="1664"/>
                    </a:lnTo>
                    <a:lnTo>
                      <a:pt x="0" y="1638"/>
                    </a:lnTo>
                    <a:close/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5440" y="223920"/>
                <a:ext cx="7550280" cy="4790880"/>
              </a:xfrm>
              <a:custGeom>
                <a:avLst/>
                <a:gdLst/>
                <a:ahLst/>
                <a:rect l="l" t="t" r="r" b="b"/>
                <a:pathLst>
                  <a:path w="4756" h="3018">
                    <a:moveTo>
                      <a:pt x="0" y="1638"/>
                    </a:moveTo>
                    <a:lnTo>
                      <a:pt x="6" y="1620"/>
                    </a:lnTo>
                    <a:lnTo>
                      <a:pt x="152" y="1508"/>
                    </a:lnTo>
                    <a:lnTo>
                      <a:pt x="300" y="1482"/>
                    </a:lnTo>
                    <a:lnTo>
                      <a:pt x="330" y="1456"/>
                    </a:lnTo>
                    <a:lnTo>
                      <a:pt x="292" y="1428"/>
                    </a:lnTo>
                    <a:lnTo>
                      <a:pt x="392" y="1378"/>
                    </a:lnTo>
                    <a:lnTo>
                      <a:pt x="416" y="1302"/>
                    </a:lnTo>
                    <a:lnTo>
                      <a:pt x="526" y="1212"/>
                    </a:lnTo>
                    <a:lnTo>
                      <a:pt x="636" y="1168"/>
                    </a:lnTo>
                    <a:lnTo>
                      <a:pt x="682" y="1128"/>
                    </a:lnTo>
                    <a:lnTo>
                      <a:pt x="692" y="1104"/>
                    </a:lnTo>
                    <a:lnTo>
                      <a:pt x="716" y="1044"/>
                    </a:lnTo>
                    <a:lnTo>
                      <a:pt x="766" y="970"/>
                    </a:lnTo>
                    <a:lnTo>
                      <a:pt x="844" y="912"/>
                    </a:lnTo>
                    <a:lnTo>
                      <a:pt x="850" y="848"/>
                    </a:lnTo>
                    <a:lnTo>
                      <a:pt x="912" y="868"/>
                    </a:lnTo>
                    <a:lnTo>
                      <a:pt x="922" y="934"/>
                    </a:lnTo>
                    <a:lnTo>
                      <a:pt x="944" y="924"/>
                    </a:lnTo>
                    <a:lnTo>
                      <a:pt x="976" y="868"/>
                    </a:lnTo>
                    <a:lnTo>
                      <a:pt x="992" y="864"/>
                    </a:lnTo>
                    <a:lnTo>
                      <a:pt x="1002" y="960"/>
                    </a:lnTo>
                    <a:lnTo>
                      <a:pt x="1096" y="954"/>
                    </a:lnTo>
                    <a:lnTo>
                      <a:pt x="1114" y="1070"/>
                    </a:lnTo>
                    <a:lnTo>
                      <a:pt x="1160" y="1124"/>
                    </a:lnTo>
                    <a:lnTo>
                      <a:pt x="1112" y="1180"/>
                    </a:lnTo>
                    <a:lnTo>
                      <a:pt x="1126" y="1186"/>
                    </a:lnTo>
                    <a:lnTo>
                      <a:pt x="1216" y="1150"/>
                    </a:lnTo>
                    <a:lnTo>
                      <a:pt x="1292" y="1150"/>
                    </a:lnTo>
                    <a:lnTo>
                      <a:pt x="1302" y="1138"/>
                    </a:lnTo>
                    <a:lnTo>
                      <a:pt x="1292" y="1118"/>
                    </a:lnTo>
                    <a:lnTo>
                      <a:pt x="1206" y="1106"/>
                    </a:lnTo>
                    <a:lnTo>
                      <a:pt x="1176" y="1080"/>
                    </a:lnTo>
                    <a:lnTo>
                      <a:pt x="1158" y="1038"/>
                    </a:lnTo>
                    <a:lnTo>
                      <a:pt x="1148" y="1014"/>
                    </a:lnTo>
                    <a:lnTo>
                      <a:pt x="1138" y="962"/>
                    </a:lnTo>
                    <a:lnTo>
                      <a:pt x="1150" y="932"/>
                    </a:lnTo>
                    <a:lnTo>
                      <a:pt x="1198" y="926"/>
                    </a:lnTo>
                    <a:lnTo>
                      <a:pt x="1156" y="854"/>
                    </a:lnTo>
                    <a:lnTo>
                      <a:pt x="1150" y="802"/>
                    </a:lnTo>
                    <a:lnTo>
                      <a:pt x="1176" y="744"/>
                    </a:lnTo>
                    <a:lnTo>
                      <a:pt x="1266" y="732"/>
                    </a:lnTo>
                    <a:lnTo>
                      <a:pt x="1256" y="672"/>
                    </a:lnTo>
                    <a:lnTo>
                      <a:pt x="1342" y="660"/>
                    </a:lnTo>
                    <a:lnTo>
                      <a:pt x="1370" y="628"/>
                    </a:lnTo>
                    <a:lnTo>
                      <a:pt x="1282" y="612"/>
                    </a:lnTo>
                    <a:lnTo>
                      <a:pt x="1252" y="590"/>
                    </a:lnTo>
                    <a:lnTo>
                      <a:pt x="1252" y="582"/>
                    </a:lnTo>
                    <a:lnTo>
                      <a:pt x="1548" y="302"/>
                    </a:lnTo>
                    <a:lnTo>
                      <a:pt x="2378" y="0"/>
                    </a:lnTo>
                    <a:lnTo>
                      <a:pt x="3112" y="10"/>
                    </a:lnTo>
                    <a:lnTo>
                      <a:pt x="3094" y="34"/>
                    </a:lnTo>
                    <a:lnTo>
                      <a:pt x="3030" y="164"/>
                    </a:lnTo>
                    <a:lnTo>
                      <a:pt x="2992" y="206"/>
                    </a:lnTo>
                    <a:lnTo>
                      <a:pt x="2872" y="284"/>
                    </a:lnTo>
                    <a:lnTo>
                      <a:pt x="2852" y="310"/>
                    </a:lnTo>
                    <a:lnTo>
                      <a:pt x="2864" y="328"/>
                    </a:lnTo>
                    <a:lnTo>
                      <a:pt x="2944" y="304"/>
                    </a:lnTo>
                    <a:lnTo>
                      <a:pt x="3020" y="324"/>
                    </a:lnTo>
                    <a:lnTo>
                      <a:pt x="3046" y="302"/>
                    </a:lnTo>
                    <a:lnTo>
                      <a:pt x="3076" y="300"/>
                    </a:lnTo>
                    <a:lnTo>
                      <a:pt x="3144" y="152"/>
                    </a:lnTo>
                    <a:lnTo>
                      <a:pt x="3220" y="166"/>
                    </a:lnTo>
                    <a:lnTo>
                      <a:pt x="3284" y="138"/>
                    </a:lnTo>
                    <a:lnTo>
                      <a:pt x="3290" y="134"/>
                    </a:lnTo>
                    <a:lnTo>
                      <a:pt x="3312" y="138"/>
                    </a:lnTo>
                    <a:lnTo>
                      <a:pt x="3318" y="160"/>
                    </a:lnTo>
                    <a:lnTo>
                      <a:pt x="3302" y="188"/>
                    </a:lnTo>
                    <a:lnTo>
                      <a:pt x="3324" y="222"/>
                    </a:lnTo>
                    <a:lnTo>
                      <a:pt x="3396" y="246"/>
                    </a:lnTo>
                    <a:lnTo>
                      <a:pt x="3416" y="278"/>
                    </a:lnTo>
                    <a:lnTo>
                      <a:pt x="3358" y="316"/>
                    </a:lnTo>
                    <a:lnTo>
                      <a:pt x="3346" y="366"/>
                    </a:lnTo>
                    <a:lnTo>
                      <a:pt x="3390" y="378"/>
                    </a:lnTo>
                    <a:lnTo>
                      <a:pt x="3454" y="362"/>
                    </a:lnTo>
                    <a:lnTo>
                      <a:pt x="3486" y="318"/>
                    </a:lnTo>
                    <a:lnTo>
                      <a:pt x="3512" y="326"/>
                    </a:lnTo>
                    <a:lnTo>
                      <a:pt x="3582" y="392"/>
                    </a:lnTo>
                    <a:lnTo>
                      <a:pt x="3520" y="470"/>
                    </a:lnTo>
                    <a:lnTo>
                      <a:pt x="3456" y="460"/>
                    </a:lnTo>
                    <a:lnTo>
                      <a:pt x="3448" y="484"/>
                    </a:lnTo>
                    <a:lnTo>
                      <a:pt x="3472" y="518"/>
                    </a:lnTo>
                    <a:lnTo>
                      <a:pt x="3576" y="520"/>
                    </a:lnTo>
                    <a:lnTo>
                      <a:pt x="3640" y="546"/>
                    </a:lnTo>
                    <a:lnTo>
                      <a:pt x="3684" y="586"/>
                    </a:lnTo>
                    <a:lnTo>
                      <a:pt x="3760" y="606"/>
                    </a:lnTo>
                    <a:lnTo>
                      <a:pt x="3838" y="574"/>
                    </a:lnTo>
                    <a:lnTo>
                      <a:pt x="4052" y="490"/>
                    </a:lnTo>
                    <a:lnTo>
                      <a:pt x="4068" y="514"/>
                    </a:lnTo>
                    <a:lnTo>
                      <a:pt x="3966" y="596"/>
                    </a:lnTo>
                    <a:lnTo>
                      <a:pt x="3882" y="704"/>
                    </a:lnTo>
                    <a:lnTo>
                      <a:pt x="3822" y="702"/>
                    </a:lnTo>
                    <a:lnTo>
                      <a:pt x="3756" y="802"/>
                    </a:lnTo>
                    <a:lnTo>
                      <a:pt x="3714" y="834"/>
                    </a:lnTo>
                    <a:lnTo>
                      <a:pt x="3484" y="904"/>
                    </a:lnTo>
                    <a:lnTo>
                      <a:pt x="3468" y="948"/>
                    </a:lnTo>
                    <a:lnTo>
                      <a:pt x="3364" y="1024"/>
                    </a:lnTo>
                    <a:lnTo>
                      <a:pt x="3326" y="944"/>
                    </a:lnTo>
                    <a:lnTo>
                      <a:pt x="3334" y="936"/>
                    </a:lnTo>
                    <a:lnTo>
                      <a:pt x="3414" y="862"/>
                    </a:lnTo>
                    <a:lnTo>
                      <a:pt x="3520" y="846"/>
                    </a:lnTo>
                    <a:lnTo>
                      <a:pt x="3556" y="820"/>
                    </a:lnTo>
                    <a:lnTo>
                      <a:pt x="3588" y="782"/>
                    </a:lnTo>
                    <a:lnTo>
                      <a:pt x="3554" y="766"/>
                    </a:lnTo>
                    <a:lnTo>
                      <a:pt x="3552" y="710"/>
                    </a:lnTo>
                    <a:lnTo>
                      <a:pt x="3522" y="702"/>
                    </a:lnTo>
                    <a:lnTo>
                      <a:pt x="3366" y="774"/>
                    </a:lnTo>
                    <a:lnTo>
                      <a:pt x="3296" y="776"/>
                    </a:lnTo>
                    <a:lnTo>
                      <a:pt x="3202" y="726"/>
                    </a:lnTo>
                    <a:lnTo>
                      <a:pt x="3180" y="734"/>
                    </a:lnTo>
                    <a:lnTo>
                      <a:pt x="3192" y="780"/>
                    </a:lnTo>
                    <a:lnTo>
                      <a:pt x="3138" y="862"/>
                    </a:lnTo>
                    <a:lnTo>
                      <a:pt x="3112" y="928"/>
                    </a:lnTo>
                    <a:lnTo>
                      <a:pt x="3040" y="926"/>
                    </a:lnTo>
                    <a:lnTo>
                      <a:pt x="2966" y="950"/>
                    </a:lnTo>
                    <a:lnTo>
                      <a:pt x="2862" y="950"/>
                    </a:lnTo>
                    <a:lnTo>
                      <a:pt x="2862" y="1012"/>
                    </a:lnTo>
                    <a:lnTo>
                      <a:pt x="2898" y="1036"/>
                    </a:lnTo>
                    <a:lnTo>
                      <a:pt x="2948" y="1042"/>
                    </a:lnTo>
                    <a:lnTo>
                      <a:pt x="2958" y="1066"/>
                    </a:lnTo>
                    <a:lnTo>
                      <a:pt x="2936" y="1098"/>
                    </a:lnTo>
                    <a:lnTo>
                      <a:pt x="2972" y="1126"/>
                    </a:lnTo>
                    <a:lnTo>
                      <a:pt x="2920" y="1160"/>
                    </a:lnTo>
                    <a:lnTo>
                      <a:pt x="2900" y="1160"/>
                    </a:lnTo>
                    <a:lnTo>
                      <a:pt x="2900" y="1106"/>
                    </a:lnTo>
                    <a:lnTo>
                      <a:pt x="2804" y="1058"/>
                    </a:lnTo>
                    <a:lnTo>
                      <a:pt x="2736" y="1072"/>
                    </a:lnTo>
                    <a:lnTo>
                      <a:pt x="2682" y="1030"/>
                    </a:lnTo>
                    <a:lnTo>
                      <a:pt x="2646" y="1030"/>
                    </a:lnTo>
                    <a:lnTo>
                      <a:pt x="2584" y="1070"/>
                    </a:lnTo>
                    <a:lnTo>
                      <a:pt x="2448" y="1102"/>
                    </a:lnTo>
                    <a:lnTo>
                      <a:pt x="2438" y="1130"/>
                    </a:lnTo>
                    <a:lnTo>
                      <a:pt x="2568" y="1188"/>
                    </a:lnTo>
                    <a:lnTo>
                      <a:pt x="2592" y="1218"/>
                    </a:lnTo>
                    <a:lnTo>
                      <a:pt x="2660" y="1224"/>
                    </a:lnTo>
                    <a:lnTo>
                      <a:pt x="2752" y="1266"/>
                    </a:lnTo>
                    <a:lnTo>
                      <a:pt x="2760" y="1268"/>
                    </a:lnTo>
                    <a:lnTo>
                      <a:pt x="2800" y="1344"/>
                    </a:lnTo>
                    <a:lnTo>
                      <a:pt x="2920" y="1398"/>
                    </a:lnTo>
                    <a:lnTo>
                      <a:pt x="2902" y="1498"/>
                    </a:lnTo>
                    <a:lnTo>
                      <a:pt x="2920" y="1544"/>
                    </a:lnTo>
                    <a:lnTo>
                      <a:pt x="2904" y="1594"/>
                    </a:lnTo>
                    <a:lnTo>
                      <a:pt x="2726" y="1818"/>
                    </a:lnTo>
                    <a:lnTo>
                      <a:pt x="2740" y="1862"/>
                    </a:lnTo>
                    <a:lnTo>
                      <a:pt x="2764" y="1850"/>
                    </a:lnTo>
                    <a:lnTo>
                      <a:pt x="2788" y="1808"/>
                    </a:lnTo>
                    <a:lnTo>
                      <a:pt x="2828" y="1814"/>
                    </a:lnTo>
                    <a:lnTo>
                      <a:pt x="2908" y="1760"/>
                    </a:lnTo>
                    <a:lnTo>
                      <a:pt x="2916" y="1674"/>
                    </a:lnTo>
                    <a:lnTo>
                      <a:pt x="3022" y="1558"/>
                    </a:lnTo>
                    <a:lnTo>
                      <a:pt x="3046" y="1508"/>
                    </a:lnTo>
                    <a:lnTo>
                      <a:pt x="3086" y="1428"/>
                    </a:lnTo>
                    <a:lnTo>
                      <a:pt x="3156" y="1338"/>
                    </a:lnTo>
                    <a:lnTo>
                      <a:pt x="3172" y="1250"/>
                    </a:lnTo>
                    <a:lnTo>
                      <a:pt x="3210" y="1240"/>
                    </a:lnTo>
                    <a:lnTo>
                      <a:pt x="3262" y="1320"/>
                    </a:lnTo>
                    <a:lnTo>
                      <a:pt x="3452" y="1292"/>
                    </a:lnTo>
                    <a:lnTo>
                      <a:pt x="3472" y="1324"/>
                    </a:lnTo>
                    <a:lnTo>
                      <a:pt x="3460" y="1346"/>
                    </a:lnTo>
                    <a:lnTo>
                      <a:pt x="3422" y="1370"/>
                    </a:lnTo>
                    <a:lnTo>
                      <a:pt x="3496" y="1478"/>
                    </a:lnTo>
                    <a:lnTo>
                      <a:pt x="3520" y="1482"/>
                    </a:lnTo>
                    <a:lnTo>
                      <a:pt x="3580" y="1396"/>
                    </a:lnTo>
                    <a:lnTo>
                      <a:pt x="3628" y="1364"/>
                    </a:lnTo>
                    <a:lnTo>
                      <a:pt x="3626" y="1334"/>
                    </a:lnTo>
                    <a:lnTo>
                      <a:pt x="3576" y="1276"/>
                    </a:lnTo>
                    <a:lnTo>
                      <a:pt x="3568" y="1184"/>
                    </a:lnTo>
                    <a:lnTo>
                      <a:pt x="3540" y="1172"/>
                    </a:lnTo>
                    <a:lnTo>
                      <a:pt x="3524" y="1166"/>
                    </a:lnTo>
                    <a:lnTo>
                      <a:pt x="3520" y="1150"/>
                    </a:lnTo>
                    <a:lnTo>
                      <a:pt x="3584" y="1092"/>
                    </a:lnTo>
                    <a:lnTo>
                      <a:pt x="3654" y="1102"/>
                    </a:lnTo>
                    <a:lnTo>
                      <a:pt x="3650" y="1020"/>
                    </a:lnTo>
                    <a:lnTo>
                      <a:pt x="3690" y="1054"/>
                    </a:lnTo>
                    <a:lnTo>
                      <a:pt x="3732" y="1042"/>
                    </a:lnTo>
                    <a:lnTo>
                      <a:pt x="3766" y="1054"/>
                    </a:lnTo>
                    <a:lnTo>
                      <a:pt x="3766" y="940"/>
                    </a:lnTo>
                    <a:lnTo>
                      <a:pt x="3876" y="864"/>
                    </a:lnTo>
                    <a:lnTo>
                      <a:pt x="3920" y="788"/>
                    </a:lnTo>
                    <a:lnTo>
                      <a:pt x="3950" y="800"/>
                    </a:lnTo>
                    <a:lnTo>
                      <a:pt x="3962" y="872"/>
                    </a:lnTo>
                    <a:lnTo>
                      <a:pt x="4032" y="866"/>
                    </a:lnTo>
                    <a:lnTo>
                      <a:pt x="4040" y="894"/>
                    </a:lnTo>
                    <a:lnTo>
                      <a:pt x="4022" y="936"/>
                    </a:lnTo>
                    <a:lnTo>
                      <a:pt x="4092" y="990"/>
                    </a:lnTo>
                    <a:lnTo>
                      <a:pt x="4138" y="1144"/>
                    </a:lnTo>
                    <a:lnTo>
                      <a:pt x="4136" y="1170"/>
                    </a:lnTo>
                    <a:lnTo>
                      <a:pt x="4130" y="1178"/>
                    </a:lnTo>
                    <a:lnTo>
                      <a:pt x="4096" y="1212"/>
                    </a:lnTo>
                    <a:lnTo>
                      <a:pt x="4096" y="1242"/>
                    </a:lnTo>
                    <a:lnTo>
                      <a:pt x="4120" y="1276"/>
                    </a:lnTo>
                    <a:lnTo>
                      <a:pt x="4142" y="1280"/>
                    </a:lnTo>
                    <a:lnTo>
                      <a:pt x="4172" y="1240"/>
                    </a:lnTo>
                    <a:lnTo>
                      <a:pt x="4224" y="1364"/>
                    </a:lnTo>
                    <a:lnTo>
                      <a:pt x="4256" y="1376"/>
                    </a:lnTo>
                    <a:lnTo>
                      <a:pt x="4284" y="1334"/>
                    </a:lnTo>
                    <a:lnTo>
                      <a:pt x="4252" y="1200"/>
                    </a:lnTo>
                    <a:lnTo>
                      <a:pt x="4252" y="1126"/>
                    </a:lnTo>
                    <a:lnTo>
                      <a:pt x="4306" y="1066"/>
                    </a:lnTo>
                    <a:lnTo>
                      <a:pt x="4298" y="994"/>
                    </a:lnTo>
                    <a:lnTo>
                      <a:pt x="4370" y="1014"/>
                    </a:lnTo>
                    <a:lnTo>
                      <a:pt x="4398" y="1062"/>
                    </a:lnTo>
                    <a:lnTo>
                      <a:pt x="4376" y="1128"/>
                    </a:lnTo>
                    <a:lnTo>
                      <a:pt x="4414" y="1186"/>
                    </a:lnTo>
                    <a:lnTo>
                      <a:pt x="4552" y="1194"/>
                    </a:lnTo>
                    <a:lnTo>
                      <a:pt x="4602" y="1156"/>
                    </a:lnTo>
                    <a:lnTo>
                      <a:pt x="4620" y="1168"/>
                    </a:lnTo>
                    <a:lnTo>
                      <a:pt x="4648" y="1188"/>
                    </a:lnTo>
                    <a:lnTo>
                      <a:pt x="4696" y="1192"/>
                    </a:lnTo>
                    <a:lnTo>
                      <a:pt x="4704" y="1218"/>
                    </a:lnTo>
                    <a:lnTo>
                      <a:pt x="4662" y="1286"/>
                    </a:lnTo>
                    <a:lnTo>
                      <a:pt x="4672" y="1322"/>
                    </a:lnTo>
                    <a:lnTo>
                      <a:pt x="4752" y="1406"/>
                    </a:lnTo>
                    <a:lnTo>
                      <a:pt x="4756" y="1446"/>
                    </a:lnTo>
                    <a:lnTo>
                      <a:pt x="4714" y="1446"/>
                    </a:lnTo>
                    <a:lnTo>
                      <a:pt x="4632" y="1388"/>
                    </a:lnTo>
                    <a:lnTo>
                      <a:pt x="4584" y="1394"/>
                    </a:lnTo>
                    <a:lnTo>
                      <a:pt x="4526" y="1438"/>
                    </a:lnTo>
                    <a:lnTo>
                      <a:pt x="4444" y="1582"/>
                    </a:lnTo>
                    <a:lnTo>
                      <a:pt x="4528" y="1616"/>
                    </a:lnTo>
                    <a:lnTo>
                      <a:pt x="4564" y="1682"/>
                    </a:lnTo>
                    <a:lnTo>
                      <a:pt x="4608" y="1718"/>
                    </a:lnTo>
                    <a:lnTo>
                      <a:pt x="4620" y="1782"/>
                    </a:lnTo>
                    <a:lnTo>
                      <a:pt x="4606" y="1826"/>
                    </a:lnTo>
                    <a:lnTo>
                      <a:pt x="4644" y="1904"/>
                    </a:lnTo>
                    <a:lnTo>
                      <a:pt x="4630" y="1936"/>
                    </a:lnTo>
                    <a:lnTo>
                      <a:pt x="4554" y="1826"/>
                    </a:lnTo>
                    <a:lnTo>
                      <a:pt x="4490" y="1852"/>
                    </a:lnTo>
                    <a:lnTo>
                      <a:pt x="4490" y="1878"/>
                    </a:lnTo>
                    <a:lnTo>
                      <a:pt x="4530" y="1926"/>
                    </a:lnTo>
                    <a:lnTo>
                      <a:pt x="4532" y="1940"/>
                    </a:lnTo>
                    <a:lnTo>
                      <a:pt x="4500" y="1946"/>
                    </a:lnTo>
                    <a:lnTo>
                      <a:pt x="4410" y="1904"/>
                    </a:lnTo>
                    <a:lnTo>
                      <a:pt x="4340" y="1828"/>
                    </a:lnTo>
                    <a:lnTo>
                      <a:pt x="4288" y="1840"/>
                    </a:lnTo>
                    <a:lnTo>
                      <a:pt x="4196" y="1804"/>
                    </a:lnTo>
                    <a:lnTo>
                      <a:pt x="4174" y="1756"/>
                    </a:lnTo>
                    <a:lnTo>
                      <a:pt x="4150" y="1742"/>
                    </a:lnTo>
                    <a:lnTo>
                      <a:pt x="4130" y="1772"/>
                    </a:lnTo>
                    <a:lnTo>
                      <a:pt x="4152" y="1818"/>
                    </a:lnTo>
                    <a:lnTo>
                      <a:pt x="4134" y="1840"/>
                    </a:lnTo>
                    <a:lnTo>
                      <a:pt x="4082" y="1814"/>
                    </a:lnTo>
                    <a:lnTo>
                      <a:pt x="4044" y="1824"/>
                    </a:lnTo>
                    <a:lnTo>
                      <a:pt x="3980" y="1786"/>
                    </a:lnTo>
                    <a:lnTo>
                      <a:pt x="3922" y="1772"/>
                    </a:lnTo>
                    <a:lnTo>
                      <a:pt x="3878" y="1724"/>
                    </a:lnTo>
                    <a:lnTo>
                      <a:pt x="3850" y="1720"/>
                    </a:lnTo>
                    <a:lnTo>
                      <a:pt x="3850" y="1764"/>
                    </a:lnTo>
                    <a:lnTo>
                      <a:pt x="3830" y="1764"/>
                    </a:lnTo>
                    <a:lnTo>
                      <a:pt x="3726" y="1754"/>
                    </a:lnTo>
                    <a:lnTo>
                      <a:pt x="3672" y="1688"/>
                    </a:lnTo>
                    <a:lnTo>
                      <a:pt x="3636" y="1670"/>
                    </a:lnTo>
                    <a:lnTo>
                      <a:pt x="3600" y="1696"/>
                    </a:lnTo>
                    <a:lnTo>
                      <a:pt x="3564" y="1676"/>
                    </a:lnTo>
                    <a:lnTo>
                      <a:pt x="3546" y="1764"/>
                    </a:lnTo>
                    <a:lnTo>
                      <a:pt x="3504" y="1806"/>
                    </a:lnTo>
                    <a:lnTo>
                      <a:pt x="3490" y="1880"/>
                    </a:lnTo>
                    <a:lnTo>
                      <a:pt x="3572" y="2080"/>
                    </a:lnTo>
                    <a:lnTo>
                      <a:pt x="3552" y="2120"/>
                    </a:lnTo>
                    <a:lnTo>
                      <a:pt x="3490" y="2060"/>
                    </a:lnTo>
                    <a:lnTo>
                      <a:pt x="3444" y="2068"/>
                    </a:lnTo>
                    <a:lnTo>
                      <a:pt x="3472" y="1972"/>
                    </a:lnTo>
                    <a:lnTo>
                      <a:pt x="3452" y="1936"/>
                    </a:lnTo>
                    <a:lnTo>
                      <a:pt x="3382" y="2028"/>
                    </a:lnTo>
                    <a:lnTo>
                      <a:pt x="3310" y="2016"/>
                    </a:lnTo>
                    <a:lnTo>
                      <a:pt x="3310" y="2028"/>
                    </a:lnTo>
                    <a:lnTo>
                      <a:pt x="3304" y="2050"/>
                    </a:lnTo>
                    <a:lnTo>
                      <a:pt x="3320" y="2074"/>
                    </a:lnTo>
                    <a:lnTo>
                      <a:pt x="3414" y="2082"/>
                    </a:lnTo>
                    <a:lnTo>
                      <a:pt x="3462" y="2104"/>
                    </a:lnTo>
                    <a:lnTo>
                      <a:pt x="3486" y="2158"/>
                    </a:lnTo>
                    <a:lnTo>
                      <a:pt x="3468" y="2224"/>
                    </a:lnTo>
                    <a:lnTo>
                      <a:pt x="3526" y="2320"/>
                    </a:lnTo>
                    <a:lnTo>
                      <a:pt x="3520" y="2372"/>
                    </a:lnTo>
                    <a:lnTo>
                      <a:pt x="3538" y="2400"/>
                    </a:lnTo>
                    <a:lnTo>
                      <a:pt x="3674" y="2388"/>
                    </a:lnTo>
                    <a:lnTo>
                      <a:pt x="3720" y="2516"/>
                    </a:lnTo>
                    <a:lnTo>
                      <a:pt x="3750" y="2530"/>
                    </a:lnTo>
                    <a:lnTo>
                      <a:pt x="3798" y="2494"/>
                    </a:lnTo>
                    <a:lnTo>
                      <a:pt x="3842" y="2494"/>
                    </a:lnTo>
                    <a:lnTo>
                      <a:pt x="3870" y="2544"/>
                    </a:lnTo>
                    <a:lnTo>
                      <a:pt x="3920" y="2578"/>
                    </a:lnTo>
                    <a:lnTo>
                      <a:pt x="3924" y="2602"/>
                    </a:lnTo>
                    <a:lnTo>
                      <a:pt x="3880" y="2696"/>
                    </a:lnTo>
                    <a:lnTo>
                      <a:pt x="3798" y="2744"/>
                    </a:lnTo>
                    <a:lnTo>
                      <a:pt x="3794" y="2748"/>
                    </a:lnTo>
                    <a:lnTo>
                      <a:pt x="3728" y="2700"/>
                    </a:lnTo>
                    <a:lnTo>
                      <a:pt x="3712" y="2700"/>
                    </a:lnTo>
                    <a:lnTo>
                      <a:pt x="3694" y="2798"/>
                    </a:lnTo>
                    <a:lnTo>
                      <a:pt x="3716" y="2848"/>
                    </a:lnTo>
                    <a:lnTo>
                      <a:pt x="3760" y="2842"/>
                    </a:lnTo>
                    <a:lnTo>
                      <a:pt x="3794" y="2804"/>
                    </a:lnTo>
                    <a:lnTo>
                      <a:pt x="3820" y="2818"/>
                    </a:lnTo>
                    <a:lnTo>
                      <a:pt x="3806" y="2890"/>
                    </a:lnTo>
                    <a:lnTo>
                      <a:pt x="3860" y="2930"/>
                    </a:lnTo>
                    <a:lnTo>
                      <a:pt x="3840" y="2950"/>
                    </a:lnTo>
                    <a:lnTo>
                      <a:pt x="3808" y="2954"/>
                    </a:lnTo>
                    <a:lnTo>
                      <a:pt x="3790" y="3018"/>
                    </a:lnTo>
                    <a:lnTo>
                      <a:pt x="3760" y="2992"/>
                    </a:lnTo>
                    <a:lnTo>
                      <a:pt x="3748" y="2954"/>
                    </a:lnTo>
                    <a:lnTo>
                      <a:pt x="3690" y="2922"/>
                    </a:lnTo>
                    <a:lnTo>
                      <a:pt x="3616" y="2942"/>
                    </a:lnTo>
                    <a:lnTo>
                      <a:pt x="3576" y="2880"/>
                    </a:lnTo>
                    <a:lnTo>
                      <a:pt x="3620" y="2806"/>
                    </a:lnTo>
                    <a:lnTo>
                      <a:pt x="3576" y="2754"/>
                    </a:lnTo>
                    <a:lnTo>
                      <a:pt x="3564" y="2680"/>
                    </a:lnTo>
                    <a:lnTo>
                      <a:pt x="3518" y="2596"/>
                    </a:lnTo>
                    <a:lnTo>
                      <a:pt x="3474" y="2512"/>
                    </a:lnTo>
                    <a:lnTo>
                      <a:pt x="3512" y="2458"/>
                    </a:lnTo>
                    <a:lnTo>
                      <a:pt x="3502" y="2436"/>
                    </a:lnTo>
                    <a:lnTo>
                      <a:pt x="3430" y="2426"/>
                    </a:lnTo>
                    <a:lnTo>
                      <a:pt x="3354" y="2350"/>
                    </a:lnTo>
                    <a:lnTo>
                      <a:pt x="3324" y="2350"/>
                    </a:lnTo>
                    <a:lnTo>
                      <a:pt x="3404" y="2444"/>
                    </a:lnTo>
                    <a:lnTo>
                      <a:pt x="3406" y="2474"/>
                    </a:lnTo>
                    <a:lnTo>
                      <a:pt x="3350" y="2548"/>
                    </a:lnTo>
                    <a:lnTo>
                      <a:pt x="3362" y="2602"/>
                    </a:lnTo>
                    <a:lnTo>
                      <a:pt x="3348" y="2656"/>
                    </a:lnTo>
                    <a:lnTo>
                      <a:pt x="3258" y="2770"/>
                    </a:lnTo>
                    <a:lnTo>
                      <a:pt x="3216" y="2744"/>
                    </a:lnTo>
                    <a:lnTo>
                      <a:pt x="3168" y="2682"/>
                    </a:lnTo>
                    <a:lnTo>
                      <a:pt x="3152" y="2638"/>
                    </a:lnTo>
                    <a:lnTo>
                      <a:pt x="3062" y="2594"/>
                    </a:lnTo>
                    <a:lnTo>
                      <a:pt x="3018" y="2544"/>
                    </a:lnTo>
                    <a:lnTo>
                      <a:pt x="3000" y="2514"/>
                    </a:lnTo>
                    <a:lnTo>
                      <a:pt x="2964" y="2450"/>
                    </a:lnTo>
                    <a:lnTo>
                      <a:pt x="2880" y="2378"/>
                    </a:lnTo>
                    <a:lnTo>
                      <a:pt x="2852" y="2372"/>
                    </a:lnTo>
                    <a:lnTo>
                      <a:pt x="2852" y="2404"/>
                    </a:lnTo>
                    <a:lnTo>
                      <a:pt x="2936" y="2488"/>
                    </a:lnTo>
                    <a:lnTo>
                      <a:pt x="2940" y="2542"/>
                    </a:lnTo>
                    <a:lnTo>
                      <a:pt x="2898" y="2528"/>
                    </a:lnTo>
                    <a:lnTo>
                      <a:pt x="2806" y="2448"/>
                    </a:lnTo>
                    <a:lnTo>
                      <a:pt x="2776" y="2452"/>
                    </a:lnTo>
                    <a:lnTo>
                      <a:pt x="2744" y="2502"/>
                    </a:lnTo>
                    <a:lnTo>
                      <a:pt x="2768" y="2612"/>
                    </a:lnTo>
                    <a:lnTo>
                      <a:pt x="2756" y="2618"/>
                    </a:lnTo>
                    <a:lnTo>
                      <a:pt x="2684" y="2582"/>
                    </a:lnTo>
                    <a:lnTo>
                      <a:pt x="2658" y="2670"/>
                    </a:lnTo>
                    <a:lnTo>
                      <a:pt x="2616" y="2678"/>
                    </a:lnTo>
                    <a:lnTo>
                      <a:pt x="2580" y="2712"/>
                    </a:lnTo>
                    <a:lnTo>
                      <a:pt x="2556" y="2708"/>
                    </a:lnTo>
                    <a:lnTo>
                      <a:pt x="2502" y="2578"/>
                    </a:lnTo>
                    <a:lnTo>
                      <a:pt x="2520" y="2534"/>
                    </a:lnTo>
                    <a:lnTo>
                      <a:pt x="2526" y="2524"/>
                    </a:lnTo>
                    <a:lnTo>
                      <a:pt x="2516" y="2490"/>
                    </a:lnTo>
                    <a:lnTo>
                      <a:pt x="2458" y="2472"/>
                    </a:lnTo>
                    <a:lnTo>
                      <a:pt x="2446" y="2454"/>
                    </a:lnTo>
                    <a:lnTo>
                      <a:pt x="2460" y="2414"/>
                    </a:lnTo>
                    <a:lnTo>
                      <a:pt x="2434" y="2378"/>
                    </a:lnTo>
                    <a:lnTo>
                      <a:pt x="2362" y="2332"/>
                    </a:lnTo>
                    <a:lnTo>
                      <a:pt x="2264" y="2346"/>
                    </a:lnTo>
                    <a:lnTo>
                      <a:pt x="2108" y="2224"/>
                    </a:lnTo>
                    <a:lnTo>
                      <a:pt x="2100" y="2188"/>
                    </a:lnTo>
                    <a:lnTo>
                      <a:pt x="2146" y="2090"/>
                    </a:lnTo>
                    <a:lnTo>
                      <a:pt x="2138" y="2074"/>
                    </a:lnTo>
                    <a:lnTo>
                      <a:pt x="2120" y="2076"/>
                    </a:lnTo>
                    <a:lnTo>
                      <a:pt x="2024" y="2196"/>
                    </a:lnTo>
                    <a:lnTo>
                      <a:pt x="2000" y="2154"/>
                    </a:lnTo>
                    <a:lnTo>
                      <a:pt x="2014" y="2120"/>
                    </a:lnTo>
                    <a:lnTo>
                      <a:pt x="1990" y="2076"/>
                    </a:lnTo>
                    <a:lnTo>
                      <a:pt x="1992" y="2010"/>
                    </a:lnTo>
                    <a:lnTo>
                      <a:pt x="1964" y="1974"/>
                    </a:lnTo>
                    <a:lnTo>
                      <a:pt x="1928" y="1966"/>
                    </a:lnTo>
                    <a:lnTo>
                      <a:pt x="1872" y="1988"/>
                    </a:lnTo>
                    <a:lnTo>
                      <a:pt x="1820" y="2006"/>
                    </a:lnTo>
                    <a:lnTo>
                      <a:pt x="1674" y="2024"/>
                    </a:lnTo>
                    <a:lnTo>
                      <a:pt x="1580" y="2054"/>
                    </a:lnTo>
                    <a:lnTo>
                      <a:pt x="1480" y="2054"/>
                    </a:lnTo>
                    <a:lnTo>
                      <a:pt x="1422" y="2084"/>
                    </a:lnTo>
                    <a:lnTo>
                      <a:pt x="1336" y="2096"/>
                    </a:lnTo>
                    <a:lnTo>
                      <a:pt x="1258" y="2138"/>
                    </a:lnTo>
                    <a:lnTo>
                      <a:pt x="1126" y="2140"/>
                    </a:lnTo>
                    <a:lnTo>
                      <a:pt x="1086" y="2122"/>
                    </a:lnTo>
                    <a:lnTo>
                      <a:pt x="1074" y="2086"/>
                    </a:lnTo>
                    <a:lnTo>
                      <a:pt x="1000" y="2096"/>
                    </a:lnTo>
                    <a:lnTo>
                      <a:pt x="974" y="2062"/>
                    </a:lnTo>
                    <a:lnTo>
                      <a:pt x="952" y="2070"/>
                    </a:lnTo>
                    <a:lnTo>
                      <a:pt x="894" y="2010"/>
                    </a:lnTo>
                    <a:lnTo>
                      <a:pt x="870" y="1988"/>
                    </a:lnTo>
                    <a:lnTo>
                      <a:pt x="878" y="1960"/>
                    </a:lnTo>
                    <a:lnTo>
                      <a:pt x="866" y="1944"/>
                    </a:lnTo>
                    <a:lnTo>
                      <a:pt x="774" y="1932"/>
                    </a:lnTo>
                    <a:lnTo>
                      <a:pt x="726" y="1908"/>
                    </a:lnTo>
                    <a:lnTo>
                      <a:pt x="710" y="1812"/>
                    </a:lnTo>
                    <a:lnTo>
                      <a:pt x="676" y="1786"/>
                    </a:lnTo>
                    <a:lnTo>
                      <a:pt x="644" y="1782"/>
                    </a:lnTo>
                    <a:lnTo>
                      <a:pt x="600" y="1812"/>
                    </a:lnTo>
                    <a:lnTo>
                      <a:pt x="584" y="1908"/>
                    </a:lnTo>
                    <a:lnTo>
                      <a:pt x="416" y="2034"/>
                    </a:lnTo>
                    <a:lnTo>
                      <a:pt x="394" y="2034"/>
                    </a:lnTo>
                    <a:lnTo>
                      <a:pt x="312" y="2000"/>
                    </a:lnTo>
                    <a:lnTo>
                      <a:pt x="250" y="1992"/>
                    </a:lnTo>
                    <a:lnTo>
                      <a:pt x="176" y="1934"/>
                    </a:lnTo>
                    <a:lnTo>
                      <a:pt x="150" y="1902"/>
                    </a:lnTo>
                    <a:lnTo>
                      <a:pt x="186" y="1884"/>
                    </a:lnTo>
                    <a:lnTo>
                      <a:pt x="192" y="1866"/>
                    </a:lnTo>
                    <a:lnTo>
                      <a:pt x="186" y="1838"/>
                    </a:lnTo>
                    <a:lnTo>
                      <a:pt x="182" y="1822"/>
                    </a:lnTo>
                    <a:lnTo>
                      <a:pt x="122" y="1742"/>
                    </a:lnTo>
                    <a:lnTo>
                      <a:pt x="118" y="1692"/>
                    </a:lnTo>
                    <a:lnTo>
                      <a:pt x="92" y="1664"/>
                    </a:lnTo>
                    <a:lnTo>
                      <a:pt x="0" y="163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65040" y="3706920"/>
              <a:ext cx="3197160" cy="2419200"/>
              <a:chOff x="365040" y="3706920"/>
              <a:chExt cx="3197160" cy="2419200"/>
            </a:xfrm>
          </p:grpSpPr>
          <p:sp>
            <p:nvSpPr>
              <p:cNvPr id="214" name=""/>
              <p:cNvSpPr/>
              <p:nvPr/>
            </p:nvSpPr>
            <p:spPr>
              <a:xfrm>
                <a:off x="365040" y="3706920"/>
                <a:ext cx="3197160" cy="2419200"/>
              </a:xfrm>
              <a:custGeom>
                <a:avLst/>
                <a:gdLst/>
                <a:ahLst/>
                <a:rect l="l" t="t" r="r" b="b"/>
                <a:pathLst>
                  <a:path w="2014" h="1524">
                    <a:moveTo>
                      <a:pt x="0" y="1220"/>
                    </a:moveTo>
                    <a:lnTo>
                      <a:pt x="54" y="1154"/>
                    </a:lnTo>
                    <a:lnTo>
                      <a:pt x="116" y="1184"/>
                    </a:lnTo>
                    <a:lnTo>
                      <a:pt x="132" y="1158"/>
                    </a:lnTo>
                    <a:lnTo>
                      <a:pt x="118" y="1094"/>
                    </a:lnTo>
                    <a:lnTo>
                      <a:pt x="130" y="1060"/>
                    </a:lnTo>
                    <a:lnTo>
                      <a:pt x="202" y="1028"/>
                    </a:lnTo>
                    <a:lnTo>
                      <a:pt x="204" y="998"/>
                    </a:lnTo>
                    <a:lnTo>
                      <a:pt x="180" y="956"/>
                    </a:lnTo>
                    <a:lnTo>
                      <a:pt x="120" y="956"/>
                    </a:lnTo>
                    <a:lnTo>
                      <a:pt x="184" y="884"/>
                    </a:lnTo>
                    <a:lnTo>
                      <a:pt x="228" y="890"/>
                    </a:lnTo>
                    <a:lnTo>
                      <a:pt x="250" y="856"/>
                    </a:lnTo>
                    <a:lnTo>
                      <a:pt x="382" y="774"/>
                    </a:lnTo>
                    <a:lnTo>
                      <a:pt x="426" y="786"/>
                    </a:lnTo>
                    <a:lnTo>
                      <a:pt x="414" y="716"/>
                    </a:lnTo>
                    <a:lnTo>
                      <a:pt x="534" y="652"/>
                    </a:lnTo>
                    <a:lnTo>
                      <a:pt x="602" y="572"/>
                    </a:lnTo>
                    <a:lnTo>
                      <a:pt x="654" y="580"/>
                    </a:lnTo>
                    <a:lnTo>
                      <a:pt x="696" y="562"/>
                    </a:lnTo>
                    <a:lnTo>
                      <a:pt x="744" y="564"/>
                    </a:lnTo>
                    <a:lnTo>
                      <a:pt x="754" y="578"/>
                    </a:lnTo>
                    <a:lnTo>
                      <a:pt x="812" y="640"/>
                    </a:lnTo>
                    <a:lnTo>
                      <a:pt x="834" y="648"/>
                    </a:lnTo>
                    <a:lnTo>
                      <a:pt x="850" y="594"/>
                    </a:lnTo>
                    <a:lnTo>
                      <a:pt x="880" y="582"/>
                    </a:lnTo>
                    <a:lnTo>
                      <a:pt x="972" y="602"/>
                    </a:lnTo>
                    <a:lnTo>
                      <a:pt x="1092" y="520"/>
                    </a:lnTo>
                    <a:lnTo>
                      <a:pt x="1184" y="488"/>
                    </a:lnTo>
                    <a:lnTo>
                      <a:pt x="1288" y="512"/>
                    </a:lnTo>
                    <a:lnTo>
                      <a:pt x="1306" y="502"/>
                    </a:lnTo>
                    <a:lnTo>
                      <a:pt x="1322" y="434"/>
                    </a:lnTo>
                    <a:lnTo>
                      <a:pt x="1356" y="406"/>
                    </a:lnTo>
                    <a:lnTo>
                      <a:pt x="1400" y="406"/>
                    </a:lnTo>
                    <a:lnTo>
                      <a:pt x="1430" y="388"/>
                    </a:lnTo>
                    <a:lnTo>
                      <a:pt x="1482" y="284"/>
                    </a:lnTo>
                    <a:lnTo>
                      <a:pt x="1508" y="282"/>
                    </a:lnTo>
                    <a:lnTo>
                      <a:pt x="1574" y="246"/>
                    </a:lnTo>
                    <a:lnTo>
                      <a:pt x="1658" y="134"/>
                    </a:lnTo>
                    <a:lnTo>
                      <a:pt x="1680" y="132"/>
                    </a:lnTo>
                    <a:lnTo>
                      <a:pt x="1692" y="168"/>
                    </a:lnTo>
                    <a:lnTo>
                      <a:pt x="1672" y="206"/>
                    </a:lnTo>
                    <a:lnTo>
                      <a:pt x="1702" y="206"/>
                    </a:lnTo>
                    <a:lnTo>
                      <a:pt x="1762" y="146"/>
                    </a:lnTo>
                    <a:lnTo>
                      <a:pt x="1842" y="98"/>
                    </a:lnTo>
                    <a:lnTo>
                      <a:pt x="1872" y="0"/>
                    </a:lnTo>
                    <a:lnTo>
                      <a:pt x="1906" y="12"/>
                    </a:lnTo>
                    <a:lnTo>
                      <a:pt x="2004" y="94"/>
                    </a:lnTo>
                    <a:lnTo>
                      <a:pt x="2014" y="124"/>
                    </a:lnTo>
                    <a:lnTo>
                      <a:pt x="1986" y="170"/>
                    </a:lnTo>
                    <a:lnTo>
                      <a:pt x="2008" y="206"/>
                    </a:lnTo>
                    <a:lnTo>
                      <a:pt x="1988" y="254"/>
                    </a:lnTo>
                    <a:lnTo>
                      <a:pt x="2002" y="290"/>
                    </a:lnTo>
                    <a:lnTo>
                      <a:pt x="1988" y="316"/>
                    </a:lnTo>
                    <a:lnTo>
                      <a:pt x="1874" y="322"/>
                    </a:lnTo>
                    <a:lnTo>
                      <a:pt x="1812" y="250"/>
                    </a:lnTo>
                    <a:lnTo>
                      <a:pt x="1796" y="246"/>
                    </a:lnTo>
                    <a:lnTo>
                      <a:pt x="1786" y="270"/>
                    </a:lnTo>
                    <a:lnTo>
                      <a:pt x="1826" y="346"/>
                    </a:lnTo>
                    <a:lnTo>
                      <a:pt x="1808" y="392"/>
                    </a:lnTo>
                    <a:lnTo>
                      <a:pt x="1770" y="392"/>
                    </a:lnTo>
                    <a:lnTo>
                      <a:pt x="1722" y="358"/>
                    </a:lnTo>
                    <a:lnTo>
                      <a:pt x="1680" y="366"/>
                    </a:lnTo>
                    <a:lnTo>
                      <a:pt x="1658" y="390"/>
                    </a:lnTo>
                    <a:lnTo>
                      <a:pt x="1630" y="418"/>
                    </a:lnTo>
                    <a:lnTo>
                      <a:pt x="1632" y="464"/>
                    </a:lnTo>
                    <a:lnTo>
                      <a:pt x="1598" y="502"/>
                    </a:lnTo>
                    <a:lnTo>
                      <a:pt x="1610" y="518"/>
                    </a:lnTo>
                    <a:lnTo>
                      <a:pt x="1636" y="518"/>
                    </a:lnTo>
                    <a:lnTo>
                      <a:pt x="1678" y="488"/>
                    </a:lnTo>
                    <a:lnTo>
                      <a:pt x="1702" y="494"/>
                    </a:lnTo>
                    <a:lnTo>
                      <a:pt x="1722" y="526"/>
                    </a:lnTo>
                    <a:lnTo>
                      <a:pt x="1704" y="568"/>
                    </a:lnTo>
                    <a:lnTo>
                      <a:pt x="1646" y="604"/>
                    </a:lnTo>
                    <a:lnTo>
                      <a:pt x="1640" y="630"/>
                    </a:lnTo>
                    <a:lnTo>
                      <a:pt x="1676" y="674"/>
                    </a:lnTo>
                    <a:lnTo>
                      <a:pt x="1704" y="764"/>
                    </a:lnTo>
                    <a:lnTo>
                      <a:pt x="1694" y="808"/>
                    </a:lnTo>
                    <a:lnTo>
                      <a:pt x="1666" y="828"/>
                    </a:lnTo>
                    <a:lnTo>
                      <a:pt x="1584" y="826"/>
                    </a:lnTo>
                    <a:lnTo>
                      <a:pt x="1526" y="802"/>
                    </a:lnTo>
                    <a:lnTo>
                      <a:pt x="1486" y="774"/>
                    </a:lnTo>
                    <a:lnTo>
                      <a:pt x="1440" y="804"/>
                    </a:lnTo>
                    <a:lnTo>
                      <a:pt x="1420" y="846"/>
                    </a:lnTo>
                    <a:lnTo>
                      <a:pt x="1456" y="862"/>
                    </a:lnTo>
                    <a:lnTo>
                      <a:pt x="1530" y="922"/>
                    </a:lnTo>
                    <a:lnTo>
                      <a:pt x="1562" y="942"/>
                    </a:lnTo>
                    <a:lnTo>
                      <a:pt x="1572" y="948"/>
                    </a:lnTo>
                    <a:lnTo>
                      <a:pt x="1580" y="976"/>
                    </a:lnTo>
                    <a:lnTo>
                      <a:pt x="1556" y="1014"/>
                    </a:lnTo>
                    <a:lnTo>
                      <a:pt x="1534" y="1028"/>
                    </a:lnTo>
                    <a:lnTo>
                      <a:pt x="1514" y="998"/>
                    </a:lnTo>
                    <a:lnTo>
                      <a:pt x="1480" y="1038"/>
                    </a:lnTo>
                    <a:lnTo>
                      <a:pt x="1538" y="1166"/>
                    </a:lnTo>
                    <a:lnTo>
                      <a:pt x="1562" y="1156"/>
                    </a:lnTo>
                    <a:lnTo>
                      <a:pt x="1594" y="1192"/>
                    </a:lnTo>
                    <a:lnTo>
                      <a:pt x="1644" y="1190"/>
                    </a:lnTo>
                    <a:lnTo>
                      <a:pt x="1654" y="1212"/>
                    </a:lnTo>
                    <a:lnTo>
                      <a:pt x="1568" y="1320"/>
                    </a:lnTo>
                    <a:lnTo>
                      <a:pt x="1544" y="1328"/>
                    </a:lnTo>
                    <a:lnTo>
                      <a:pt x="1492" y="1278"/>
                    </a:lnTo>
                    <a:lnTo>
                      <a:pt x="1442" y="1314"/>
                    </a:lnTo>
                    <a:lnTo>
                      <a:pt x="1420" y="1330"/>
                    </a:lnTo>
                    <a:lnTo>
                      <a:pt x="1358" y="1290"/>
                    </a:lnTo>
                    <a:lnTo>
                      <a:pt x="1342" y="1214"/>
                    </a:lnTo>
                    <a:lnTo>
                      <a:pt x="1294" y="1158"/>
                    </a:lnTo>
                    <a:lnTo>
                      <a:pt x="1318" y="1112"/>
                    </a:lnTo>
                    <a:lnTo>
                      <a:pt x="1314" y="1080"/>
                    </a:lnTo>
                    <a:lnTo>
                      <a:pt x="1286" y="1068"/>
                    </a:lnTo>
                    <a:lnTo>
                      <a:pt x="1224" y="1084"/>
                    </a:lnTo>
                    <a:lnTo>
                      <a:pt x="1140" y="1138"/>
                    </a:lnTo>
                    <a:lnTo>
                      <a:pt x="1038" y="1136"/>
                    </a:lnTo>
                    <a:lnTo>
                      <a:pt x="942" y="1172"/>
                    </a:lnTo>
                    <a:lnTo>
                      <a:pt x="858" y="1236"/>
                    </a:lnTo>
                    <a:lnTo>
                      <a:pt x="784" y="1246"/>
                    </a:lnTo>
                    <a:lnTo>
                      <a:pt x="768" y="1308"/>
                    </a:lnTo>
                    <a:lnTo>
                      <a:pt x="854" y="1298"/>
                    </a:lnTo>
                    <a:lnTo>
                      <a:pt x="854" y="1364"/>
                    </a:lnTo>
                    <a:lnTo>
                      <a:pt x="790" y="1394"/>
                    </a:lnTo>
                    <a:lnTo>
                      <a:pt x="754" y="1374"/>
                    </a:lnTo>
                    <a:lnTo>
                      <a:pt x="726" y="1386"/>
                    </a:lnTo>
                    <a:lnTo>
                      <a:pt x="704" y="1394"/>
                    </a:lnTo>
                    <a:lnTo>
                      <a:pt x="670" y="1392"/>
                    </a:lnTo>
                    <a:lnTo>
                      <a:pt x="610" y="1366"/>
                    </a:lnTo>
                    <a:lnTo>
                      <a:pt x="558" y="1320"/>
                    </a:lnTo>
                    <a:lnTo>
                      <a:pt x="528" y="1252"/>
                    </a:lnTo>
                    <a:lnTo>
                      <a:pt x="402" y="1324"/>
                    </a:lnTo>
                    <a:lnTo>
                      <a:pt x="374" y="1390"/>
                    </a:lnTo>
                    <a:lnTo>
                      <a:pt x="322" y="1396"/>
                    </a:lnTo>
                    <a:lnTo>
                      <a:pt x="284" y="1458"/>
                    </a:lnTo>
                    <a:lnTo>
                      <a:pt x="230" y="1442"/>
                    </a:lnTo>
                    <a:lnTo>
                      <a:pt x="158" y="1470"/>
                    </a:lnTo>
                    <a:lnTo>
                      <a:pt x="140" y="1524"/>
                    </a:lnTo>
                    <a:lnTo>
                      <a:pt x="80" y="1518"/>
                    </a:lnTo>
                    <a:lnTo>
                      <a:pt x="96" y="1488"/>
                    </a:lnTo>
                    <a:lnTo>
                      <a:pt x="88" y="1460"/>
                    </a:lnTo>
                    <a:lnTo>
                      <a:pt x="40" y="1412"/>
                    </a:lnTo>
                    <a:lnTo>
                      <a:pt x="48" y="1358"/>
                    </a:lnTo>
                    <a:lnTo>
                      <a:pt x="0" y="1220"/>
                    </a:lnTo>
                    <a:close/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65040" y="3706920"/>
                <a:ext cx="3197160" cy="2419200"/>
              </a:xfrm>
              <a:custGeom>
                <a:avLst/>
                <a:gdLst/>
                <a:ahLst/>
                <a:rect l="l" t="t" r="r" b="b"/>
                <a:pathLst>
                  <a:path w="2014" h="1524">
                    <a:moveTo>
                      <a:pt x="0" y="1220"/>
                    </a:moveTo>
                    <a:lnTo>
                      <a:pt x="54" y="1154"/>
                    </a:lnTo>
                    <a:lnTo>
                      <a:pt x="116" y="1184"/>
                    </a:lnTo>
                    <a:lnTo>
                      <a:pt x="132" y="1158"/>
                    </a:lnTo>
                    <a:lnTo>
                      <a:pt x="118" y="1094"/>
                    </a:lnTo>
                    <a:lnTo>
                      <a:pt x="130" y="1060"/>
                    </a:lnTo>
                    <a:lnTo>
                      <a:pt x="202" y="1028"/>
                    </a:lnTo>
                    <a:lnTo>
                      <a:pt x="204" y="998"/>
                    </a:lnTo>
                    <a:lnTo>
                      <a:pt x="180" y="956"/>
                    </a:lnTo>
                    <a:lnTo>
                      <a:pt x="120" y="956"/>
                    </a:lnTo>
                    <a:lnTo>
                      <a:pt x="184" y="884"/>
                    </a:lnTo>
                    <a:lnTo>
                      <a:pt x="228" y="890"/>
                    </a:lnTo>
                    <a:lnTo>
                      <a:pt x="250" y="856"/>
                    </a:lnTo>
                    <a:lnTo>
                      <a:pt x="382" y="774"/>
                    </a:lnTo>
                    <a:lnTo>
                      <a:pt x="426" y="786"/>
                    </a:lnTo>
                    <a:lnTo>
                      <a:pt x="414" y="716"/>
                    </a:lnTo>
                    <a:lnTo>
                      <a:pt x="534" y="652"/>
                    </a:lnTo>
                    <a:lnTo>
                      <a:pt x="602" y="572"/>
                    </a:lnTo>
                    <a:lnTo>
                      <a:pt x="654" y="580"/>
                    </a:lnTo>
                    <a:lnTo>
                      <a:pt x="696" y="562"/>
                    </a:lnTo>
                    <a:lnTo>
                      <a:pt x="744" y="564"/>
                    </a:lnTo>
                    <a:lnTo>
                      <a:pt x="754" y="578"/>
                    </a:lnTo>
                    <a:lnTo>
                      <a:pt x="812" y="640"/>
                    </a:lnTo>
                    <a:lnTo>
                      <a:pt x="834" y="648"/>
                    </a:lnTo>
                    <a:lnTo>
                      <a:pt x="850" y="594"/>
                    </a:lnTo>
                    <a:lnTo>
                      <a:pt x="880" y="582"/>
                    </a:lnTo>
                    <a:lnTo>
                      <a:pt x="972" y="602"/>
                    </a:lnTo>
                    <a:lnTo>
                      <a:pt x="1092" y="520"/>
                    </a:lnTo>
                    <a:lnTo>
                      <a:pt x="1184" y="488"/>
                    </a:lnTo>
                    <a:lnTo>
                      <a:pt x="1288" y="512"/>
                    </a:lnTo>
                    <a:lnTo>
                      <a:pt x="1306" y="502"/>
                    </a:lnTo>
                    <a:lnTo>
                      <a:pt x="1322" y="434"/>
                    </a:lnTo>
                    <a:lnTo>
                      <a:pt x="1356" y="406"/>
                    </a:lnTo>
                    <a:lnTo>
                      <a:pt x="1400" y="406"/>
                    </a:lnTo>
                    <a:lnTo>
                      <a:pt x="1430" y="388"/>
                    </a:lnTo>
                    <a:lnTo>
                      <a:pt x="1482" y="284"/>
                    </a:lnTo>
                    <a:lnTo>
                      <a:pt x="1508" y="282"/>
                    </a:lnTo>
                    <a:lnTo>
                      <a:pt x="1574" y="246"/>
                    </a:lnTo>
                    <a:lnTo>
                      <a:pt x="1658" y="134"/>
                    </a:lnTo>
                    <a:lnTo>
                      <a:pt x="1680" y="132"/>
                    </a:lnTo>
                    <a:lnTo>
                      <a:pt x="1692" y="168"/>
                    </a:lnTo>
                    <a:lnTo>
                      <a:pt x="1672" y="206"/>
                    </a:lnTo>
                    <a:lnTo>
                      <a:pt x="1702" y="206"/>
                    </a:lnTo>
                    <a:lnTo>
                      <a:pt x="1762" y="146"/>
                    </a:lnTo>
                    <a:lnTo>
                      <a:pt x="1842" y="98"/>
                    </a:lnTo>
                    <a:lnTo>
                      <a:pt x="1872" y="0"/>
                    </a:lnTo>
                    <a:lnTo>
                      <a:pt x="1906" y="12"/>
                    </a:lnTo>
                    <a:lnTo>
                      <a:pt x="2004" y="94"/>
                    </a:lnTo>
                    <a:lnTo>
                      <a:pt x="2014" y="124"/>
                    </a:lnTo>
                    <a:lnTo>
                      <a:pt x="1986" y="170"/>
                    </a:lnTo>
                    <a:lnTo>
                      <a:pt x="2008" y="206"/>
                    </a:lnTo>
                    <a:lnTo>
                      <a:pt x="1988" y="254"/>
                    </a:lnTo>
                    <a:lnTo>
                      <a:pt x="2002" y="290"/>
                    </a:lnTo>
                    <a:lnTo>
                      <a:pt x="1988" y="316"/>
                    </a:lnTo>
                    <a:lnTo>
                      <a:pt x="1874" y="322"/>
                    </a:lnTo>
                    <a:lnTo>
                      <a:pt x="1812" y="250"/>
                    </a:lnTo>
                    <a:lnTo>
                      <a:pt x="1796" y="246"/>
                    </a:lnTo>
                    <a:lnTo>
                      <a:pt x="1786" y="270"/>
                    </a:lnTo>
                    <a:lnTo>
                      <a:pt x="1826" y="346"/>
                    </a:lnTo>
                    <a:lnTo>
                      <a:pt x="1808" y="392"/>
                    </a:lnTo>
                    <a:lnTo>
                      <a:pt x="1770" y="392"/>
                    </a:lnTo>
                    <a:lnTo>
                      <a:pt x="1722" y="358"/>
                    </a:lnTo>
                    <a:lnTo>
                      <a:pt x="1680" y="366"/>
                    </a:lnTo>
                    <a:lnTo>
                      <a:pt x="1658" y="390"/>
                    </a:lnTo>
                    <a:lnTo>
                      <a:pt x="1630" y="418"/>
                    </a:lnTo>
                    <a:lnTo>
                      <a:pt x="1632" y="464"/>
                    </a:lnTo>
                    <a:lnTo>
                      <a:pt x="1598" y="502"/>
                    </a:lnTo>
                    <a:lnTo>
                      <a:pt x="1610" y="518"/>
                    </a:lnTo>
                    <a:lnTo>
                      <a:pt x="1636" y="518"/>
                    </a:lnTo>
                    <a:lnTo>
                      <a:pt x="1678" y="488"/>
                    </a:lnTo>
                    <a:lnTo>
                      <a:pt x="1702" y="494"/>
                    </a:lnTo>
                    <a:lnTo>
                      <a:pt x="1722" y="526"/>
                    </a:lnTo>
                    <a:lnTo>
                      <a:pt x="1704" y="568"/>
                    </a:lnTo>
                    <a:lnTo>
                      <a:pt x="1646" y="604"/>
                    </a:lnTo>
                    <a:lnTo>
                      <a:pt x="1640" y="630"/>
                    </a:lnTo>
                    <a:lnTo>
                      <a:pt x="1676" y="674"/>
                    </a:lnTo>
                    <a:lnTo>
                      <a:pt x="1704" y="764"/>
                    </a:lnTo>
                    <a:lnTo>
                      <a:pt x="1694" y="808"/>
                    </a:lnTo>
                    <a:lnTo>
                      <a:pt x="1666" y="828"/>
                    </a:lnTo>
                    <a:lnTo>
                      <a:pt x="1584" y="826"/>
                    </a:lnTo>
                    <a:lnTo>
                      <a:pt x="1526" y="802"/>
                    </a:lnTo>
                    <a:lnTo>
                      <a:pt x="1486" y="774"/>
                    </a:lnTo>
                    <a:lnTo>
                      <a:pt x="1440" y="804"/>
                    </a:lnTo>
                    <a:lnTo>
                      <a:pt x="1420" y="846"/>
                    </a:lnTo>
                    <a:lnTo>
                      <a:pt x="1456" y="862"/>
                    </a:lnTo>
                    <a:lnTo>
                      <a:pt x="1530" y="922"/>
                    </a:lnTo>
                    <a:lnTo>
                      <a:pt x="1562" y="942"/>
                    </a:lnTo>
                    <a:lnTo>
                      <a:pt x="1572" y="948"/>
                    </a:lnTo>
                    <a:lnTo>
                      <a:pt x="1580" y="976"/>
                    </a:lnTo>
                    <a:lnTo>
                      <a:pt x="1556" y="1014"/>
                    </a:lnTo>
                    <a:lnTo>
                      <a:pt x="1534" y="1028"/>
                    </a:lnTo>
                    <a:lnTo>
                      <a:pt x="1514" y="998"/>
                    </a:lnTo>
                    <a:lnTo>
                      <a:pt x="1480" y="1038"/>
                    </a:lnTo>
                    <a:lnTo>
                      <a:pt x="1538" y="1166"/>
                    </a:lnTo>
                    <a:lnTo>
                      <a:pt x="1562" y="1156"/>
                    </a:lnTo>
                    <a:lnTo>
                      <a:pt x="1594" y="1192"/>
                    </a:lnTo>
                    <a:lnTo>
                      <a:pt x="1644" y="1190"/>
                    </a:lnTo>
                    <a:lnTo>
                      <a:pt x="1654" y="1212"/>
                    </a:lnTo>
                    <a:lnTo>
                      <a:pt x="1568" y="1320"/>
                    </a:lnTo>
                    <a:lnTo>
                      <a:pt x="1544" y="1328"/>
                    </a:lnTo>
                    <a:lnTo>
                      <a:pt x="1492" y="1278"/>
                    </a:lnTo>
                    <a:lnTo>
                      <a:pt x="1442" y="1314"/>
                    </a:lnTo>
                    <a:lnTo>
                      <a:pt x="1420" y="1330"/>
                    </a:lnTo>
                    <a:lnTo>
                      <a:pt x="1358" y="1290"/>
                    </a:lnTo>
                    <a:lnTo>
                      <a:pt x="1342" y="1214"/>
                    </a:lnTo>
                    <a:lnTo>
                      <a:pt x="1294" y="1158"/>
                    </a:lnTo>
                    <a:lnTo>
                      <a:pt x="1318" y="1112"/>
                    </a:lnTo>
                    <a:lnTo>
                      <a:pt x="1314" y="1080"/>
                    </a:lnTo>
                    <a:lnTo>
                      <a:pt x="1286" y="1068"/>
                    </a:lnTo>
                    <a:lnTo>
                      <a:pt x="1224" y="1084"/>
                    </a:lnTo>
                    <a:lnTo>
                      <a:pt x="1140" y="1138"/>
                    </a:lnTo>
                    <a:lnTo>
                      <a:pt x="1038" y="1136"/>
                    </a:lnTo>
                    <a:lnTo>
                      <a:pt x="942" y="1172"/>
                    </a:lnTo>
                    <a:lnTo>
                      <a:pt x="858" y="1236"/>
                    </a:lnTo>
                    <a:lnTo>
                      <a:pt x="784" y="1246"/>
                    </a:lnTo>
                    <a:lnTo>
                      <a:pt x="768" y="1308"/>
                    </a:lnTo>
                    <a:lnTo>
                      <a:pt x="854" y="1298"/>
                    </a:lnTo>
                    <a:lnTo>
                      <a:pt x="854" y="1364"/>
                    </a:lnTo>
                    <a:lnTo>
                      <a:pt x="790" y="1394"/>
                    </a:lnTo>
                    <a:lnTo>
                      <a:pt x="754" y="1374"/>
                    </a:lnTo>
                    <a:lnTo>
                      <a:pt x="726" y="1386"/>
                    </a:lnTo>
                    <a:lnTo>
                      <a:pt x="704" y="1394"/>
                    </a:lnTo>
                    <a:lnTo>
                      <a:pt x="670" y="1392"/>
                    </a:lnTo>
                    <a:lnTo>
                      <a:pt x="610" y="1366"/>
                    </a:lnTo>
                    <a:lnTo>
                      <a:pt x="558" y="1320"/>
                    </a:lnTo>
                    <a:lnTo>
                      <a:pt x="528" y="1252"/>
                    </a:lnTo>
                    <a:lnTo>
                      <a:pt x="402" y="1324"/>
                    </a:lnTo>
                    <a:lnTo>
                      <a:pt x="374" y="1390"/>
                    </a:lnTo>
                    <a:lnTo>
                      <a:pt x="322" y="1396"/>
                    </a:lnTo>
                    <a:lnTo>
                      <a:pt x="284" y="1458"/>
                    </a:lnTo>
                    <a:lnTo>
                      <a:pt x="230" y="1442"/>
                    </a:lnTo>
                    <a:lnTo>
                      <a:pt x="158" y="1470"/>
                    </a:lnTo>
                    <a:lnTo>
                      <a:pt x="140" y="1524"/>
                    </a:lnTo>
                    <a:lnTo>
                      <a:pt x="80" y="1518"/>
                    </a:lnTo>
                    <a:lnTo>
                      <a:pt x="96" y="1488"/>
                    </a:lnTo>
                    <a:lnTo>
                      <a:pt x="88" y="1460"/>
                    </a:lnTo>
                    <a:lnTo>
                      <a:pt x="40" y="1412"/>
                    </a:lnTo>
                    <a:lnTo>
                      <a:pt x="48" y="1358"/>
                    </a:lnTo>
                    <a:lnTo>
                      <a:pt x="0" y="122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508640" y="4468680"/>
              <a:ext cx="2165040" cy="1549440"/>
              <a:chOff x="4508640" y="4468680"/>
              <a:chExt cx="2165040" cy="1549440"/>
            </a:xfrm>
          </p:grpSpPr>
          <p:sp>
            <p:nvSpPr>
              <p:cNvPr id="217" name=""/>
              <p:cNvSpPr/>
              <p:nvPr/>
            </p:nvSpPr>
            <p:spPr>
              <a:xfrm>
                <a:off x="4508640" y="4468680"/>
                <a:ext cx="2165040" cy="1549440"/>
              </a:xfrm>
              <a:custGeom>
                <a:avLst/>
                <a:gdLst/>
                <a:ahLst/>
                <a:rect l="l" t="t" r="r" b="b"/>
                <a:pathLst>
                  <a:path w="1364" h="976">
                    <a:moveTo>
                      <a:pt x="0" y="212"/>
                    </a:moveTo>
                    <a:lnTo>
                      <a:pt x="20" y="178"/>
                    </a:lnTo>
                    <a:lnTo>
                      <a:pt x="126" y="122"/>
                    </a:lnTo>
                    <a:lnTo>
                      <a:pt x="176" y="94"/>
                    </a:lnTo>
                    <a:lnTo>
                      <a:pt x="258" y="76"/>
                    </a:lnTo>
                    <a:lnTo>
                      <a:pt x="328" y="76"/>
                    </a:lnTo>
                    <a:lnTo>
                      <a:pt x="516" y="130"/>
                    </a:lnTo>
                    <a:lnTo>
                      <a:pt x="612" y="122"/>
                    </a:lnTo>
                    <a:lnTo>
                      <a:pt x="660" y="102"/>
                    </a:lnTo>
                    <a:lnTo>
                      <a:pt x="718" y="30"/>
                    </a:lnTo>
                    <a:lnTo>
                      <a:pt x="806" y="0"/>
                    </a:lnTo>
                    <a:lnTo>
                      <a:pt x="844" y="0"/>
                    </a:lnTo>
                    <a:lnTo>
                      <a:pt x="912" y="72"/>
                    </a:lnTo>
                    <a:lnTo>
                      <a:pt x="974" y="84"/>
                    </a:lnTo>
                    <a:lnTo>
                      <a:pt x="1010" y="140"/>
                    </a:lnTo>
                    <a:lnTo>
                      <a:pt x="1044" y="154"/>
                    </a:lnTo>
                    <a:lnTo>
                      <a:pt x="1072" y="118"/>
                    </a:lnTo>
                    <a:lnTo>
                      <a:pt x="1120" y="110"/>
                    </a:lnTo>
                    <a:lnTo>
                      <a:pt x="1158" y="124"/>
                    </a:lnTo>
                    <a:lnTo>
                      <a:pt x="1126" y="166"/>
                    </a:lnTo>
                    <a:lnTo>
                      <a:pt x="1172" y="188"/>
                    </a:lnTo>
                    <a:lnTo>
                      <a:pt x="1142" y="238"/>
                    </a:lnTo>
                    <a:lnTo>
                      <a:pt x="1146" y="280"/>
                    </a:lnTo>
                    <a:lnTo>
                      <a:pt x="1212" y="286"/>
                    </a:lnTo>
                    <a:lnTo>
                      <a:pt x="1314" y="336"/>
                    </a:lnTo>
                    <a:lnTo>
                      <a:pt x="1316" y="446"/>
                    </a:lnTo>
                    <a:lnTo>
                      <a:pt x="1302" y="462"/>
                    </a:lnTo>
                    <a:lnTo>
                      <a:pt x="1262" y="462"/>
                    </a:lnTo>
                    <a:lnTo>
                      <a:pt x="1238" y="496"/>
                    </a:lnTo>
                    <a:lnTo>
                      <a:pt x="1282" y="536"/>
                    </a:lnTo>
                    <a:lnTo>
                      <a:pt x="1282" y="578"/>
                    </a:lnTo>
                    <a:lnTo>
                      <a:pt x="1328" y="596"/>
                    </a:lnTo>
                    <a:lnTo>
                      <a:pt x="1332" y="616"/>
                    </a:lnTo>
                    <a:lnTo>
                      <a:pt x="1278" y="636"/>
                    </a:lnTo>
                    <a:lnTo>
                      <a:pt x="1270" y="672"/>
                    </a:lnTo>
                    <a:lnTo>
                      <a:pt x="1320" y="738"/>
                    </a:lnTo>
                    <a:lnTo>
                      <a:pt x="1328" y="798"/>
                    </a:lnTo>
                    <a:lnTo>
                      <a:pt x="1364" y="824"/>
                    </a:lnTo>
                    <a:lnTo>
                      <a:pt x="1320" y="856"/>
                    </a:lnTo>
                    <a:lnTo>
                      <a:pt x="1192" y="852"/>
                    </a:lnTo>
                    <a:lnTo>
                      <a:pt x="1182" y="776"/>
                    </a:lnTo>
                    <a:lnTo>
                      <a:pt x="1126" y="732"/>
                    </a:lnTo>
                    <a:lnTo>
                      <a:pt x="1084" y="480"/>
                    </a:lnTo>
                    <a:lnTo>
                      <a:pt x="1050" y="424"/>
                    </a:lnTo>
                    <a:lnTo>
                      <a:pt x="1036" y="434"/>
                    </a:lnTo>
                    <a:lnTo>
                      <a:pt x="1020" y="516"/>
                    </a:lnTo>
                    <a:lnTo>
                      <a:pt x="1064" y="606"/>
                    </a:lnTo>
                    <a:lnTo>
                      <a:pt x="1058" y="628"/>
                    </a:lnTo>
                    <a:lnTo>
                      <a:pt x="1002" y="632"/>
                    </a:lnTo>
                    <a:lnTo>
                      <a:pt x="962" y="686"/>
                    </a:lnTo>
                    <a:lnTo>
                      <a:pt x="930" y="692"/>
                    </a:lnTo>
                    <a:lnTo>
                      <a:pt x="918" y="718"/>
                    </a:lnTo>
                    <a:lnTo>
                      <a:pt x="938" y="752"/>
                    </a:lnTo>
                    <a:lnTo>
                      <a:pt x="992" y="790"/>
                    </a:lnTo>
                    <a:lnTo>
                      <a:pt x="996" y="814"/>
                    </a:lnTo>
                    <a:lnTo>
                      <a:pt x="976" y="864"/>
                    </a:lnTo>
                    <a:lnTo>
                      <a:pt x="1018" y="922"/>
                    </a:lnTo>
                    <a:lnTo>
                      <a:pt x="996" y="964"/>
                    </a:lnTo>
                    <a:lnTo>
                      <a:pt x="922" y="976"/>
                    </a:lnTo>
                    <a:lnTo>
                      <a:pt x="886" y="946"/>
                    </a:lnTo>
                    <a:lnTo>
                      <a:pt x="912" y="900"/>
                    </a:lnTo>
                    <a:lnTo>
                      <a:pt x="900" y="844"/>
                    </a:lnTo>
                    <a:lnTo>
                      <a:pt x="916" y="798"/>
                    </a:lnTo>
                    <a:lnTo>
                      <a:pt x="896" y="768"/>
                    </a:lnTo>
                    <a:lnTo>
                      <a:pt x="852" y="750"/>
                    </a:lnTo>
                    <a:lnTo>
                      <a:pt x="840" y="814"/>
                    </a:lnTo>
                    <a:lnTo>
                      <a:pt x="772" y="834"/>
                    </a:lnTo>
                    <a:lnTo>
                      <a:pt x="762" y="824"/>
                    </a:lnTo>
                    <a:lnTo>
                      <a:pt x="792" y="772"/>
                    </a:lnTo>
                    <a:lnTo>
                      <a:pt x="728" y="702"/>
                    </a:lnTo>
                    <a:lnTo>
                      <a:pt x="770" y="682"/>
                    </a:lnTo>
                    <a:lnTo>
                      <a:pt x="752" y="604"/>
                    </a:lnTo>
                    <a:lnTo>
                      <a:pt x="732" y="582"/>
                    </a:lnTo>
                    <a:lnTo>
                      <a:pt x="670" y="574"/>
                    </a:lnTo>
                    <a:lnTo>
                      <a:pt x="636" y="508"/>
                    </a:lnTo>
                    <a:lnTo>
                      <a:pt x="582" y="516"/>
                    </a:lnTo>
                    <a:lnTo>
                      <a:pt x="530" y="630"/>
                    </a:lnTo>
                    <a:lnTo>
                      <a:pt x="494" y="640"/>
                    </a:lnTo>
                    <a:lnTo>
                      <a:pt x="456" y="534"/>
                    </a:lnTo>
                    <a:lnTo>
                      <a:pt x="434" y="516"/>
                    </a:lnTo>
                    <a:lnTo>
                      <a:pt x="438" y="486"/>
                    </a:lnTo>
                    <a:lnTo>
                      <a:pt x="406" y="470"/>
                    </a:lnTo>
                    <a:lnTo>
                      <a:pt x="286" y="502"/>
                    </a:lnTo>
                    <a:lnTo>
                      <a:pt x="226" y="474"/>
                    </a:lnTo>
                    <a:lnTo>
                      <a:pt x="192" y="484"/>
                    </a:lnTo>
                    <a:lnTo>
                      <a:pt x="122" y="376"/>
                    </a:lnTo>
                    <a:lnTo>
                      <a:pt x="96" y="364"/>
                    </a:lnTo>
                    <a:lnTo>
                      <a:pt x="4" y="248"/>
                    </a:ln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08640" y="4468680"/>
                <a:ext cx="2165040" cy="1549440"/>
              </a:xfrm>
              <a:custGeom>
                <a:avLst/>
                <a:gdLst/>
                <a:ahLst/>
                <a:rect l="l" t="t" r="r" b="b"/>
                <a:pathLst>
                  <a:path w="1364" h="976">
                    <a:moveTo>
                      <a:pt x="0" y="212"/>
                    </a:moveTo>
                    <a:lnTo>
                      <a:pt x="20" y="178"/>
                    </a:lnTo>
                    <a:lnTo>
                      <a:pt x="126" y="122"/>
                    </a:lnTo>
                    <a:lnTo>
                      <a:pt x="176" y="94"/>
                    </a:lnTo>
                    <a:lnTo>
                      <a:pt x="258" y="76"/>
                    </a:lnTo>
                    <a:lnTo>
                      <a:pt x="328" y="76"/>
                    </a:lnTo>
                    <a:lnTo>
                      <a:pt x="516" y="130"/>
                    </a:lnTo>
                    <a:lnTo>
                      <a:pt x="612" y="122"/>
                    </a:lnTo>
                    <a:lnTo>
                      <a:pt x="660" y="102"/>
                    </a:lnTo>
                    <a:lnTo>
                      <a:pt x="718" y="30"/>
                    </a:lnTo>
                    <a:lnTo>
                      <a:pt x="806" y="0"/>
                    </a:lnTo>
                    <a:lnTo>
                      <a:pt x="844" y="0"/>
                    </a:lnTo>
                    <a:lnTo>
                      <a:pt x="912" y="72"/>
                    </a:lnTo>
                    <a:lnTo>
                      <a:pt x="974" y="84"/>
                    </a:lnTo>
                    <a:lnTo>
                      <a:pt x="1010" y="140"/>
                    </a:lnTo>
                    <a:lnTo>
                      <a:pt x="1044" y="154"/>
                    </a:lnTo>
                    <a:lnTo>
                      <a:pt x="1072" y="118"/>
                    </a:lnTo>
                    <a:lnTo>
                      <a:pt x="1120" y="110"/>
                    </a:lnTo>
                    <a:lnTo>
                      <a:pt x="1158" y="124"/>
                    </a:lnTo>
                    <a:lnTo>
                      <a:pt x="1126" y="166"/>
                    </a:lnTo>
                    <a:lnTo>
                      <a:pt x="1172" y="188"/>
                    </a:lnTo>
                    <a:lnTo>
                      <a:pt x="1142" y="238"/>
                    </a:lnTo>
                    <a:lnTo>
                      <a:pt x="1146" y="280"/>
                    </a:lnTo>
                    <a:lnTo>
                      <a:pt x="1212" y="286"/>
                    </a:lnTo>
                    <a:lnTo>
                      <a:pt x="1314" y="336"/>
                    </a:lnTo>
                    <a:lnTo>
                      <a:pt x="1316" y="446"/>
                    </a:lnTo>
                    <a:lnTo>
                      <a:pt x="1302" y="462"/>
                    </a:lnTo>
                    <a:lnTo>
                      <a:pt x="1262" y="462"/>
                    </a:lnTo>
                    <a:lnTo>
                      <a:pt x="1238" y="496"/>
                    </a:lnTo>
                    <a:lnTo>
                      <a:pt x="1282" y="536"/>
                    </a:lnTo>
                    <a:lnTo>
                      <a:pt x="1282" y="578"/>
                    </a:lnTo>
                    <a:lnTo>
                      <a:pt x="1328" y="596"/>
                    </a:lnTo>
                    <a:lnTo>
                      <a:pt x="1332" y="616"/>
                    </a:lnTo>
                    <a:lnTo>
                      <a:pt x="1278" y="636"/>
                    </a:lnTo>
                    <a:lnTo>
                      <a:pt x="1270" y="672"/>
                    </a:lnTo>
                    <a:lnTo>
                      <a:pt x="1320" y="738"/>
                    </a:lnTo>
                    <a:lnTo>
                      <a:pt x="1328" y="798"/>
                    </a:lnTo>
                    <a:lnTo>
                      <a:pt x="1364" y="824"/>
                    </a:lnTo>
                    <a:lnTo>
                      <a:pt x="1320" y="856"/>
                    </a:lnTo>
                    <a:lnTo>
                      <a:pt x="1192" y="852"/>
                    </a:lnTo>
                    <a:lnTo>
                      <a:pt x="1182" y="776"/>
                    </a:lnTo>
                    <a:lnTo>
                      <a:pt x="1126" y="732"/>
                    </a:lnTo>
                    <a:lnTo>
                      <a:pt x="1084" y="480"/>
                    </a:lnTo>
                    <a:lnTo>
                      <a:pt x="1050" y="424"/>
                    </a:lnTo>
                    <a:lnTo>
                      <a:pt x="1036" y="434"/>
                    </a:lnTo>
                    <a:lnTo>
                      <a:pt x="1020" y="516"/>
                    </a:lnTo>
                    <a:lnTo>
                      <a:pt x="1064" y="606"/>
                    </a:lnTo>
                    <a:lnTo>
                      <a:pt x="1058" y="628"/>
                    </a:lnTo>
                    <a:lnTo>
                      <a:pt x="1002" y="632"/>
                    </a:lnTo>
                    <a:lnTo>
                      <a:pt x="962" y="686"/>
                    </a:lnTo>
                    <a:lnTo>
                      <a:pt x="930" y="692"/>
                    </a:lnTo>
                    <a:lnTo>
                      <a:pt x="918" y="718"/>
                    </a:lnTo>
                    <a:lnTo>
                      <a:pt x="938" y="752"/>
                    </a:lnTo>
                    <a:lnTo>
                      <a:pt x="992" y="790"/>
                    </a:lnTo>
                    <a:lnTo>
                      <a:pt x="996" y="814"/>
                    </a:lnTo>
                    <a:lnTo>
                      <a:pt x="976" y="864"/>
                    </a:lnTo>
                    <a:lnTo>
                      <a:pt x="1018" y="922"/>
                    </a:lnTo>
                    <a:lnTo>
                      <a:pt x="996" y="964"/>
                    </a:lnTo>
                    <a:lnTo>
                      <a:pt x="922" y="976"/>
                    </a:lnTo>
                    <a:lnTo>
                      <a:pt x="886" y="946"/>
                    </a:lnTo>
                    <a:lnTo>
                      <a:pt x="912" y="900"/>
                    </a:lnTo>
                    <a:lnTo>
                      <a:pt x="900" y="844"/>
                    </a:lnTo>
                    <a:lnTo>
                      <a:pt x="916" y="798"/>
                    </a:lnTo>
                    <a:lnTo>
                      <a:pt x="896" y="768"/>
                    </a:lnTo>
                    <a:lnTo>
                      <a:pt x="852" y="750"/>
                    </a:lnTo>
                    <a:lnTo>
                      <a:pt x="840" y="814"/>
                    </a:lnTo>
                    <a:lnTo>
                      <a:pt x="772" y="834"/>
                    </a:lnTo>
                    <a:lnTo>
                      <a:pt x="762" y="824"/>
                    </a:lnTo>
                    <a:lnTo>
                      <a:pt x="792" y="772"/>
                    </a:lnTo>
                    <a:lnTo>
                      <a:pt x="728" y="702"/>
                    </a:lnTo>
                    <a:lnTo>
                      <a:pt x="770" y="682"/>
                    </a:lnTo>
                    <a:lnTo>
                      <a:pt x="752" y="604"/>
                    </a:lnTo>
                    <a:lnTo>
                      <a:pt x="732" y="582"/>
                    </a:lnTo>
                    <a:lnTo>
                      <a:pt x="670" y="574"/>
                    </a:lnTo>
                    <a:lnTo>
                      <a:pt x="636" y="508"/>
                    </a:lnTo>
                    <a:lnTo>
                      <a:pt x="582" y="516"/>
                    </a:lnTo>
                    <a:lnTo>
                      <a:pt x="530" y="630"/>
                    </a:lnTo>
                    <a:lnTo>
                      <a:pt x="494" y="640"/>
                    </a:lnTo>
                    <a:lnTo>
                      <a:pt x="456" y="534"/>
                    </a:lnTo>
                    <a:lnTo>
                      <a:pt x="434" y="516"/>
                    </a:lnTo>
                    <a:lnTo>
                      <a:pt x="438" y="486"/>
                    </a:lnTo>
                    <a:lnTo>
                      <a:pt x="406" y="470"/>
                    </a:lnTo>
                    <a:lnTo>
                      <a:pt x="286" y="502"/>
                    </a:lnTo>
                    <a:lnTo>
                      <a:pt x="226" y="474"/>
                    </a:lnTo>
                    <a:lnTo>
                      <a:pt x="192" y="484"/>
                    </a:lnTo>
                    <a:lnTo>
                      <a:pt x="122" y="376"/>
                    </a:lnTo>
                    <a:lnTo>
                      <a:pt x="96" y="364"/>
                    </a:lnTo>
                    <a:lnTo>
                      <a:pt x="4" y="248"/>
                    </a:lnTo>
                    <a:lnTo>
                      <a:pt x="0" y="21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327560" y="5424480"/>
              <a:ext cx="857160" cy="892080"/>
              <a:chOff x="4327560" y="5424480"/>
              <a:chExt cx="857160" cy="892080"/>
            </a:xfrm>
          </p:grpSpPr>
          <p:sp>
            <p:nvSpPr>
              <p:cNvPr id="220" name=""/>
              <p:cNvSpPr/>
              <p:nvPr/>
            </p:nvSpPr>
            <p:spPr>
              <a:xfrm>
                <a:off x="4327560" y="5424480"/>
                <a:ext cx="857160" cy="892080"/>
              </a:xfrm>
              <a:custGeom>
                <a:avLst/>
                <a:gdLst/>
                <a:ahLst/>
                <a:rect l="l" t="t" r="r" b="b"/>
                <a:pathLst>
                  <a:path w="540" h="562">
                    <a:moveTo>
                      <a:pt x="0" y="192"/>
                    </a:moveTo>
                    <a:lnTo>
                      <a:pt x="4" y="164"/>
                    </a:lnTo>
                    <a:lnTo>
                      <a:pt x="48" y="122"/>
                    </a:lnTo>
                    <a:lnTo>
                      <a:pt x="24" y="102"/>
                    </a:lnTo>
                    <a:lnTo>
                      <a:pt x="36" y="72"/>
                    </a:lnTo>
                    <a:lnTo>
                      <a:pt x="16" y="50"/>
                    </a:lnTo>
                    <a:lnTo>
                      <a:pt x="28" y="24"/>
                    </a:lnTo>
                    <a:lnTo>
                      <a:pt x="86" y="22"/>
                    </a:lnTo>
                    <a:lnTo>
                      <a:pt x="162" y="0"/>
                    </a:lnTo>
                    <a:lnTo>
                      <a:pt x="172" y="100"/>
                    </a:lnTo>
                    <a:lnTo>
                      <a:pt x="220" y="178"/>
                    </a:lnTo>
                    <a:lnTo>
                      <a:pt x="256" y="180"/>
                    </a:lnTo>
                    <a:lnTo>
                      <a:pt x="274" y="128"/>
                    </a:lnTo>
                    <a:lnTo>
                      <a:pt x="292" y="122"/>
                    </a:lnTo>
                    <a:lnTo>
                      <a:pt x="304" y="166"/>
                    </a:lnTo>
                    <a:lnTo>
                      <a:pt x="292" y="232"/>
                    </a:lnTo>
                    <a:lnTo>
                      <a:pt x="232" y="258"/>
                    </a:lnTo>
                    <a:lnTo>
                      <a:pt x="214" y="316"/>
                    </a:lnTo>
                    <a:lnTo>
                      <a:pt x="236" y="328"/>
                    </a:lnTo>
                    <a:lnTo>
                      <a:pt x="274" y="294"/>
                    </a:lnTo>
                    <a:lnTo>
                      <a:pt x="332" y="292"/>
                    </a:lnTo>
                    <a:lnTo>
                      <a:pt x="416" y="240"/>
                    </a:lnTo>
                    <a:lnTo>
                      <a:pt x="472" y="236"/>
                    </a:lnTo>
                    <a:lnTo>
                      <a:pt x="540" y="276"/>
                    </a:lnTo>
                    <a:lnTo>
                      <a:pt x="514" y="304"/>
                    </a:lnTo>
                    <a:lnTo>
                      <a:pt x="438" y="310"/>
                    </a:lnTo>
                    <a:lnTo>
                      <a:pt x="404" y="338"/>
                    </a:lnTo>
                    <a:lnTo>
                      <a:pt x="350" y="356"/>
                    </a:lnTo>
                    <a:lnTo>
                      <a:pt x="340" y="386"/>
                    </a:lnTo>
                    <a:lnTo>
                      <a:pt x="442" y="506"/>
                    </a:lnTo>
                    <a:lnTo>
                      <a:pt x="434" y="532"/>
                    </a:lnTo>
                    <a:lnTo>
                      <a:pt x="416" y="532"/>
                    </a:lnTo>
                    <a:lnTo>
                      <a:pt x="304" y="424"/>
                    </a:lnTo>
                    <a:lnTo>
                      <a:pt x="294" y="464"/>
                    </a:lnTo>
                    <a:lnTo>
                      <a:pt x="322" y="520"/>
                    </a:lnTo>
                    <a:lnTo>
                      <a:pt x="314" y="544"/>
                    </a:lnTo>
                    <a:lnTo>
                      <a:pt x="266" y="518"/>
                    </a:lnTo>
                    <a:lnTo>
                      <a:pt x="226" y="562"/>
                    </a:lnTo>
                    <a:lnTo>
                      <a:pt x="200" y="548"/>
                    </a:lnTo>
                    <a:lnTo>
                      <a:pt x="130" y="544"/>
                    </a:lnTo>
                    <a:lnTo>
                      <a:pt x="90" y="516"/>
                    </a:lnTo>
                    <a:lnTo>
                      <a:pt x="126" y="476"/>
                    </a:lnTo>
                    <a:lnTo>
                      <a:pt x="144" y="458"/>
                    </a:lnTo>
                    <a:lnTo>
                      <a:pt x="160" y="352"/>
                    </a:lnTo>
                    <a:lnTo>
                      <a:pt x="138" y="204"/>
                    </a:lnTo>
                    <a:lnTo>
                      <a:pt x="112" y="170"/>
                    </a:lnTo>
                    <a:lnTo>
                      <a:pt x="82" y="166"/>
                    </a:lnTo>
                    <a:lnTo>
                      <a:pt x="0" y="192"/>
                    </a:lnTo>
                    <a:close/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27560" y="5424480"/>
                <a:ext cx="857160" cy="892080"/>
              </a:xfrm>
              <a:custGeom>
                <a:avLst/>
                <a:gdLst/>
                <a:ahLst/>
                <a:rect l="l" t="t" r="r" b="b"/>
                <a:pathLst>
                  <a:path w="540" h="562">
                    <a:moveTo>
                      <a:pt x="0" y="192"/>
                    </a:moveTo>
                    <a:lnTo>
                      <a:pt x="4" y="164"/>
                    </a:lnTo>
                    <a:lnTo>
                      <a:pt x="48" y="122"/>
                    </a:lnTo>
                    <a:lnTo>
                      <a:pt x="24" y="102"/>
                    </a:lnTo>
                    <a:lnTo>
                      <a:pt x="36" y="72"/>
                    </a:lnTo>
                    <a:lnTo>
                      <a:pt x="16" y="50"/>
                    </a:lnTo>
                    <a:lnTo>
                      <a:pt x="28" y="24"/>
                    </a:lnTo>
                    <a:lnTo>
                      <a:pt x="86" y="22"/>
                    </a:lnTo>
                    <a:lnTo>
                      <a:pt x="162" y="0"/>
                    </a:lnTo>
                    <a:lnTo>
                      <a:pt x="172" y="100"/>
                    </a:lnTo>
                    <a:lnTo>
                      <a:pt x="220" y="178"/>
                    </a:lnTo>
                    <a:lnTo>
                      <a:pt x="256" y="180"/>
                    </a:lnTo>
                    <a:lnTo>
                      <a:pt x="274" y="128"/>
                    </a:lnTo>
                    <a:lnTo>
                      <a:pt x="292" y="122"/>
                    </a:lnTo>
                    <a:lnTo>
                      <a:pt x="304" y="166"/>
                    </a:lnTo>
                    <a:lnTo>
                      <a:pt x="292" y="232"/>
                    </a:lnTo>
                    <a:lnTo>
                      <a:pt x="232" y="258"/>
                    </a:lnTo>
                    <a:lnTo>
                      <a:pt x="214" y="316"/>
                    </a:lnTo>
                    <a:lnTo>
                      <a:pt x="236" y="328"/>
                    </a:lnTo>
                    <a:lnTo>
                      <a:pt x="274" y="294"/>
                    </a:lnTo>
                    <a:lnTo>
                      <a:pt x="332" y="292"/>
                    </a:lnTo>
                    <a:lnTo>
                      <a:pt x="416" y="240"/>
                    </a:lnTo>
                    <a:lnTo>
                      <a:pt x="472" y="236"/>
                    </a:lnTo>
                    <a:lnTo>
                      <a:pt x="540" y="276"/>
                    </a:lnTo>
                    <a:lnTo>
                      <a:pt x="514" y="304"/>
                    </a:lnTo>
                    <a:lnTo>
                      <a:pt x="438" y="310"/>
                    </a:lnTo>
                    <a:lnTo>
                      <a:pt x="404" y="338"/>
                    </a:lnTo>
                    <a:lnTo>
                      <a:pt x="350" y="356"/>
                    </a:lnTo>
                    <a:lnTo>
                      <a:pt x="340" y="386"/>
                    </a:lnTo>
                    <a:lnTo>
                      <a:pt x="442" y="506"/>
                    </a:lnTo>
                    <a:lnTo>
                      <a:pt x="434" y="532"/>
                    </a:lnTo>
                    <a:lnTo>
                      <a:pt x="416" y="532"/>
                    </a:lnTo>
                    <a:lnTo>
                      <a:pt x="304" y="424"/>
                    </a:lnTo>
                    <a:lnTo>
                      <a:pt x="294" y="464"/>
                    </a:lnTo>
                    <a:lnTo>
                      <a:pt x="322" y="520"/>
                    </a:lnTo>
                    <a:lnTo>
                      <a:pt x="314" y="544"/>
                    </a:lnTo>
                    <a:lnTo>
                      <a:pt x="266" y="518"/>
                    </a:lnTo>
                    <a:lnTo>
                      <a:pt x="226" y="562"/>
                    </a:lnTo>
                    <a:lnTo>
                      <a:pt x="200" y="548"/>
                    </a:lnTo>
                    <a:lnTo>
                      <a:pt x="130" y="544"/>
                    </a:lnTo>
                    <a:lnTo>
                      <a:pt x="90" y="516"/>
                    </a:lnTo>
                    <a:lnTo>
                      <a:pt x="126" y="476"/>
                    </a:lnTo>
                    <a:lnTo>
                      <a:pt x="144" y="458"/>
                    </a:lnTo>
                    <a:lnTo>
                      <a:pt x="160" y="352"/>
                    </a:lnTo>
                    <a:lnTo>
                      <a:pt x="138" y="204"/>
                    </a:lnTo>
                    <a:lnTo>
                      <a:pt x="112" y="170"/>
                    </a:lnTo>
                    <a:lnTo>
                      <a:pt x="82" y="166"/>
                    </a:lnTo>
                    <a:lnTo>
                      <a:pt x="0" y="19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7184880" y="3090960"/>
              <a:ext cx="489240" cy="558720"/>
              <a:chOff x="7184880" y="3090960"/>
              <a:chExt cx="489240" cy="558720"/>
            </a:xfrm>
          </p:grpSpPr>
          <p:sp>
            <p:nvSpPr>
              <p:cNvPr id="223" name=""/>
              <p:cNvSpPr/>
              <p:nvPr/>
            </p:nvSpPr>
            <p:spPr>
              <a:xfrm>
                <a:off x="7184880" y="3090960"/>
                <a:ext cx="489240" cy="558720"/>
              </a:xfrm>
              <a:custGeom>
                <a:avLst/>
                <a:gdLst/>
                <a:ahLst/>
                <a:rect l="l" t="t" r="r" b="b"/>
                <a:pathLst>
                  <a:path w="308" h="352">
                    <a:moveTo>
                      <a:pt x="0" y="44"/>
                    </a:moveTo>
                    <a:lnTo>
                      <a:pt x="62" y="190"/>
                    </a:lnTo>
                    <a:lnTo>
                      <a:pt x="40" y="256"/>
                    </a:lnTo>
                    <a:lnTo>
                      <a:pt x="78" y="316"/>
                    </a:lnTo>
                    <a:lnTo>
                      <a:pt x="128" y="348"/>
                    </a:lnTo>
                    <a:lnTo>
                      <a:pt x="206" y="338"/>
                    </a:lnTo>
                    <a:lnTo>
                      <a:pt x="214" y="336"/>
                    </a:lnTo>
                    <a:lnTo>
                      <a:pt x="258" y="352"/>
                    </a:lnTo>
                    <a:lnTo>
                      <a:pt x="296" y="258"/>
                    </a:lnTo>
                    <a:lnTo>
                      <a:pt x="232" y="176"/>
                    </a:lnTo>
                    <a:lnTo>
                      <a:pt x="216" y="114"/>
                    </a:lnTo>
                    <a:lnTo>
                      <a:pt x="188" y="78"/>
                    </a:lnTo>
                    <a:lnTo>
                      <a:pt x="210" y="68"/>
                    </a:lnTo>
                    <a:lnTo>
                      <a:pt x="290" y="112"/>
                    </a:lnTo>
                    <a:lnTo>
                      <a:pt x="308" y="94"/>
                    </a:lnTo>
                    <a:lnTo>
                      <a:pt x="252" y="48"/>
                    </a:lnTo>
                    <a:lnTo>
                      <a:pt x="162" y="8"/>
                    </a:lnTo>
                    <a:lnTo>
                      <a:pt x="74" y="24"/>
                    </a:lnTo>
                    <a:lnTo>
                      <a:pt x="52" y="0"/>
                    </a:lnTo>
                    <a:lnTo>
                      <a:pt x="12" y="8"/>
                    </a:lnTo>
                    <a:lnTo>
                      <a:pt x="0" y="44"/>
                    </a:lnTo>
                    <a:close/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184880" y="3090960"/>
                <a:ext cx="489240" cy="558720"/>
              </a:xfrm>
              <a:custGeom>
                <a:avLst/>
                <a:gdLst/>
                <a:ahLst/>
                <a:rect l="l" t="t" r="r" b="b"/>
                <a:pathLst>
                  <a:path w="308" h="352">
                    <a:moveTo>
                      <a:pt x="0" y="44"/>
                    </a:moveTo>
                    <a:lnTo>
                      <a:pt x="62" y="190"/>
                    </a:lnTo>
                    <a:lnTo>
                      <a:pt x="40" y="256"/>
                    </a:lnTo>
                    <a:lnTo>
                      <a:pt x="78" y="316"/>
                    </a:lnTo>
                    <a:lnTo>
                      <a:pt x="128" y="348"/>
                    </a:lnTo>
                    <a:lnTo>
                      <a:pt x="206" y="338"/>
                    </a:lnTo>
                    <a:lnTo>
                      <a:pt x="214" y="336"/>
                    </a:lnTo>
                    <a:lnTo>
                      <a:pt x="258" y="352"/>
                    </a:lnTo>
                    <a:lnTo>
                      <a:pt x="296" y="258"/>
                    </a:lnTo>
                    <a:lnTo>
                      <a:pt x="232" y="176"/>
                    </a:lnTo>
                    <a:lnTo>
                      <a:pt x="216" y="114"/>
                    </a:lnTo>
                    <a:lnTo>
                      <a:pt x="188" y="78"/>
                    </a:lnTo>
                    <a:lnTo>
                      <a:pt x="210" y="68"/>
                    </a:lnTo>
                    <a:lnTo>
                      <a:pt x="290" y="112"/>
                    </a:lnTo>
                    <a:lnTo>
                      <a:pt x="308" y="94"/>
                    </a:lnTo>
                    <a:lnTo>
                      <a:pt x="252" y="48"/>
                    </a:lnTo>
                    <a:lnTo>
                      <a:pt x="162" y="8"/>
                    </a:lnTo>
                    <a:lnTo>
                      <a:pt x="74" y="24"/>
                    </a:lnTo>
                    <a:lnTo>
                      <a:pt x="52" y="0"/>
                    </a:lnTo>
                    <a:lnTo>
                      <a:pt x="12" y="8"/>
                    </a:lnTo>
                    <a:lnTo>
                      <a:pt x="0" y="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677000" y="3182760"/>
              <a:ext cx="702000" cy="574920"/>
              <a:chOff x="7677000" y="3182760"/>
              <a:chExt cx="702000" cy="574920"/>
            </a:xfrm>
          </p:grpSpPr>
          <p:sp>
            <p:nvSpPr>
              <p:cNvPr id="226" name=""/>
              <p:cNvSpPr/>
              <p:nvPr/>
            </p:nvSpPr>
            <p:spPr>
              <a:xfrm>
                <a:off x="7677000" y="3182760"/>
                <a:ext cx="702000" cy="574920"/>
              </a:xfrm>
              <a:custGeom>
                <a:avLst/>
                <a:gdLst/>
                <a:ahLst/>
                <a:rect l="l" t="t" r="r" b="b"/>
                <a:pathLst>
                  <a:path w="442" h="362">
                    <a:moveTo>
                      <a:pt x="0" y="104"/>
                    </a:moveTo>
                    <a:lnTo>
                      <a:pt x="2" y="70"/>
                    </a:lnTo>
                    <a:lnTo>
                      <a:pt x="32" y="62"/>
                    </a:lnTo>
                    <a:lnTo>
                      <a:pt x="58" y="28"/>
                    </a:lnTo>
                    <a:lnTo>
                      <a:pt x="100" y="30"/>
                    </a:lnTo>
                    <a:lnTo>
                      <a:pt x="144" y="0"/>
                    </a:lnTo>
                    <a:lnTo>
                      <a:pt x="186" y="2"/>
                    </a:lnTo>
                    <a:lnTo>
                      <a:pt x="250" y="66"/>
                    </a:lnTo>
                    <a:lnTo>
                      <a:pt x="402" y="126"/>
                    </a:lnTo>
                    <a:lnTo>
                      <a:pt x="442" y="156"/>
                    </a:lnTo>
                    <a:lnTo>
                      <a:pt x="356" y="190"/>
                    </a:lnTo>
                    <a:lnTo>
                      <a:pt x="320" y="238"/>
                    </a:lnTo>
                    <a:lnTo>
                      <a:pt x="264" y="218"/>
                    </a:lnTo>
                    <a:lnTo>
                      <a:pt x="254" y="234"/>
                    </a:lnTo>
                    <a:lnTo>
                      <a:pt x="278" y="286"/>
                    </a:lnTo>
                    <a:lnTo>
                      <a:pt x="248" y="348"/>
                    </a:lnTo>
                    <a:lnTo>
                      <a:pt x="224" y="362"/>
                    </a:lnTo>
                    <a:lnTo>
                      <a:pt x="208" y="348"/>
                    </a:lnTo>
                    <a:lnTo>
                      <a:pt x="212" y="310"/>
                    </a:lnTo>
                    <a:lnTo>
                      <a:pt x="178" y="286"/>
                    </a:lnTo>
                    <a:lnTo>
                      <a:pt x="198" y="240"/>
                    </a:lnTo>
                    <a:lnTo>
                      <a:pt x="184" y="218"/>
                    </a:lnTo>
                    <a:lnTo>
                      <a:pt x="160" y="178"/>
                    </a:lnTo>
                    <a:lnTo>
                      <a:pt x="138" y="220"/>
                    </a:lnTo>
                    <a:lnTo>
                      <a:pt x="78" y="242"/>
                    </a:lnTo>
                    <a:lnTo>
                      <a:pt x="52" y="218"/>
                    </a:lnTo>
                    <a:lnTo>
                      <a:pt x="60" y="144"/>
                    </a:lnTo>
                    <a:lnTo>
                      <a:pt x="0" y="104"/>
                    </a:lnTo>
                    <a:close/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77000" y="3182760"/>
                <a:ext cx="702000" cy="574920"/>
              </a:xfrm>
              <a:custGeom>
                <a:avLst/>
                <a:gdLst/>
                <a:ahLst/>
                <a:rect l="l" t="t" r="r" b="b"/>
                <a:pathLst>
                  <a:path w="442" h="362">
                    <a:moveTo>
                      <a:pt x="0" y="104"/>
                    </a:moveTo>
                    <a:lnTo>
                      <a:pt x="2" y="70"/>
                    </a:lnTo>
                    <a:lnTo>
                      <a:pt x="32" y="62"/>
                    </a:lnTo>
                    <a:lnTo>
                      <a:pt x="58" y="28"/>
                    </a:lnTo>
                    <a:lnTo>
                      <a:pt x="100" y="30"/>
                    </a:lnTo>
                    <a:lnTo>
                      <a:pt x="144" y="0"/>
                    </a:lnTo>
                    <a:lnTo>
                      <a:pt x="186" y="2"/>
                    </a:lnTo>
                    <a:lnTo>
                      <a:pt x="250" y="66"/>
                    </a:lnTo>
                    <a:lnTo>
                      <a:pt x="402" y="126"/>
                    </a:lnTo>
                    <a:lnTo>
                      <a:pt x="442" y="156"/>
                    </a:lnTo>
                    <a:lnTo>
                      <a:pt x="356" y="190"/>
                    </a:lnTo>
                    <a:lnTo>
                      <a:pt x="320" y="238"/>
                    </a:lnTo>
                    <a:lnTo>
                      <a:pt x="264" y="218"/>
                    </a:lnTo>
                    <a:lnTo>
                      <a:pt x="254" y="234"/>
                    </a:lnTo>
                    <a:lnTo>
                      <a:pt x="278" y="286"/>
                    </a:lnTo>
                    <a:lnTo>
                      <a:pt x="248" y="348"/>
                    </a:lnTo>
                    <a:lnTo>
                      <a:pt x="224" y="362"/>
                    </a:lnTo>
                    <a:lnTo>
                      <a:pt x="208" y="348"/>
                    </a:lnTo>
                    <a:lnTo>
                      <a:pt x="212" y="310"/>
                    </a:lnTo>
                    <a:lnTo>
                      <a:pt x="178" y="286"/>
                    </a:lnTo>
                    <a:lnTo>
                      <a:pt x="198" y="240"/>
                    </a:lnTo>
                    <a:lnTo>
                      <a:pt x="184" y="218"/>
                    </a:lnTo>
                    <a:lnTo>
                      <a:pt x="160" y="178"/>
                    </a:lnTo>
                    <a:lnTo>
                      <a:pt x="138" y="220"/>
                    </a:lnTo>
                    <a:lnTo>
                      <a:pt x="78" y="242"/>
                    </a:lnTo>
                    <a:lnTo>
                      <a:pt x="52" y="218"/>
                    </a:lnTo>
                    <a:lnTo>
                      <a:pt x="60" y="144"/>
                    </a:lnTo>
                    <a:lnTo>
                      <a:pt x="0" y="1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67120" y="3478320"/>
              <a:ext cx="485640" cy="577800"/>
              <a:chOff x="3867120" y="3478320"/>
              <a:chExt cx="485640" cy="577800"/>
            </a:xfrm>
          </p:grpSpPr>
          <p:sp>
            <p:nvSpPr>
              <p:cNvPr id="229" name=""/>
              <p:cNvSpPr/>
              <p:nvPr/>
            </p:nvSpPr>
            <p:spPr>
              <a:xfrm>
                <a:off x="3867120" y="3478320"/>
                <a:ext cx="485640" cy="577800"/>
              </a:xfrm>
              <a:custGeom>
                <a:avLst/>
                <a:gdLst/>
                <a:ahLst/>
                <a:rect l="l" t="t" r="r" b="b"/>
                <a:pathLst>
                  <a:path w="306" h="364">
                    <a:moveTo>
                      <a:pt x="0" y="62"/>
                    </a:moveTo>
                    <a:lnTo>
                      <a:pt x="60" y="38"/>
                    </a:lnTo>
                    <a:lnTo>
                      <a:pt x="126" y="42"/>
                    </a:lnTo>
                    <a:lnTo>
                      <a:pt x="198" y="0"/>
                    </a:lnTo>
                    <a:lnTo>
                      <a:pt x="264" y="14"/>
                    </a:lnTo>
                    <a:lnTo>
                      <a:pt x="280" y="34"/>
                    </a:lnTo>
                    <a:lnTo>
                      <a:pt x="260" y="76"/>
                    </a:lnTo>
                    <a:lnTo>
                      <a:pt x="306" y="144"/>
                    </a:lnTo>
                    <a:lnTo>
                      <a:pt x="258" y="336"/>
                    </a:lnTo>
                    <a:lnTo>
                      <a:pt x="198" y="332"/>
                    </a:lnTo>
                    <a:lnTo>
                      <a:pt x="146" y="364"/>
                    </a:lnTo>
                    <a:lnTo>
                      <a:pt x="124" y="332"/>
                    </a:lnTo>
                    <a:lnTo>
                      <a:pt x="146" y="270"/>
                    </a:lnTo>
                    <a:lnTo>
                      <a:pt x="112" y="250"/>
                    </a:lnTo>
                    <a:lnTo>
                      <a:pt x="130" y="206"/>
                    </a:lnTo>
                    <a:lnTo>
                      <a:pt x="66" y="188"/>
                    </a:lnTo>
                    <a:lnTo>
                      <a:pt x="48" y="102"/>
                    </a:lnTo>
                    <a:lnTo>
                      <a:pt x="0" y="62"/>
                    </a:lnTo>
                    <a:close/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67120" y="3478320"/>
                <a:ext cx="485640" cy="577800"/>
              </a:xfrm>
              <a:custGeom>
                <a:avLst/>
                <a:gdLst/>
                <a:ahLst/>
                <a:rect l="l" t="t" r="r" b="b"/>
                <a:pathLst>
                  <a:path w="306" h="364">
                    <a:moveTo>
                      <a:pt x="0" y="62"/>
                    </a:moveTo>
                    <a:lnTo>
                      <a:pt x="60" y="38"/>
                    </a:lnTo>
                    <a:lnTo>
                      <a:pt x="126" y="42"/>
                    </a:lnTo>
                    <a:lnTo>
                      <a:pt x="198" y="0"/>
                    </a:lnTo>
                    <a:lnTo>
                      <a:pt x="264" y="14"/>
                    </a:lnTo>
                    <a:lnTo>
                      <a:pt x="280" y="34"/>
                    </a:lnTo>
                    <a:lnTo>
                      <a:pt x="260" y="76"/>
                    </a:lnTo>
                    <a:lnTo>
                      <a:pt x="306" y="144"/>
                    </a:lnTo>
                    <a:lnTo>
                      <a:pt x="258" y="336"/>
                    </a:lnTo>
                    <a:lnTo>
                      <a:pt x="198" y="332"/>
                    </a:lnTo>
                    <a:lnTo>
                      <a:pt x="146" y="364"/>
                    </a:lnTo>
                    <a:lnTo>
                      <a:pt x="124" y="332"/>
                    </a:lnTo>
                    <a:lnTo>
                      <a:pt x="146" y="270"/>
                    </a:lnTo>
                    <a:lnTo>
                      <a:pt x="112" y="250"/>
                    </a:lnTo>
                    <a:lnTo>
                      <a:pt x="130" y="206"/>
                    </a:lnTo>
                    <a:lnTo>
                      <a:pt x="66" y="188"/>
                    </a:lnTo>
                    <a:lnTo>
                      <a:pt x="48" y="102"/>
                    </a:lnTo>
                    <a:lnTo>
                      <a:pt x="0" y="6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550200" y="6218280"/>
              <a:ext cx="380880" cy="406440"/>
              <a:chOff x="6550200" y="6218280"/>
              <a:chExt cx="380880" cy="406440"/>
            </a:xfrm>
          </p:grpSpPr>
          <p:sp>
            <p:nvSpPr>
              <p:cNvPr id="232" name=""/>
              <p:cNvSpPr/>
              <p:nvPr/>
            </p:nvSpPr>
            <p:spPr>
              <a:xfrm>
                <a:off x="6550200" y="6218280"/>
                <a:ext cx="380880" cy="406440"/>
              </a:xfrm>
              <a:custGeom>
                <a:avLst/>
                <a:gdLst/>
                <a:ahLst/>
                <a:rect l="l" t="t" r="r" b="b"/>
                <a:pathLst>
                  <a:path w="240" h="256">
                    <a:moveTo>
                      <a:pt x="0" y="144"/>
                    </a:moveTo>
                    <a:lnTo>
                      <a:pt x="2" y="116"/>
                    </a:lnTo>
                    <a:lnTo>
                      <a:pt x="66" y="82"/>
                    </a:lnTo>
                    <a:lnTo>
                      <a:pt x="140" y="0"/>
                    </a:lnTo>
                    <a:lnTo>
                      <a:pt x="226" y="82"/>
                    </a:lnTo>
                    <a:lnTo>
                      <a:pt x="212" y="126"/>
                    </a:lnTo>
                    <a:lnTo>
                      <a:pt x="240" y="188"/>
                    </a:lnTo>
                    <a:lnTo>
                      <a:pt x="176" y="194"/>
                    </a:lnTo>
                    <a:lnTo>
                      <a:pt x="128" y="176"/>
                    </a:lnTo>
                    <a:lnTo>
                      <a:pt x="82" y="250"/>
                    </a:lnTo>
                    <a:lnTo>
                      <a:pt x="50" y="256"/>
                    </a:lnTo>
                    <a:lnTo>
                      <a:pt x="16" y="202"/>
                    </a:lnTo>
                    <a:lnTo>
                      <a:pt x="32" y="172"/>
                    </a:lnTo>
                    <a:lnTo>
                      <a:pt x="0" y="144"/>
                    </a:lnTo>
                    <a:close/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50200" y="6218280"/>
                <a:ext cx="380880" cy="406440"/>
              </a:xfrm>
              <a:custGeom>
                <a:avLst/>
                <a:gdLst/>
                <a:ahLst/>
                <a:rect l="l" t="t" r="r" b="b"/>
                <a:pathLst>
                  <a:path w="240" h="256">
                    <a:moveTo>
                      <a:pt x="0" y="144"/>
                    </a:moveTo>
                    <a:lnTo>
                      <a:pt x="2" y="116"/>
                    </a:lnTo>
                    <a:lnTo>
                      <a:pt x="66" y="82"/>
                    </a:lnTo>
                    <a:lnTo>
                      <a:pt x="140" y="0"/>
                    </a:lnTo>
                    <a:lnTo>
                      <a:pt x="226" y="82"/>
                    </a:lnTo>
                    <a:lnTo>
                      <a:pt x="212" y="126"/>
                    </a:lnTo>
                    <a:lnTo>
                      <a:pt x="240" y="188"/>
                    </a:lnTo>
                    <a:lnTo>
                      <a:pt x="176" y="194"/>
                    </a:lnTo>
                    <a:lnTo>
                      <a:pt x="128" y="176"/>
                    </a:lnTo>
                    <a:lnTo>
                      <a:pt x="82" y="250"/>
                    </a:lnTo>
                    <a:lnTo>
                      <a:pt x="50" y="256"/>
                    </a:lnTo>
                    <a:lnTo>
                      <a:pt x="16" y="202"/>
                    </a:lnTo>
                    <a:lnTo>
                      <a:pt x="32" y="172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905520" y="312840"/>
              <a:ext cx="460440" cy="342720"/>
              <a:chOff x="6905520" y="312840"/>
              <a:chExt cx="460440" cy="342720"/>
            </a:xfrm>
          </p:grpSpPr>
          <p:sp>
            <p:nvSpPr>
              <p:cNvPr id="235" name=""/>
              <p:cNvSpPr/>
              <p:nvPr/>
            </p:nvSpPr>
            <p:spPr>
              <a:xfrm>
                <a:off x="6905520" y="312840"/>
                <a:ext cx="460440" cy="342720"/>
              </a:xfrm>
              <a:custGeom>
                <a:avLst/>
                <a:gdLst/>
                <a:ahLst/>
                <a:rect l="l" t="t" r="r" b="b"/>
                <a:pathLst>
                  <a:path w="290" h="216">
                    <a:moveTo>
                      <a:pt x="0" y="202"/>
                    </a:moveTo>
                    <a:lnTo>
                      <a:pt x="18" y="212"/>
                    </a:lnTo>
                    <a:lnTo>
                      <a:pt x="88" y="190"/>
                    </a:lnTo>
                    <a:lnTo>
                      <a:pt x="140" y="216"/>
                    </a:lnTo>
                    <a:lnTo>
                      <a:pt x="160" y="202"/>
                    </a:lnTo>
                    <a:lnTo>
                      <a:pt x="96" y="112"/>
                    </a:lnTo>
                    <a:lnTo>
                      <a:pt x="110" y="88"/>
                    </a:lnTo>
                    <a:lnTo>
                      <a:pt x="142" y="104"/>
                    </a:lnTo>
                    <a:lnTo>
                      <a:pt x="264" y="72"/>
                    </a:lnTo>
                    <a:lnTo>
                      <a:pt x="290" y="44"/>
                    </a:lnTo>
                    <a:lnTo>
                      <a:pt x="276" y="32"/>
                    </a:lnTo>
                    <a:lnTo>
                      <a:pt x="92" y="28"/>
                    </a:lnTo>
                    <a:lnTo>
                      <a:pt x="60" y="0"/>
                    </a:lnTo>
                    <a:lnTo>
                      <a:pt x="28" y="8"/>
                    </a:lnTo>
                    <a:lnTo>
                      <a:pt x="28" y="50"/>
                    </a:lnTo>
                    <a:lnTo>
                      <a:pt x="2" y="86"/>
                    </a:lnTo>
                    <a:lnTo>
                      <a:pt x="38" y="152"/>
                    </a:lnTo>
                    <a:lnTo>
                      <a:pt x="0" y="202"/>
                    </a:lnTo>
                    <a:close/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05520" y="312840"/>
                <a:ext cx="460440" cy="342720"/>
              </a:xfrm>
              <a:custGeom>
                <a:avLst/>
                <a:gdLst/>
                <a:ahLst/>
                <a:rect l="l" t="t" r="r" b="b"/>
                <a:pathLst>
                  <a:path w="290" h="216">
                    <a:moveTo>
                      <a:pt x="0" y="202"/>
                    </a:moveTo>
                    <a:lnTo>
                      <a:pt x="18" y="212"/>
                    </a:lnTo>
                    <a:lnTo>
                      <a:pt x="88" y="190"/>
                    </a:lnTo>
                    <a:lnTo>
                      <a:pt x="140" y="216"/>
                    </a:lnTo>
                    <a:lnTo>
                      <a:pt x="160" y="202"/>
                    </a:lnTo>
                    <a:lnTo>
                      <a:pt x="96" y="112"/>
                    </a:lnTo>
                    <a:lnTo>
                      <a:pt x="110" y="88"/>
                    </a:lnTo>
                    <a:lnTo>
                      <a:pt x="142" y="104"/>
                    </a:lnTo>
                    <a:lnTo>
                      <a:pt x="264" y="72"/>
                    </a:lnTo>
                    <a:lnTo>
                      <a:pt x="290" y="44"/>
                    </a:lnTo>
                    <a:lnTo>
                      <a:pt x="276" y="32"/>
                    </a:lnTo>
                    <a:lnTo>
                      <a:pt x="92" y="28"/>
                    </a:lnTo>
                    <a:lnTo>
                      <a:pt x="60" y="0"/>
                    </a:lnTo>
                    <a:lnTo>
                      <a:pt x="28" y="8"/>
                    </a:lnTo>
                    <a:lnTo>
                      <a:pt x="28" y="50"/>
                    </a:lnTo>
                    <a:lnTo>
                      <a:pt x="2" y="86"/>
                    </a:lnTo>
                    <a:lnTo>
                      <a:pt x="38" y="152"/>
                    </a:lnTo>
                    <a:lnTo>
                      <a:pt x="0" y="2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975360" y="5037120"/>
              <a:ext cx="304920" cy="282600"/>
              <a:chOff x="6975360" y="5037120"/>
              <a:chExt cx="304920" cy="282600"/>
            </a:xfrm>
          </p:grpSpPr>
          <p:sp>
            <p:nvSpPr>
              <p:cNvPr id="238" name=""/>
              <p:cNvSpPr/>
              <p:nvPr/>
            </p:nvSpPr>
            <p:spPr>
              <a:xfrm>
                <a:off x="6975360" y="5037120"/>
                <a:ext cx="304920" cy="28260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0" y="102"/>
                    </a:moveTo>
                    <a:lnTo>
                      <a:pt x="76" y="178"/>
                    </a:lnTo>
                    <a:lnTo>
                      <a:pt x="106" y="142"/>
                    </a:lnTo>
                    <a:lnTo>
                      <a:pt x="136" y="150"/>
                    </a:lnTo>
                    <a:lnTo>
                      <a:pt x="156" y="124"/>
                    </a:lnTo>
                    <a:lnTo>
                      <a:pt x="146" y="94"/>
                    </a:lnTo>
                    <a:lnTo>
                      <a:pt x="192" y="64"/>
                    </a:lnTo>
                    <a:lnTo>
                      <a:pt x="130" y="4"/>
                    </a:lnTo>
                    <a:lnTo>
                      <a:pt x="88" y="0"/>
                    </a:lnTo>
                    <a:lnTo>
                      <a:pt x="10" y="28"/>
                    </a:lnTo>
                    <a:lnTo>
                      <a:pt x="0" y="102"/>
                    </a:lnTo>
                    <a:close/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75360" y="5037120"/>
                <a:ext cx="304920" cy="282600"/>
              </a:xfrm>
              <a:custGeom>
                <a:avLst/>
                <a:gdLst/>
                <a:ahLst/>
                <a:rect l="l" t="t" r="r" b="b"/>
                <a:pathLst>
                  <a:path w="192" h="178">
                    <a:moveTo>
                      <a:pt x="0" y="102"/>
                    </a:moveTo>
                    <a:lnTo>
                      <a:pt x="76" y="178"/>
                    </a:lnTo>
                    <a:lnTo>
                      <a:pt x="106" y="142"/>
                    </a:lnTo>
                    <a:lnTo>
                      <a:pt x="136" y="150"/>
                    </a:lnTo>
                    <a:lnTo>
                      <a:pt x="156" y="124"/>
                    </a:lnTo>
                    <a:lnTo>
                      <a:pt x="146" y="94"/>
                    </a:lnTo>
                    <a:lnTo>
                      <a:pt x="192" y="64"/>
                    </a:lnTo>
                    <a:lnTo>
                      <a:pt x="130" y="4"/>
                    </a:lnTo>
                    <a:lnTo>
                      <a:pt x="88" y="0"/>
                    </a:lnTo>
                    <a:lnTo>
                      <a:pt x="10" y="28"/>
                    </a:lnTo>
                    <a:lnTo>
                      <a:pt x="0" y="10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022560" y="5697360"/>
              <a:ext cx="308160" cy="393840"/>
              <a:chOff x="3022560" y="5697360"/>
              <a:chExt cx="308160" cy="393840"/>
            </a:xfrm>
          </p:grpSpPr>
          <p:sp>
            <p:nvSpPr>
              <p:cNvPr id="241" name=""/>
              <p:cNvSpPr/>
              <p:nvPr/>
            </p:nvSpPr>
            <p:spPr>
              <a:xfrm>
                <a:off x="3022560" y="5697360"/>
                <a:ext cx="308160" cy="393840"/>
              </a:xfrm>
              <a:custGeom>
                <a:avLst/>
                <a:gdLst/>
                <a:ahLst/>
                <a:rect l="l" t="t" r="r" b="b"/>
                <a:pathLst>
                  <a:path w="194" h="248">
                    <a:moveTo>
                      <a:pt x="0" y="216"/>
                    </a:moveTo>
                    <a:lnTo>
                      <a:pt x="18" y="248"/>
                    </a:lnTo>
                    <a:lnTo>
                      <a:pt x="70" y="242"/>
                    </a:lnTo>
                    <a:lnTo>
                      <a:pt x="100" y="198"/>
                    </a:lnTo>
                    <a:lnTo>
                      <a:pt x="180" y="202"/>
                    </a:lnTo>
                    <a:lnTo>
                      <a:pt x="194" y="190"/>
                    </a:lnTo>
                    <a:lnTo>
                      <a:pt x="126" y="112"/>
                    </a:lnTo>
                    <a:lnTo>
                      <a:pt x="118" y="84"/>
                    </a:lnTo>
                    <a:lnTo>
                      <a:pt x="152" y="12"/>
                    </a:lnTo>
                    <a:lnTo>
                      <a:pt x="136" y="0"/>
                    </a:lnTo>
                    <a:lnTo>
                      <a:pt x="66" y="20"/>
                    </a:lnTo>
                    <a:lnTo>
                      <a:pt x="50" y="84"/>
                    </a:lnTo>
                    <a:lnTo>
                      <a:pt x="78" y="144"/>
                    </a:lnTo>
                    <a:lnTo>
                      <a:pt x="68" y="164"/>
                    </a:lnTo>
                    <a:lnTo>
                      <a:pt x="22" y="172"/>
                    </a:lnTo>
                    <a:lnTo>
                      <a:pt x="0" y="216"/>
                    </a:lnTo>
                    <a:close/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22560" y="5697360"/>
                <a:ext cx="308160" cy="393840"/>
              </a:xfrm>
              <a:custGeom>
                <a:avLst/>
                <a:gdLst/>
                <a:ahLst/>
                <a:rect l="l" t="t" r="r" b="b"/>
                <a:pathLst>
                  <a:path w="194" h="248">
                    <a:moveTo>
                      <a:pt x="0" y="216"/>
                    </a:moveTo>
                    <a:lnTo>
                      <a:pt x="18" y="248"/>
                    </a:lnTo>
                    <a:lnTo>
                      <a:pt x="70" y="242"/>
                    </a:lnTo>
                    <a:lnTo>
                      <a:pt x="100" y="198"/>
                    </a:lnTo>
                    <a:lnTo>
                      <a:pt x="180" y="202"/>
                    </a:lnTo>
                    <a:lnTo>
                      <a:pt x="194" y="190"/>
                    </a:lnTo>
                    <a:lnTo>
                      <a:pt x="126" y="112"/>
                    </a:lnTo>
                    <a:lnTo>
                      <a:pt x="118" y="84"/>
                    </a:lnTo>
                    <a:lnTo>
                      <a:pt x="152" y="12"/>
                    </a:lnTo>
                    <a:lnTo>
                      <a:pt x="136" y="0"/>
                    </a:lnTo>
                    <a:lnTo>
                      <a:pt x="66" y="20"/>
                    </a:lnTo>
                    <a:lnTo>
                      <a:pt x="50" y="84"/>
                    </a:lnTo>
                    <a:lnTo>
                      <a:pt x="78" y="144"/>
                    </a:lnTo>
                    <a:lnTo>
                      <a:pt x="68" y="164"/>
                    </a:lnTo>
                    <a:lnTo>
                      <a:pt x="22" y="172"/>
                    </a:lnTo>
                    <a:lnTo>
                      <a:pt x="0" y="21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66800" y="4094280"/>
              <a:ext cx="254160" cy="504720"/>
              <a:chOff x="1666800" y="4094280"/>
              <a:chExt cx="254160" cy="504720"/>
            </a:xfrm>
          </p:grpSpPr>
          <p:sp>
            <p:nvSpPr>
              <p:cNvPr id="244" name=""/>
              <p:cNvSpPr/>
              <p:nvPr/>
            </p:nvSpPr>
            <p:spPr>
              <a:xfrm>
                <a:off x="1666800" y="4094280"/>
                <a:ext cx="254160" cy="504720"/>
              </a:xfrm>
              <a:custGeom>
                <a:avLst/>
                <a:gdLst/>
                <a:ahLst/>
                <a:rect l="l" t="t" r="r" b="b"/>
                <a:pathLst>
                  <a:path w="160" h="318">
                    <a:moveTo>
                      <a:pt x="0" y="166"/>
                    </a:moveTo>
                    <a:lnTo>
                      <a:pt x="82" y="318"/>
                    </a:lnTo>
                    <a:lnTo>
                      <a:pt x="114" y="90"/>
                    </a:lnTo>
                    <a:lnTo>
                      <a:pt x="160" y="32"/>
                    </a:lnTo>
                    <a:lnTo>
                      <a:pt x="154" y="0"/>
                    </a:lnTo>
                    <a:lnTo>
                      <a:pt x="126" y="12"/>
                    </a:lnTo>
                    <a:lnTo>
                      <a:pt x="88" y="62"/>
                    </a:lnTo>
                    <a:lnTo>
                      <a:pt x="36" y="62"/>
                    </a:lnTo>
                    <a:lnTo>
                      <a:pt x="0" y="166"/>
                    </a:lnTo>
                    <a:close/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66800" y="4094280"/>
                <a:ext cx="254160" cy="504720"/>
              </a:xfrm>
              <a:custGeom>
                <a:avLst/>
                <a:gdLst/>
                <a:ahLst/>
                <a:rect l="l" t="t" r="r" b="b"/>
                <a:pathLst>
                  <a:path w="160" h="318">
                    <a:moveTo>
                      <a:pt x="0" y="166"/>
                    </a:moveTo>
                    <a:lnTo>
                      <a:pt x="82" y="318"/>
                    </a:lnTo>
                    <a:lnTo>
                      <a:pt x="114" y="90"/>
                    </a:lnTo>
                    <a:lnTo>
                      <a:pt x="160" y="32"/>
                    </a:lnTo>
                    <a:lnTo>
                      <a:pt x="154" y="0"/>
                    </a:lnTo>
                    <a:lnTo>
                      <a:pt x="126" y="12"/>
                    </a:lnTo>
                    <a:lnTo>
                      <a:pt x="88" y="62"/>
                    </a:lnTo>
                    <a:lnTo>
                      <a:pt x="36" y="62"/>
                    </a:lnTo>
                    <a:lnTo>
                      <a:pt x="0" y="16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023240" y="817560"/>
              <a:ext cx="412560" cy="272880"/>
              <a:chOff x="7023240" y="817560"/>
              <a:chExt cx="412560" cy="272880"/>
            </a:xfrm>
          </p:grpSpPr>
          <p:sp>
            <p:nvSpPr>
              <p:cNvPr id="247" name=""/>
              <p:cNvSpPr/>
              <p:nvPr/>
            </p:nvSpPr>
            <p:spPr>
              <a:xfrm>
                <a:off x="7023240" y="817560"/>
                <a:ext cx="412560" cy="272880"/>
              </a:xfrm>
              <a:custGeom>
                <a:avLst/>
                <a:gdLst/>
                <a:ahLst/>
                <a:rect l="l" t="t" r="r" b="b"/>
                <a:pathLst>
                  <a:path w="260" h="172">
                    <a:moveTo>
                      <a:pt x="0" y="90"/>
                    </a:moveTo>
                    <a:lnTo>
                      <a:pt x="36" y="160"/>
                    </a:lnTo>
                    <a:lnTo>
                      <a:pt x="70" y="172"/>
                    </a:lnTo>
                    <a:lnTo>
                      <a:pt x="164" y="136"/>
                    </a:lnTo>
                    <a:lnTo>
                      <a:pt x="256" y="68"/>
                    </a:lnTo>
                    <a:lnTo>
                      <a:pt x="260" y="42"/>
                    </a:lnTo>
                    <a:lnTo>
                      <a:pt x="148" y="0"/>
                    </a:lnTo>
                    <a:lnTo>
                      <a:pt x="142" y="62"/>
                    </a:lnTo>
                    <a:lnTo>
                      <a:pt x="84" y="94"/>
                    </a:lnTo>
                    <a:lnTo>
                      <a:pt x="0" y="90"/>
                    </a:lnTo>
                    <a:close/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23240" y="817560"/>
                <a:ext cx="412560" cy="272880"/>
              </a:xfrm>
              <a:custGeom>
                <a:avLst/>
                <a:gdLst/>
                <a:ahLst/>
                <a:rect l="l" t="t" r="r" b="b"/>
                <a:pathLst>
                  <a:path w="260" h="172">
                    <a:moveTo>
                      <a:pt x="0" y="90"/>
                    </a:moveTo>
                    <a:lnTo>
                      <a:pt x="36" y="160"/>
                    </a:lnTo>
                    <a:lnTo>
                      <a:pt x="70" y="172"/>
                    </a:lnTo>
                    <a:lnTo>
                      <a:pt x="164" y="136"/>
                    </a:lnTo>
                    <a:lnTo>
                      <a:pt x="256" y="68"/>
                    </a:lnTo>
                    <a:lnTo>
                      <a:pt x="260" y="42"/>
                    </a:lnTo>
                    <a:lnTo>
                      <a:pt x="148" y="0"/>
                    </a:lnTo>
                    <a:lnTo>
                      <a:pt x="142" y="62"/>
                    </a:lnTo>
                    <a:lnTo>
                      <a:pt x="84" y="94"/>
                    </a:lnTo>
                    <a:lnTo>
                      <a:pt x="0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3054240" y="22114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44760" y="28972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6560" y="320184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73560" y="31258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64280" y="42688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9360" y="503064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586908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1747800"/>
            <a:ext cx="142920" cy="1429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98760" y="2633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荃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46320" y="309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沙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60520" y="12621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4360" y="1795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元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45920" y="248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屯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74000" y="3700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尖沙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21720" y="4614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香港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5760" y="522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長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3123720" y="22860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124080" y="18288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1828800"/>
            <a:ext cx="60984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200400" y="3429000"/>
            <a:ext cx="23623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2514240" y="2971440"/>
            <a:ext cx="68580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29718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8381880" y="4572000"/>
            <a:ext cx="457200" cy="1352520"/>
            <a:chOff x="8381880" y="4572000"/>
            <a:chExt cx="457200" cy="1352520"/>
          </a:xfrm>
        </p:grpSpPr>
        <p:sp>
          <p:nvSpPr>
            <p:cNvPr id="272" name=""/>
            <p:cNvSpPr/>
            <p:nvPr/>
          </p:nvSpPr>
          <p:spPr>
            <a:xfrm flipV="1">
              <a:off x="8610480" y="4857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81880" y="5373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449920" y="45720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43080" y="380880"/>
            <a:ext cx="8458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中國龍顏楷體"/>
              </a:rPr>
              <a:t>幸福就在你們的身邊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42960" y="4038480"/>
            <a:ext cx="60962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細明體"/>
              </a:rPr>
              <a:t>拜拜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細明體"/>
              <a:ea typeface="細明體"/>
            </a:endParaRPr>
          </a:p>
        </p:txBody>
      </p:sp>
      <p:pic>
        <p:nvPicPr>
          <p:cNvPr id="277" name="AG00406_" descr=""/>
          <p:cNvPicPr/>
          <p:nvPr/>
        </p:nvPicPr>
        <p:blipFill>
          <a:blip r:embed="rId1"/>
          <a:stretch/>
        </p:blipFill>
        <p:spPr>
          <a:xfrm>
            <a:off x="3519360" y="2286000"/>
            <a:ext cx="210348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00200" y="514440"/>
            <a:ext cx="59436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中國龍顏楷體"/>
              </a:rPr>
              <a:t>方位角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4191120"/>
            <a:ext cx="4876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新細明體"/>
              </a:rPr>
              <a:t>六年級下學期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45" name="AG00315_" descr=""/>
          <p:cNvPicPr/>
          <p:nvPr/>
        </p:nvPicPr>
        <p:blipFill>
          <a:blip r:embed="rId1"/>
          <a:stretch/>
        </p:blipFill>
        <p:spPr>
          <a:xfrm>
            <a:off x="3948120" y="2725560"/>
            <a:ext cx="1246320" cy="1406880"/>
          </a:xfrm>
          <a:prstGeom prst="rect">
            <a:avLst/>
          </a:prstGeom>
          <a:ln w="0">
            <a:noFill/>
          </a:ln>
        </p:spPr>
      </p:pic>
      <p:pic>
        <p:nvPicPr>
          <p:cNvPr id="46" name="AG00316_" descr=""/>
          <p:cNvPicPr/>
          <p:nvPr/>
        </p:nvPicPr>
        <p:blipFill>
          <a:blip r:embed="rId2"/>
          <a:stretch/>
        </p:blipFill>
        <p:spPr>
          <a:xfrm>
            <a:off x="7543800" y="4191120"/>
            <a:ext cx="12463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AG00317_" descr=""/>
          <p:cNvPicPr/>
          <p:nvPr/>
        </p:nvPicPr>
        <p:blipFill>
          <a:blip r:embed="rId3"/>
          <a:stretch/>
        </p:blipFill>
        <p:spPr>
          <a:xfrm>
            <a:off x="533520" y="4419720"/>
            <a:ext cx="1245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344480" y="609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280" y="1382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向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62320" y="1218960"/>
            <a:ext cx="4495680" cy="4190760"/>
            <a:chOff x="2362320" y="1218960"/>
            <a:chExt cx="4495680" cy="4190760"/>
          </a:xfrm>
        </p:grpSpPr>
        <p:sp>
          <p:nvSpPr>
            <p:cNvPr id="51" name=""/>
            <p:cNvSpPr/>
            <p:nvPr/>
          </p:nvSpPr>
          <p:spPr>
            <a:xfrm flipV="1">
              <a:off x="4572000" y="121896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342900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81080" y="1948680"/>
              <a:ext cx="3381840" cy="29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921400" y="1901160"/>
              <a:ext cx="3260160" cy="30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027200" y="3108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9160" y="5319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9880" y="3106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70680" y="134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040" y="13352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東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55120" y="479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Times New Roman"/>
              </a:rPr>
              <a:t>東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0400" y="4911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806760" y="166680"/>
            <a:ext cx="7875000" cy="6366960"/>
            <a:chOff x="806760" y="166680"/>
            <a:chExt cx="7875000" cy="6366960"/>
          </a:xfrm>
        </p:grpSpPr>
        <p:sp>
          <p:nvSpPr>
            <p:cNvPr id="63" name=""/>
            <p:cNvSpPr/>
            <p:nvPr/>
          </p:nvSpPr>
          <p:spPr>
            <a:xfrm>
              <a:off x="7697880" y="3092400"/>
              <a:ext cx="98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</a:rPr>
                <a:t>090</a:t>
              </a:r>
              <a:r>
                <a:rPr b="0" lang="zh-TW" sz="2800" spc="-1" strike="noStrike" baseline="60000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806760" y="166680"/>
              <a:ext cx="6987600" cy="6366960"/>
              <a:chOff x="806760" y="166680"/>
              <a:chExt cx="6987600" cy="6366960"/>
            </a:xfrm>
          </p:grpSpPr>
          <p:sp>
            <p:nvSpPr>
              <p:cNvPr id="65" name=""/>
              <p:cNvSpPr/>
              <p:nvPr/>
            </p:nvSpPr>
            <p:spPr>
              <a:xfrm>
                <a:off x="4344480" y="6094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2362320" y="1218960"/>
                <a:ext cx="4495680" cy="4190760"/>
                <a:chOff x="2362320" y="1218960"/>
                <a:chExt cx="4495680" cy="419076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4572000" y="1218960"/>
                  <a:ext cx="0" cy="41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2362320" y="3429000"/>
                  <a:ext cx="449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881080" y="1948680"/>
                  <a:ext cx="3381840" cy="29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2921400" y="1901160"/>
                  <a:ext cx="3260160" cy="30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7027200" y="3108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45920" y="53038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29880" y="31068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西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470680" y="1341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936040" y="1335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955120" y="4797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70400" y="4911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81760" y="16668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87880" y="58910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06760" y="31050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7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70880" y="10224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10480" y="52196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3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38720" y="5357880"/>
                <a:ext cx="9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25</a:t>
                </a:r>
                <a:r>
                  <a:rPr b="0" lang="zh-TW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86080" y="100656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31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21304800">
                <a:off x="3980520" y="2539800"/>
                <a:ext cx="1218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67" swAng="540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67" swAng="540016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32560" y="1965240"/>
                <a:ext cx="75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905760" y="138240"/>
            <a:ext cx="220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位角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89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589640" y="2560680"/>
            <a:ext cx="253800" cy="128520"/>
          </a:xfrm>
          <a:custGeom>
            <a:avLst/>
            <a:gdLst/>
            <a:ahLst/>
            <a:rect l="l" t="t" r="r" b="b"/>
            <a:pathLst>
              <a:path w="160" h="81">
                <a:moveTo>
                  <a:pt x="0" y="59"/>
                </a:moveTo>
                <a:cubicBezTo>
                  <a:pt x="23" y="44"/>
                  <a:pt x="45" y="28"/>
                  <a:pt x="68" y="13"/>
                </a:cubicBezTo>
                <a:cubicBezTo>
                  <a:pt x="88" y="0"/>
                  <a:pt x="136" y="36"/>
                  <a:pt x="136" y="36"/>
                </a:cubicBezTo>
                <a:cubicBezTo>
                  <a:pt x="160" y="73"/>
                  <a:pt x="158" y="57"/>
                  <a:pt x="158" y="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89640" y="2687760"/>
            <a:ext cx="684000" cy="1050840"/>
          </a:xfrm>
          <a:custGeom>
            <a:avLst/>
            <a:gdLst/>
            <a:ahLst/>
            <a:rect l="l" t="t" r="r" b="b"/>
            <a:pathLst>
              <a:path w="431" h="662">
                <a:moveTo>
                  <a:pt x="0" y="24"/>
                </a:moveTo>
                <a:cubicBezTo>
                  <a:pt x="67" y="0"/>
                  <a:pt x="138" y="25"/>
                  <a:pt x="204" y="46"/>
                </a:cubicBezTo>
                <a:cubicBezTo>
                  <a:pt x="260" y="132"/>
                  <a:pt x="188" y="31"/>
                  <a:pt x="260" y="103"/>
                </a:cubicBezTo>
                <a:cubicBezTo>
                  <a:pt x="332" y="175"/>
                  <a:pt x="231" y="103"/>
                  <a:pt x="317" y="159"/>
                </a:cubicBezTo>
                <a:cubicBezTo>
                  <a:pt x="368" y="238"/>
                  <a:pt x="396" y="349"/>
                  <a:pt x="418" y="442"/>
                </a:cubicBezTo>
                <a:cubicBezTo>
                  <a:pt x="406" y="619"/>
                  <a:pt x="431" y="662"/>
                  <a:pt x="396" y="5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8520" y="2814480"/>
            <a:ext cx="1326960" cy="1489320"/>
          </a:xfrm>
          <a:custGeom>
            <a:avLst/>
            <a:gdLst/>
            <a:ahLst/>
            <a:rect l="l" t="t" r="r" b="b"/>
            <a:pathLst>
              <a:path w="836" h="938">
                <a:moveTo>
                  <a:pt x="429" y="0"/>
                </a:moveTo>
                <a:cubicBezTo>
                  <a:pt x="459" y="4"/>
                  <a:pt x="490" y="5"/>
                  <a:pt x="520" y="11"/>
                </a:cubicBezTo>
                <a:cubicBezTo>
                  <a:pt x="543" y="16"/>
                  <a:pt x="587" y="34"/>
                  <a:pt x="587" y="34"/>
                </a:cubicBezTo>
                <a:cubicBezTo>
                  <a:pt x="610" y="49"/>
                  <a:pt x="640" y="56"/>
                  <a:pt x="655" y="79"/>
                </a:cubicBezTo>
                <a:cubicBezTo>
                  <a:pt x="687" y="128"/>
                  <a:pt x="714" y="178"/>
                  <a:pt x="746" y="226"/>
                </a:cubicBezTo>
                <a:cubicBezTo>
                  <a:pt x="783" y="341"/>
                  <a:pt x="726" y="173"/>
                  <a:pt x="779" y="294"/>
                </a:cubicBezTo>
                <a:cubicBezTo>
                  <a:pt x="804" y="352"/>
                  <a:pt x="817" y="415"/>
                  <a:pt x="836" y="475"/>
                </a:cubicBezTo>
                <a:cubicBezTo>
                  <a:pt x="820" y="639"/>
                  <a:pt x="798" y="779"/>
                  <a:pt x="621" y="836"/>
                </a:cubicBezTo>
                <a:cubicBezTo>
                  <a:pt x="568" y="872"/>
                  <a:pt x="600" y="855"/>
                  <a:pt x="520" y="881"/>
                </a:cubicBezTo>
                <a:cubicBezTo>
                  <a:pt x="509" y="885"/>
                  <a:pt x="486" y="892"/>
                  <a:pt x="486" y="892"/>
                </a:cubicBezTo>
                <a:cubicBezTo>
                  <a:pt x="475" y="900"/>
                  <a:pt x="465" y="911"/>
                  <a:pt x="452" y="915"/>
                </a:cubicBezTo>
                <a:cubicBezTo>
                  <a:pt x="412" y="927"/>
                  <a:pt x="328" y="938"/>
                  <a:pt x="328" y="938"/>
                </a:cubicBezTo>
                <a:cubicBezTo>
                  <a:pt x="263" y="929"/>
                  <a:pt x="160" y="929"/>
                  <a:pt x="102" y="892"/>
                </a:cubicBezTo>
                <a:cubicBezTo>
                  <a:pt x="64" y="867"/>
                  <a:pt x="0" y="802"/>
                  <a:pt x="0" y="8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02200" y="2851200"/>
            <a:ext cx="900000" cy="1057320"/>
          </a:xfrm>
          <a:custGeom>
            <a:avLst/>
            <a:gdLst/>
            <a:ahLst/>
            <a:rect l="l" t="t" r="r" b="b"/>
            <a:pathLst>
              <a:path w="567" h="666">
                <a:moveTo>
                  <a:pt x="296" y="0"/>
                </a:moveTo>
                <a:cubicBezTo>
                  <a:pt x="347" y="33"/>
                  <a:pt x="397" y="38"/>
                  <a:pt x="454" y="56"/>
                </a:cubicBezTo>
                <a:cubicBezTo>
                  <a:pt x="477" y="90"/>
                  <a:pt x="488" y="124"/>
                  <a:pt x="511" y="158"/>
                </a:cubicBezTo>
                <a:cubicBezTo>
                  <a:pt x="526" y="203"/>
                  <a:pt x="540" y="248"/>
                  <a:pt x="556" y="293"/>
                </a:cubicBezTo>
                <a:cubicBezTo>
                  <a:pt x="548" y="380"/>
                  <a:pt x="567" y="430"/>
                  <a:pt x="499" y="474"/>
                </a:cubicBezTo>
                <a:cubicBezTo>
                  <a:pt x="479" y="535"/>
                  <a:pt x="483" y="566"/>
                  <a:pt x="420" y="587"/>
                </a:cubicBezTo>
                <a:cubicBezTo>
                  <a:pt x="363" y="624"/>
                  <a:pt x="335" y="651"/>
                  <a:pt x="273" y="666"/>
                </a:cubicBezTo>
                <a:cubicBezTo>
                  <a:pt x="225" y="654"/>
                  <a:pt x="173" y="661"/>
                  <a:pt x="127" y="644"/>
                </a:cubicBezTo>
                <a:cubicBezTo>
                  <a:pt x="114" y="639"/>
                  <a:pt x="113" y="620"/>
                  <a:pt x="104" y="610"/>
                </a:cubicBezTo>
                <a:cubicBezTo>
                  <a:pt x="83" y="586"/>
                  <a:pt x="36" y="542"/>
                  <a:pt x="36" y="542"/>
                </a:cubicBezTo>
                <a:cubicBezTo>
                  <a:pt x="32" y="531"/>
                  <a:pt x="30" y="519"/>
                  <a:pt x="25" y="508"/>
                </a:cubicBezTo>
                <a:cubicBezTo>
                  <a:pt x="19" y="496"/>
                  <a:pt x="4" y="488"/>
                  <a:pt x="2" y="474"/>
                </a:cubicBezTo>
                <a:cubicBezTo>
                  <a:pt x="0" y="462"/>
                  <a:pt x="11" y="452"/>
                  <a:pt x="14" y="440"/>
                </a:cubicBezTo>
                <a:cubicBezTo>
                  <a:pt x="18" y="425"/>
                  <a:pt x="22" y="410"/>
                  <a:pt x="25" y="395"/>
                </a:cubicBezTo>
                <a:cubicBezTo>
                  <a:pt x="35" y="347"/>
                  <a:pt x="42" y="267"/>
                  <a:pt x="70" y="226"/>
                </a:cubicBezTo>
                <a:cubicBezTo>
                  <a:pt x="89" y="198"/>
                  <a:pt x="133" y="122"/>
                  <a:pt x="172" y="15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8520" y="15228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0000"/>
                </a:solidFill>
                <a:latin typeface="Times New Roman"/>
                <a:ea typeface="標楷體"/>
              </a:rPr>
              <a:t>量度方位角的方法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07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11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12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半圓規1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3111480" cy="5524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960600" y="30492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6920" y="541008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27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17840" y="0"/>
            <a:ext cx="23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32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33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半圓規" descr=""/>
          <p:cNvPicPr/>
          <p:nvPr/>
        </p:nvPicPr>
        <p:blipFill>
          <a:blip r:embed="rId1"/>
          <a:stretch/>
        </p:blipFill>
        <p:spPr>
          <a:xfrm>
            <a:off x="2349360" y="1268280"/>
            <a:ext cx="2414880" cy="4286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2520" y="1143000"/>
            <a:ext cx="17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+ 15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8480" y="4143240"/>
            <a:ext cx="16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 + 4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48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18200" y="0"/>
            <a:ext cx="24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153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5" name="圓規" descr=""/>
          <p:cNvPicPr/>
          <p:nvPr/>
        </p:nvPicPr>
        <p:blipFill>
          <a:blip r:embed="rId1"/>
          <a:stretch/>
        </p:blipFill>
        <p:spPr>
          <a:xfrm>
            <a:off x="1851120" y="954000"/>
            <a:ext cx="5440320" cy="4983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60600" y="3808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0600" y="533412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9800" y="10666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4724280"/>
            <a:ext cx="221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171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18200" y="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76240" y="762120"/>
            <a:ext cx="7391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中國龍顏楷體"/>
              </a:rPr>
              <a:t>尋寶遊戲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00cc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中國龍顏楷體"/>
              <a:ea typeface="中國龍顏楷體"/>
            </a:endParaRPr>
          </a:p>
        </p:txBody>
      </p:sp>
      <p:sp>
        <p:nvSpPr>
          <p:cNvPr id="176" name=""/>
          <p:cNvSpPr/>
          <p:nvPr/>
        </p:nvSpPr>
        <p:spPr>
          <a:xfrm>
            <a:off x="1632600" y="3760920"/>
            <a:ext cx="6122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請根據地圖的指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尋找</a:t>
            </a:r>
            <a:r>
              <a:rPr b="0" lang="zh-TW" sz="4400" spc="-1" strike="noStrike" u="sng">
                <a:solidFill>
                  <a:srgbClr val="ff0000"/>
                </a:solidFill>
                <a:uFillTx/>
                <a:latin typeface="Times New Roman"/>
                <a:ea typeface="標楷體"/>
              </a:rPr>
              <a:t>幸福之源</a:t>
            </a:r>
            <a:r>
              <a:rPr b="0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G00004_" descr=""/>
          <p:cNvPicPr/>
          <p:nvPr/>
        </p:nvPicPr>
        <p:blipFill>
          <a:blip r:embed="rId1"/>
          <a:stretch/>
        </p:blipFill>
        <p:spPr>
          <a:xfrm>
            <a:off x="1295280" y="4800600"/>
            <a:ext cx="16002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7T00:38:08Z</dcterms:created>
  <dc:creator>Kwok Kai Ming</dc:creator>
  <dc:description/>
  <dc:language>en-US</dc:language>
  <cp:lastModifiedBy>Lee Hooi Yock</cp:lastModifiedBy>
  <dcterms:modified xsi:type="dcterms:W3CDTF">2004-02-09T13:58:58Z</dcterms:modified>
  <cp:revision>29</cp:revision>
  <dc:subject/>
  <dc:title>PowerPoint 簡報</dc:title>
</cp:coreProperties>
</file>