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D39-90E5-4C85-81E9-FFEAB040D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021-A59E-46A0-994C-69676E7E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B7E-EF48-403B-B7DD-A280134C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8AD3-F6C9-410B-814C-6F57B3EB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20D-DFA8-46F1-A647-2E4F969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ABD-BA65-460E-BD73-41C012F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210-1664-41EC-B7FE-27DB2BFC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1CB6-63AB-4713-909D-70077454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2C97-8E85-4C83-B58D-B03CA44D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73B-145C-4368-943B-688421C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442-7040-4FB9-B934-D3CFD551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184-780F-4D16-8D90-7175DCF2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65EA-B9B1-4277-BAA8-1164FF14AF8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0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5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69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82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9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101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Lee Hooi Yock</cp:lastModifiedBy>
  <dcterms:modified xsi:type="dcterms:W3CDTF">2004-02-09T14:01:40Z</dcterms:modified>
  <cp:revision>9</cp:revision>
  <dc:subject/>
  <dc:title>無投影片標題</dc:title>
</cp:coreProperties>
</file>