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219320" y="213372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0000"/>
                </a:solidFill>
                <a:latin typeface="文鼎粗行楷"/>
                <a:ea typeface="文鼎粗行楷"/>
              </a:rPr>
              <a:t>方 位 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819520" y="4038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cc"/>
                </a:solidFill>
                <a:latin typeface="Times New Roman"/>
                <a:ea typeface="華康細圓體"/>
              </a:rPr>
              <a:t>六年級下學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657600" y="1905120"/>
            <a:ext cx="1143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  <a:ea typeface="文鼎粗隸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昨天我到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SimHei"/>
                <a:ea typeface="SimHei"/>
              </a:rPr>
              <a:t>大埔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公園旅行，經過金魚池，我把它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的位置記錄下來。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T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金魚池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，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P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停車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371600"/>
            <a:ext cx="89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Times New Roman"/>
                <a:ea typeface="標楷體"/>
              </a:rPr>
              <a:t>在橫線上填寫方向的名稱，並在（　）仴填寫各方向英文簡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64000" y="371628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51814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105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18148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2421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362320"/>
            <a:ext cx="7632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9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24360" y="36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71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084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32720" y="3716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4360" y="2421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895480"/>
            <a:ext cx="2361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9112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東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410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怎麼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看來只有八個主要方向是不夠的</a:t>
            </a: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590920" y="144756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44792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724280"/>
            <a:ext cx="64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你會怎樣說明金魚池的位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0" y="1371600"/>
            <a:ext cx="91440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410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首先把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T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P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用直線連起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09680" y="4419720"/>
            <a:ext cx="60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然後利用量角器量出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NPT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＝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25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此可知，Ｔ對Ｐ的方向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0"/>
          <a:ext cx="4415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0"/>
                    <a:ext cx="441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057400" y="5486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「北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東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寫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541008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Ｎ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Ｅ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6019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還可以用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方位角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來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114800" y="609480"/>
            <a:ext cx="40384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把圓周分為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360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等份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每份是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533520"/>
          <a:ext cx="41576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1576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40384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N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0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26668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東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E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9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9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42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S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18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4267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西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W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00720" y="422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6080" y="4267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27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5029200"/>
            <a:ext cx="5410080" cy="1218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這是用方位角表示的角度</a:t>
            </a: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它是由三個數字組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5029200"/>
            <a:ext cx="685800" cy="685800"/>
          </a:xfrm>
          <a:custGeom>
            <a:avLst/>
            <a:gdLst>
              <a:gd name="textAreaLeft" fmla="*/ 228600 w 685800"/>
              <a:gd name="textAreaRight" fmla="*/ 587520 w 6858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685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</a:rPr>
              <a:t>試用方位角表示下列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38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75248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752480" y="2514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8954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3809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4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N 4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E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NE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1447920"/>
            <a:ext cx="3124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08660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2819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69000" y="2535120"/>
            <a:ext cx="844560" cy="803520"/>
          </a:xfrm>
          <a:custGeom>
            <a:avLst/>
            <a:gdLst/>
            <a:ahLst/>
            <a:rect l="l" t="t" r="r" b="b"/>
            <a:pathLst>
              <a:path w="532" h="506">
                <a:moveTo>
                  <a:pt x="257" y="18"/>
                </a:moveTo>
                <a:cubicBezTo>
                  <a:pt x="311" y="0"/>
                  <a:pt x="353" y="17"/>
                  <a:pt x="407" y="31"/>
                </a:cubicBezTo>
                <a:cubicBezTo>
                  <a:pt x="420" y="43"/>
                  <a:pt x="434" y="54"/>
                  <a:pt x="445" y="68"/>
                </a:cubicBezTo>
                <a:cubicBezTo>
                  <a:pt x="464" y="92"/>
                  <a:pt x="495" y="144"/>
                  <a:pt x="495" y="144"/>
                </a:cubicBezTo>
                <a:cubicBezTo>
                  <a:pt x="503" y="169"/>
                  <a:pt x="512" y="194"/>
                  <a:pt x="520" y="219"/>
                </a:cubicBezTo>
                <a:cubicBezTo>
                  <a:pt x="524" y="231"/>
                  <a:pt x="532" y="256"/>
                  <a:pt x="532" y="256"/>
                </a:cubicBezTo>
                <a:cubicBezTo>
                  <a:pt x="516" y="338"/>
                  <a:pt x="508" y="416"/>
                  <a:pt x="420" y="444"/>
                </a:cubicBezTo>
                <a:cubicBezTo>
                  <a:pt x="372" y="476"/>
                  <a:pt x="339" y="483"/>
                  <a:pt x="282" y="494"/>
                </a:cubicBezTo>
                <a:cubicBezTo>
                  <a:pt x="223" y="489"/>
                  <a:pt x="152" y="506"/>
                  <a:pt x="106" y="469"/>
                </a:cubicBezTo>
                <a:cubicBezTo>
                  <a:pt x="0" y="385"/>
                  <a:pt x="142" y="464"/>
                  <a:pt x="56" y="4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4191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4038480"/>
            <a:ext cx="4076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B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D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E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80988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06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95280" y="304920"/>
          <a:ext cx="3648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364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638680" y="609480"/>
            <a:ext cx="2819520" cy="319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已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ＮＯＡ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60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ＡＯＢ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4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ＢＯＣ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ＣＯＤ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7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ＤＯＥ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8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43434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0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48006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4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52578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1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57913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30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4005360"/>
            <a:ext cx="1944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點為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0:36:03Z</dcterms:created>
  <dc:creator>Bonham Road Gov. Pri. Sch.</dc:creator>
  <dc:description/>
  <dc:language>en-US</dc:language>
  <cp:lastModifiedBy>CPIA Wai</cp:lastModifiedBy>
  <dcterms:modified xsi:type="dcterms:W3CDTF">2004-04-02T08:02:26Z</dcterms:modified>
  <cp:revision>61</cp:revision>
  <dc:subject/>
  <dc:title>PowerPoint 簡報</dc:title>
</cp:coreProperties>
</file>