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8D94-280D-40E7-A3DD-725417DF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A818-ACFA-4332-BF90-7E67816D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E6F3-B4F1-4D8D-87FB-DAB7E354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5052-820E-46C6-A3C0-7096FC059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282F-057F-42DE-A70B-149DDE65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6336-46ED-4B5C-86E5-A672B041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C70D-88A2-4FCD-940E-B1B03AC8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EE9D-D991-4C6E-84C8-6D4A9431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D4F0-7FB3-4BD2-AD4A-62488B9A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E5E9-F967-4F5B-B921-283B76B5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06CA-D2C9-4946-B7B7-EE9B3B22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F671-64B9-479B-9C59-8790EEE6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0AF1-E6A8-439A-BBC7-51DD43861214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5680" y="990720"/>
            <a:ext cx="612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99ff"/>
                </a:solidFill>
                <a:latin typeface="全真綜藝體"/>
                <a:ea typeface="全真綜藝體"/>
              </a:rPr>
              <a:t>六年級  下學期  數學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78160" y="396252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0" spc="-1" strike="noStrike">
                <a:solidFill>
                  <a:srgbClr val="9900cc"/>
                </a:solidFill>
                <a:latin typeface="全真綜藝體"/>
                <a:ea typeface="全真綜藝體"/>
              </a:rPr>
              <a:t>方位角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659040" y="2514600"/>
            <a:ext cx="140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ff0000"/>
                </a:solidFill>
                <a:latin typeface="Times New Roman"/>
                <a:ea typeface="全真疊圓體"/>
              </a:rPr>
              <a:t>例題一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8195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5880" y="1828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30800" y="4618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61440" y="1752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63040" y="5335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對甲地的方位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905120" y="2971800"/>
            <a:ext cx="2057400" cy="2666880"/>
            <a:chOff x="1905120" y="2971800"/>
            <a:chExt cx="2057400" cy="2666880"/>
          </a:xfrm>
        </p:grpSpPr>
        <p:sp>
          <p:nvSpPr>
            <p:cNvPr id="172" name=""/>
            <p:cNvSpPr/>
            <p:nvPr/>
          </p:nvSpPr>
          <p:spPr>
            <a:xfrm>
              <a:off x="1905120" y="4343400"/>
              <a:ext cx="2057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95480" y="2971800"/>
              <a:ext cx="0" cy="266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596960" y="5867280"/>
            <a:ext cx="603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1. 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先找出中心點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,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然後畫出方向指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8195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1828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30800" y="4618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61440" y="1752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63040" y="5335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對甲地的方位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905120" y="2971800"/>
            <a:ext cx="2057400" cy="2666880"/>
            <a:chOff x="1905120" y="2971800"/>
            <a:chExt cx="2057400" cy="2666880"/>
          </a:xfrm>
        </p:grpSpPr>
        <p:sp>
          <p:nvSpPr>
            <p:cNvPr id="181" name=""/>
            <p:cNvSpPr/>
            <p:nvPr/>
          </p:nvSpPr>
          <p:spPr>
            <a:xfrm>
              <a:off x="1905120" y="4343400"/>
              <a:ext cx="2057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95480" y="2971800"/>
              <a:ext cx="0" cy="266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744200" y="5867280"/>
            <a:ext cx="548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2. 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把中心點和目的地用線連接起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895480" y="1904760"/>
            <a:ext cx="3276720" cy="2438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8195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1828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30800" y="4618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61440" y="1752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63040" y="5335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對甲地的方位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905120" y="2971800"/>
            <a:ext cx="2057400" cy="2666880"/>
            <a:chOff x="1905120" y="2971800"/>
            <a:chExt cx="2057400" cy="2666880"/>
          </a:xfrm>
        </p:grpSpPr>
        <p:sp>
          <p:nvSpPr>
            <p:cNvPr id="191" name=""/>
            <p:cNvSpPr/>
            <p:nvPr/>
          </p:nvSpPr>
          <p:spPr>
            <a:xfrm>
              <a:off x="1905120" y="4343400"/>
              <a:ext cx="2057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95480" y="2971800"/>
              <a:ext cx="0" cy="266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839600" y="5867280"/>
            <a:ext cx="578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3.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量度向北的直線和藍色線之間的角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895480" y="1904760"/>
            <a:ext cx="3276720" cy="2438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73720" y="2209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全真疊圓體"/>
              </a:rPr>
              <a:t>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505320"/>
            <a:ext cx="533520" cy="380880"/>
          </a:xfrm>
          <a:prstGeom prst="line">
            <a:avLst/>
          </a:prstGeom>
          <a:ln w="57240">
            <a:solidFill>
              <a:srgbClr val="99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171600" y="251460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ff0000"/>
                </a:solidFill>
                <a:latin typeface="Times New Roman"/>
                <a:ea typeface="全真疊圓體"/>
              </a:rPr>
              <a:t>例題二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8195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1828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30800" y="4618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61440" y="1752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53360" y="3808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對乙地的方位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181480" y="533520"/>
            <a:ext cx="2057400" cy="2666880"/>
            <a:chOff x="5181480" y="533520"/>
            <a:chExt cx="2057400" cy="2666880"/>
          </a:xfrm>
        </p:grpSpPr>
        <p:sp>
          <p:nvSpPr>
            <p:cNvPr id="204" name=""/>
            <p:cNvSpPr/>
            <p:nvPr/>
          </p:nvSpPr>
          <p:spPr>
            <a:xfrm>
              <a:off x="5181480" y="1905120"/>
              <a:ext cx="2057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71840" y="533520"/>
              <a:ext cx="0" cy="266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596960" y="5867280"/>
            <a:ext cx="603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1. 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先找出中心點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,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然後畫出方向指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8195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5880" y="1828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30800" y="4618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661440" y="1752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29320" y="5335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對乙地的方位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181480" y="533520"/>
            <a:ext cx="2057400" cy="2666880"/>
            <a:chOff x="5181480" y="533520"/>
            <a:chExt cx="2057400" cy="2666880"/>
          </a:xfrm>
        </p:grpSpPr>
        <p:sp>
          <p:nvSpPr>
            <p:cNvPr id="213" name=""/>
            <p:cNvSpPr/>
            <p:nvPr/>
          </p:nvSpPr>
          <p:spPr>
            <a:xfrm>
              <a:off x="5181480" y="1905120"/>
              <a:ext cx="2057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71840" y="533520"/>
              <a:ext cx="0" cy="266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1744200" y="5867280"/>
            <a:ext cx="548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2. 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把中心點和目的地用線連接起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895480" y="1904760"/>
            <a:ext cx="3276720" cy="2438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81952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5880" y="1828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30800" y="4618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37760" y="1828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乙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29320" y="5335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甲地對乙地的方位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181480" y="533520"/>
            <a:ext cx="2057400" cy="2666880"/>
            <a:chOff x="5181480" y="533520"/>
            <a:chExt cx="2057400" cy="2666880"/>
          </a:xfrm>
        </p:grpSpPr>
        <p:sp>
          <p:nvSpPr>
            <p:cNvPr id="223" name=""/>
            <p:cNvSpPr/>
            <p:nvPr/>
          </p:nvSpPr>
          <p:spPr>
            <a:xfrm>
              <a:off x="5181480" y="1905120"/>
              <a:ext cx="2057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71840" y="533520"/>
              <a:ext cx="0" cy="266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457200" y="58672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895480" y="1904760"/>
            <a:ext cx="3276720" cy="24382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67280" y="2286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全真疊圓體"/>
              </a:rPr>
              <a:t>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15000" y="1371600"/>
            <a:ext cx="774720" cy="990720"/>
          </a:xfrm>
          <a:custGeom>
            <a:avLst/>
            <a:gdLst/>
            <a:ahLst/>
            <a:rect l="l" t="t" r="r" b="b"/>
            <a:pathLst>
              <a:path w="373" h="422">
                <a:moveTo>
                  <a:pt x="217" y="0"/>
                </a:moveTo>
                <a:cubicBezTo>
                  <a:pt x="226" y="13"/>
                  <a:pt x="230" y="31"/>
                  <a:pt x="243" y="39"/>
                </a:cubicBezTo>
                <a:cubicBezTo>
                  <a:pt x="266" y="53"/>
                  <a:pt x="319" y="64"/>
                  <a:pt x="319" y="64"/>
                </a:cubicBezTo>
                <a:cubicBezTo>
                  <a:pt x="328" y="77"/>
                  <a:pt x="339" y="89"/>
                  <a:pt x="345" y="103"/>
                </a:cubicBezTo>
                <a:cubicBezTo>
                  <a:pt x="356" y="127"/>
                  <a:pt x="370" y="179"/>
                  <a:pt x="370" y="179"/>
                </a:cubicBezTo>
                <a:cubicBezTo>
                  <a:pt x="360" y="262"/>
                  <a:pt x="373" y="301"/>
                  <a:pt x="307" y="345"/>
                </a:cubicBezTo>
                <a:cubicBezTo>
                  <a:pt x="277" y="390"/>
                  <a:pt x="255" y="405"/>
                  <a:pt x="204" y="422"/>
                </a:cubicBezTo>
                <a:cubicBezTo>
                  <a:pt x="162" y="418"/>
                  <a:pt x="118" y="418"/>
                  <a:pt x="77" y="409"/>
                </a:cubicBezTo>
                <a:cubicBezTo>
                  <a:pt x="75" y="408"/>
                  <a:pt x="0" y="371"/>
                  <a:pt x="26" y="345"/>
                </a:cubicBezTo>
                <a:cubicBezTo>
                  <a:pt x="35" y="336"/>
                  <a:pt x="43" y="362"/>
                  <a:pt x="51" y="371"/>
                </a:cubicBezTo>
              </a:path>
            </a:pathLst>
          </a:custGeom>
          <a:noFill/>
          <a:ln w="38160">
            <a:solidFill>
              <a:srgbClr val="9900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39600" y="5867280"/>
            <a:ext cx="578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3.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量度向北的直線和藍色線之間的角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4038480"/>
            <a:ext cx="407664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標楷體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A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點的方位角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標楷體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B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點的方位角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標楷體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C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點的方位角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標楷體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D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點的方位角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標楷體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E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點的方位角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3809880"/>
            <a:ext cx="14479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060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95280" y="304920"/>
          <a:ext cx="364824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04920"/>
                    <a:ext cx="36482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5638680" y="609480"/>
            <a:ext cx="2819520" cy="3194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已知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Symbol"/>
                <a:ea typeface="Symbol"/>
              </a:rPr>
              <a:t>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ＮＯＡ＝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60</a:t>
            </a:r>
            <a:r>
              <a:rPr b="0" lang="zh-TW" sz="3200" spc="-1" strike="noStrike">
                <a:solidFill>
                  <a:srgbClr val="3333cc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Symbol"/>
                <a:ea typeface="Symbol"/>
              </a:rPr>
              <a:t>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ＡＯＢ＝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45</a:t>
            </a:r>
            <a:r>
              <a:rPr b="0" lang="zh-TW" sz="3200" spc="-1" strike="noStrike">
                <a:solidFill>
                  <a:srgbClr val="3333cc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Symbol"/>
                <a:ea typeface="Symbol"/>
              </a:rPr>
              <a:t>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ＢＯＣ＝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35</a:t>
            </a:r>
            <a:r>
              <a:rPr b="0" lang="zh-TW" sz="3200" spc="-1" strike="noStrike">
                <a:solidFill>
                  <a:srgbClr val="3333cc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Symbol"/>
                <a:ea typeface="Symbol"/>
              </a:rPr>
              <a:t>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ＣＯＤ＝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75</a:t>
            </a:r>
            <a:r>
              <a:rPr b="0" lang="zh-TW" sz="3200" spc="-1" strike="noStrike">
                <a:solidFill>
                  <a:srgbClr val="3333cc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Symbol"/>
                <a:ea typeface="Symbol"/>
              </a:rPr>
              <a:t>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ＤＯＥ＝</a:t>
            </a: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85</a:t>
            </a:r>
            <a:r>
              <a:rPr b="0" lang="zh-TW" sz="3200" spc="-1" strike="noStrike">
                <a:solidFill>
                  <a:srgbClr val="3333cc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343400"/>
            <a:ext cx="14479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105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52880" y="4800600"/>
            <a:ext cx="14479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140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257800"/>
            <a:ext cx="14479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215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52880" y="5791320"/>
            <a:ext cx="14479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300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27640" y="4005360"/>
            <a:ext cx="194472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以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0" lang="zh-TW" sz="2400" spc="-1" strike="noStrike">
                <a:solidFill>
                  <a:srgbClr val="3333cc"/>
                </a:solidFill>
                <a:latin typeface="Times New Roman"/>
              </a:rPr>
              <a:t>點為中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半圓規1" descr=""/>
          <p:cNvPicPr/>
          <p:nvPr/>
        </p:nvPicPr>
        <p:blipFill>
          <a:blip r:embed="rId1"/>
          <a:stretch/>
        </p:blipFill>
        <p:spPr>
          <a:xfrm>
            <a:off x="4356000" y="687240"/>
            <a:ext cx="3111480" cy="5524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960600" y="304920"/>
            <a:ext cx="1570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019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036920" y="5410080"/>
            <a:ext cx="1553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109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8458200" y="2619360"/>
            <a:ext cx="457200" cy="1352520"/>
            <a:chOff x="8458200" y="2619360"/>
            <a:chExt cx="457200" cy="1352520"/>
          </a:xfrm>
        </p:grpSpPr>
        <p:sp>
          <p:nvSpPr>
            <p:cNvPr id="244" name=""/>
            <p:cNvSpPr/>
            <p:nvPr/>
          </p:nvSpPr>
          <p:spPr>
            <a:xfrm flipV="1">
              <a:off x="8686800" y="290484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458200" y="3420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526240" y="26193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717840" y="0"/>
            <a:ext cx="239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00cc"/>
                </a:solidFill>
                <a:latin typeface="Times New Roman"/>
                <a:ea typeface="標楷體"/>
              </a:rPr>
              <a:t>量度方位角的方法</a:t>
            </a:r>
            <a:r>
              <a:rPr b="1" lang="zh-TW" sz="2600" spc="-1" strike="noStrike">
                <a:solidFill>
                  <a:srgbClr val="cc00cc"/>
                </a:solidFill>
                <a:latin typeface="Times New Roman"/>
                <a:ea typeface="標楷體"/>
              </a:rPr>
              <a:t>(1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662120" y="196920"/>
            <a:ext cx="6886440" cy="5824080"/>
            <a:chOff x="1662120" y="196920"/>
            <a:chExt cx="6886440" cy="5824080"/>
          </a:xfrm>
        </p:grpSpPr>
        <p:grpSp>
          <p:nvGrpSpPr>
            <p:cNvPr id="249" name=""/>
            <p:cNvGrpSpPr/>
            <p:nvPr/>
          </p:nvGrpSpPr>
          <p:grpSpPr>
            <a:xfrm>
              <a:off x="2139480" y="1008000"/>
              <a:ext cx="5181840" cy="4876920"/>
              <a:chOff x="2139480" y="1008000"/>
              <a:chExt cx="5181840" cy="4876920"/>
            </a:xfrm>
          </p:grpSpPr>
          <p:sp>
            <p:nvSpPr>
              <p:cNvPr id="250" name=""/>
              <p:cNvSpPr/>
              <p:nvPr/>
            </p:nvSpPr>
            <p:spPr>
              <a:xfrm flipH="1">
                <a:off x="2139480" y="3415320"/>
                <a:ext cx="2448360" cy="22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196720" y="3415320"/>
                <a:ext cx="51246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588200" y="1008000"/>
                <a:ext cx="0" cy="487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1662120" y="53784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3400" y="3429000"/>
              <a:ext cx="34290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062920" y="43117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587480" y="750240"/>
              <a:ext cx="924480" cy="269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00600" y="19692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984480" y="28623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flipV="1">
              <a:off x="3177360" y="1003680"/>
              <a:ext cx="1417680" cy="241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87400" y="5652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4268520" y="380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57600" y="1905120"/>
            <a:ext cx="114300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Rockwell Extra Bold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Rockwell Extra Bold"/>
                <a:ea typeface="文鼎粗隸"/>
              </a:rPr>
              <a:t>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80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SimHei"/>
              </a:rPr>
              <a:t>　　　</a:t>
            </a:r>
            <a:r>
              <a:rPr b="0" lang="zh-TW" sz="2400" spc="-1" strike="noStrike">
                <a:solidFill>
                  <a:srgbClr val="0000cc"/>
                </a:solidFill>
                <a:latin typeface="SimHei"/>
                <a:ea typeface="SimHei"/>
              </a:rPr>
              <a:t>昨天我到</a:t>
            </a:r>
            <a:r>
              <a:rPr b="0" lang="zh-TW" sz="2400" spc="-1" strike="noStrike" u="sng">
                <a:solidFill>
                  <a:srgbClr val="0000cc"/>
                </a:solidFill>
                <a:uFillTx/>
                <a:latin typeface="SimHei"/>
                <a:ea typeface="SimHei"/>
              </a:rPr>
              <a:t>大埔</a:t>
            </a:r>
            <a:r>
              <a:rPr b="0" lang="zh-TW" sz="2400" spc="-1" strike="noStrike">
                <a:solidFill>
                  <a:srgbClr val="0000cc"/>
                </a:solidFill>
                <a:latin typeface="SimHei"/>
                <a:ea typeface="SimHei"/>
              </a:rPr>
              <a:t>公園旅行，經過金魚池，我把它</a:t>
            </a:r>
            <a:r>
              <a:rPr b="0" lang="zh-TW" sz="2400" spc="-1" strike="noStrike">
                <a:solidFill>
                  <a:srgbClr val="0000cc"/>
                </a:solidFill>
                <a:latin typeface="SimHei"/>
              </a:rPr>
              <a:t>　　　　　　</a:t>
            </a:r>
            <a:r>
              <a:rPr b="0" lang="zh-TW" sz="2400" spc="-1" strike="noStrike">
                <a:solidFill>
                  <a:srgbClr val="0000cc"/>
                </a:solidFill>
                <a:latin typeface="SimHei"/>
                <a:ea typeface="SimHei"/>
              </a:rPr>
              <a:t>的位置記錄下來。</a:t>
            </a:r>
            <a:r>
              <a:rPr b="0" lang="zh-TW" sz="2400" spc="-1" strike="noStrike">
                <a:solidFill>
                  <a:srgbClr val="0000cc"/>
                </a:solidFill>
                <a:latin typeface="SimHei"/>
                <a:ea typeface="SimHei"/>
              </a:rPr>
              <a:t>T</a:t>
            </a:r>
            <a:r>
              <a:rPr b="0" lang="zh-TW" sz="2400" spc="-1" strike="noStrike">
                <a:solidFill>
                  <a:srgbClr val="0000cc"/>
                </a:solidFill>
                <a:latin typeface="SimHei"/>
                <a:ea typeface="SimHei"/>
              </a:rPr>
              <a:t>代表金魚池</a:t>
            </a:r>
            <a:r>
              <a:rPr b="0" lang="zh-TW" sz="2400" spc="-1" strike="noStrike">
                <a:solidFill>
                  <a:srgbClr val="0000cc"/>
                </a:solidFill>
                <a:latin typeface="SimHei"/>
              </a:rPr>
              <a:t>，</a:t>
            </a:r>
            <a:r>
              <a:rPr b="0" lang="zh-TW" sz="2400" spc="-1" strike="noStrike">
                <a:solidFill>
                  <a:srgbClr val="0000cc"/>
                </a:solidFill>
                <a:latin typeface="SimHei"/>
                <a:ea typeface="SimHei"/>
              </a:rPr>
              <a:t>P</a:t>
            </a:r>
            <a:r>
              <a:rPr b="0" lang="zh-TW" sz="2400" spc="-1" strike="noStrike">
                <a:solidFill>
                  <a:srgbClr val="0000cc"/>
                </a:solidFill>
                <a:latin typeface="SimHei"/>
                <a:ea typeface="SimHei"/>
              </a:rPr>
              <a:t>代表停車場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371600"/>
            <a:ext cx="89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6600"/>
                </a:solidFill>
                <a:latin typeface="Times New Roman"/>
                <a:ea typeface="標楷體"/>
              </a:rPr>
              <a:t>在橫線上填寫方向的名稱，並在（　）內填寫各方向英文簡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2971800"/>
            <a:ext cx="426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64000" y="3716280"/>
            <a:ext cx="24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　　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　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57800" y="5181480"/>
            <a:ext cx="24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　　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　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51055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　　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5181480"/>
            <a:ext cx="24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　　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　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733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　　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　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2421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　　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　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86400" y="2438280"/>
            <a:ext cx="24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　　　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（　　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2362320"/>
            <a:ext cx="76320" cy="75960"/>
          </a:xfrm>
          <a:prstGeom prst="flowChartConnector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2057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Gill Sans Ultra Bold"/>
                <a:ea typeface="華康POP1體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cc"/>
                </a:solidFill>
                <a:latin typeface="Gill Sans Ultra Bold"/>
                <a:ea typeface="華康POP1體"/>
              </a:rPr>
              <a:t>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24360" y="364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文鼎粗行楷"/>
              </a:rPr>
              <a:t>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5105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文鼎粗行楷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3716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文鼎粗行楷"/>
              </a:rPr>
              <a:t>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文鼎粗行楷"/>
              </a:rPr>
              <a:t>東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35640" y="50846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文鼎粗行楷"/>
              </a:rPr>
              <a:t>東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5157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文鼎粗行楷"/>
              </a:rPr>
              <a:t>西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23493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文鼎粗行楷"/>
              </a:rPr>
              <a:t>西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32720" y="3716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華康POP1體"/>
              </a:rPr>
              <a:t>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5105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華康POP1體"/>
              </a:rPr>
              <a:t>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3733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華康POP1體"/>
              </a:rPr>
              <a:t>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59640" y="2421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華康POP1體"/>
              </a:rPr>
              <a:t>Ｎ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5157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華康POP1體"/>
              </a:rPr>
              <a:t>Ｓ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5181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華康POP1體"/>
              </a:rPr>
              <a:t>Ｓ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84360" y="2421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00"/>
                </a:solidFill>
                <a:latin typeface="Times New Roman"/>
                <a:ea typeface="華康POP1體"/>
              </a:rPr>
              <a:t>Ｎ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2895480"/>
            <a:ext cx="23619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2895480"/>
            <a:ext cx="236196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048120" y="2895480"/>
            <a:ext cx="236196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40384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19112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半圓規" descr=""/>
          <p:cNvPicPr/>
          <p:nvPr/>
        </p:nvPicPr>
        <p:blipFill>
          <a:blip r:embed="rId1"/>
          <a:stretch/>
        </p:blipFill>
        <p:spPr>
          <a:xfrm>
            <a:off x="2349360" y="1268280"/>
            <a:ext cx="2414880" cy="428652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1662120" y="196920"/>
            <a:ext cx="6886440" cy="5824080"/>
            <a:chOff x="1662120" y="196920"/>
            <a:chExt cx="6886440" cy="5824080"/>
          </a:xfrm>
        </p:grpSpPr>
        <p:grpSp>
          <p:nvGrpSpPr>
            <p:cNvPr id="264" name=""/>
            <p:cNvGrpSpPr/>
            <p:nvPr/>
          </p:nvGrpSpPr>
          <p:grpSpPr>
            <a:xfrm>
              <a:off x="2139480" y="1008000"/>
              <a:ext cx="5181840" cy="4876920"/>
              <a:chOff x="2139480" y="1008000"/>
              <a:chExt cx="5181840" cy="487692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2139480" y="3415320"/>
                <a:ext cx="2448360" cy="22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96720" y="3415320"/>
                <a:ext cx="51246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588200" y="1008000"/>
                <a:ext cx="0" cy="487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1662120" y="53784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613400" y="3429000"/>
              <a:ext cx="34290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062920" y="43117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4587480" y="750240"/>
              <a:ext cx="924480" cy="269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00600" y="19692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84480" y="28623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3177360" y="1003680"/>
              <a:ext cx="1417680" cy="241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687400" y="5652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542520" y="1143000"/>
            <a:ext cx="1758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180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r>
              <a:rPr b="0" lang="zh-TW" sz="2800" spc="-1" strike="noStrike" baseline="30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+ 150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=330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8480" y="4143240"/>
            <a:ext cx="161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180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 + 47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=227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8458200" y="2619360"/>
            <a:ext cx="457200" cy="1352520"/>
            <a:chOff x="8458200" y="2619360"/>
            <a:chExt cx="457200" cy="1352520"/>
          </a:xfrm>
        </p:grpSpPr>
        <p:sp>
          <p:nvSpPr>
            <p:cNvPr id="279" name=""/>
            <p:cNvSpPr/>
            <p:nvPr/>
          </p:nvSpPr>
          <p:spPr>
            <a:xfrm flipV="1">
              <a:off x="8686800" y="290484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458200" y="3420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526240" y="26193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718200" y="0"/>
            <a:ext cx="2414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00cc"/>
                </a:solidFill>
                <a:latin typeface="Times New Roman"/>
                <a:ea typeface="標楷體"/>
              </a:rPr>
              <a:t>量度方位角的方法</a:t>
            </a:r>
            <a:r>
              <a:rPr b="1" lang="zh-TW" sz="2600" spc="-1" strike="noStrike">
                <a:solidFill>
                  <a:srgbClr val="cc00cc"/>
                </a:solidFill>
                <a:latin typeface="Times New Roman"/>
                <a:ea typeface="標楷體"/>
              </a:rPr>
              <a:t>(1b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44840" y="4572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圓規" descr=""/>
          <p:cNvPicPr/>
          <p:nvPr/>
        </p:nvPicPr>
        <p:blipFill>
          <a:blip r:embed="rId1"/>
          <a:stretch/>
        </p:blipFill>
        <p:spPr>
          <a:xfrm>
            <a:off x="1851120" y="954000"/>
            <a:ext cx="5440320" cy="4983120"/>
          </a:xfrm>
          <a:prstGeom prst="rect">
            <a:avLst/>
          </a:prstGeom>
          <a:ln w="0">
            <a:noFill/>
          </a:ln>
        </p:spPr>
      </p:pic>
      <p:grpSp>
        <p:nvGrpSpPr>
          <p:cNvPr id="285" name=""/>
          <p:cNvGrpSpPr/>
          <p:nvPr/>
        </p:nvGrpSpPr>
        <p:grpSpPr>
          <a:xfrm>
            <a:off x="1662120" y="196920"/>
            <a:ext cx="6886440" cy="5824080"/>
            <a:chOff x="1662120" y="196920"/>
            <a:chExt cx="6886440" cy="5824080"/>
          </a:xfrm>
        </p:grpSpPr>
        <p:grpSp>
          <p:nvGrpSpPr>
            <p:cNvPr id="286" name=""/>
            <p:cNvGrpSpPr/>
            <p:nvPr/>
          </p:nvGrpSpPr>
          <p:grpSpPr>
            <a:xfrm>
              <a:off x="2139480" y="1008000"/>
              <a:ext cx="5181840" cy="4876920"/>
              <a:chOff x="2139480" y="1008000"/>
              <a:chExt cx="5181840" cy="4876920"/>
            </a:xfrm>
          </p:grpSpPr>
          <p:sp>
            <p:nvSpPr>
              <p:cNvPr id="287" name=""/>
              <p:cNvSpPr/>
              <p:nvPr/>
            </p:nvSpPr>
            <p:spPr>
              <a:xfrm flipH="1">
                <a:off x="2139480" y="3415320"/>
                <a:ext cx="2448360" cy="22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96720" y="3415320"/>
                <a:ext cx="51246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588200" y="1008000"/>
                <a:ext cx="0" cy="487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1662120" y="53784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13400" y="3429000"/>
              <a:ext cx="34290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62920" y="43117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4587480" y="750240"/>
              <a:ext cx="924480" cy="269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00600" y="19692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84480" y="28623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3177360" y="1003680"/>
              <a:ext cx="1417680" cy="241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87400" y="5652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6960600" y="380880"/>
            <a:ext cx="1570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019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60600" y="5334120"/>
            <a:ext cx="1553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109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59800" y="1066680"/>
            <a:ext cx="1570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330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4724280"/>
            <a:ext cx="2216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Times New Roman"/>
              </a:rPr>
              <a:t>227</a:t>
            </a:r>
            <a:r>
              <a:rPr b="0" lang="zh-TW" sz="2000" spc="-1" strike="noStrike" baseline="60000">
                <a:solidFill>
                  <a:srgbClr val="3333cc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8458200" y="2619360"/>
            <a:ext cx="457200" cy="1352520"/>
            <a:chOff x="8458200" y="2619360"/>
            <a:chExt cx="457200" cy="1352520"/>
          </a:xfrm>
        </p:grpSpPr>
        <p:sp>
          <p:nvSpPr>
            <p:cNvPr id="303" name=""/>
            <p:cNvSpPr/>
            <p:nvPr/>
          </p:nvSpPr>
          <p:spPr>
            <a:xfrm flipV="1">
              <a:off x="8686800" y="290484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58200" y="3420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526240" y="26193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718200" y="0"/>
            <a:ext cx="223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cc00cc"/>
                </a:solidFill>
                <a:latin typeface="Times New Roman"/>
                <a:ea typeface="標楷體"/>
              </a:rPr>
              <a:t>量度方位角的方法</a:t>
            </a:r>
            <a:r>
              <a:rPr b="1" lang="zh-TW" sz="2600" spc="-1" strike="noStrike">
                <a:solidFill>
                  <a:srgbClr val="cc00cc"/>
                </a:solidFill>
                <a:latin typeface="Times New Roman"/>
                <a:ea typeface="標楷體"/>
              </a:rPr>
              <a:t>(2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344840" y="4572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 flipV="1">
            <a:off x="2819520" y="137160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819520" y="1600200"/>
            <a:ext cx="1218960" cy="3200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3632040"/>
            <a:ext cx="380880" cy="177840"/>
          </a:xfrm>
          <a:custGeom>
            <a:avLst/>
            <a:gdLst/>
            <a:ahLst/>
            <a:rect l="l" t="t" r="r" b="b"/>
            <a:pathLst>
              <a:path w="240" h="112">
                <a:moveTo>
                  <a:pt x="0" y="16"/>
                </a:moveTo>
                <a:cubicBezTo>
                  <a:pt x="28" y="8"/>
                  <a:pt x="56" y="0"/>
                  <a:pt x="96" y="16"/>
                </a:cubicBezTo>
                <a:cubicBezTo>
                  <a:pt x="136" y="32"/>
                  <a:pt x="188" y="72"/>
                  <a:pt x="240" y="11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653560" y="762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73960" y="4876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77440" y="1488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62520" y="1523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341960" y="3656160"/>
            <a:ext cx="25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點在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402600" y="411480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033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 flipV="1">
            <a:off x="2819520" y="13716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295280" y="3886200"/>
            <a:ext cx="152424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66880" y="388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653560" y="762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40440" y="3505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9880" y="5181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19320" y="49528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341600" y="3656160"/>
            <a:ext cx="251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點在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402600" y="419112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237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438280" y="3581280"/>
            <a:ext cx="762120" cy="762120"/>
          </a:xfrm>
          <a:custGeom>
            <a:avLst/>
            <a:gdLst/>
            <a:ahLst/>
            <a:rect l="l" t="t" r="r" b="b"/>
            <a:pathLst>
              <a:path w="480" h="480">
                <a:moveTo>
                  <a:pt x="240" y="0"/>
                </a:moveTo>
                <a:cubicBezTo>
                  <a:pt x="292" y="8"/>
                  <a:pt x="344" y="16"/>
                  <a:pt x="384" y="48"/>
                </a:cubicBezTo>
                <a:cubicBezTo>
                  <a:pt x="424" y="80"/>
                  <a:pt x="480" y="136"/>
                  <a:pt x="480" y="192"/>
                </a:cubicBezTo>
                <a:cubicBezTo>
                  <a:pt x="480" y="248"/>
                  <a:pt x="424" y="336"/>
                  <a:pt x="384" y="384"/>
                </a:cubicBezTo>
                <a:cubicBezTo>
                  <a:pt x="344" y="432"/>
                  <a:pt x="304" y="480"/>
                  <a:pt x="240" y="480"/>
                </a:cubicBezTo>
                <a:cubicBezTo>
                  <a:pt x="176" y="480"/>
                  <a:pt x="88" y="432"/>
                  <a:pt x="0" y="384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 flipH="1">
            <a:off x="1218960" y="312408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3809520" y="1447920"/>
            <a:ext cx="1600200" cy="1676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988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8440" y="2895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88360" y="320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564520" y="990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34120" y="13716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88960" y="4876920"/>
            <a:ext cx="251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點在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402600" y="548640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135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63760" y="2476440"/>
            <a:ext cx="1003320" cy="647640"/>
          </a:xfrm>
          <a:custGeom>
            <a:avLst/>
            <a:gdLst/>
            <a:ahLst/>
            <a:rect l="l" t="t" r="r" b="b"/>
            <a:pathLst>
              <a:path w="632" h="408">
                <a:moveTo>
                  <a:pt x="8" y="408"/>
                </a:moveTo>
                <a:cubicBezTo>
                  <a:pt x="4" y="404"/>
                  <a:pt x="0" y="400"/>
                  <a:pt x="8" y="360"/>
                </a:cubicBezTo>
                <a:cubicBezTo>
                  <a:pt x="16" y="320"/>
                  <a:pt x="16" y="224"/>
                  <a:pt x="56" y="168"/>
                </a:cubicBezTo>
                <a:cubicBezTo>
                  <a:pt x="96" y="112"/>
                  <a:pt x="176" y="48"/>
                  <a:pt x="248" y="24"/>
                </a:cubicBezTo>
                <a:cubicBezTo>
                  <a:pt x="320" y="0"/>
                  <a:pt x="424" y="8"/>
                  <a:pt x="488" y="24"/>
                </a:cubicBezTo>
                <a:cubicBezTo>
                  <a:pt x="552" y="40"/>
                  <a:pt x="592" y="80"/>
                  <a:pt x="632" y="12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 flipV="1">
            <a:off x="1905120" y="3048120"/>
            <a:ext cx="28191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2057040" y="1828800"/>
            <a:ext cx="1066680" cy="2438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81080" y="411480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39560" y="2895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75464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202560" y="160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752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89320" y="4876920"/>
            <a:ext cx="25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點在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點的方位角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02600" y="541008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315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86080" y="3797280"/>
            <a:ext cx="1054080" cy="1054080"/>
          </a:xfrm>
          <a:custGeom>
            <a:avLst/>
            <a:gdLst/>
            <a:ahLst/>
            <a:rect l="l" t="t" r="r" b="b"/>
            <a:pathLst>
              <a:path w="664" h="664">
                <a:moveTo>
                  <a:pt x="600" y="200"/>
                </a:moveTo>
                <a:cubicBezTo>
                  <a:pt x="632" y="284"/>
                  <a:pt x="664" y="368"/>
                  <a:pt x="648" y="440"/>
                </a:cubicBezTo>
                <a:cubicBezTo>
                  <a:pt x="632" y="512"/>
                  <a:pt x="584" y="600"/>
                  <a:pt x="504" y="632"/>
                </a:cubicBezTo>
                <a:cubicBezTo>
                  <a:pt x="424" y="664"/>
                  <a:pt x="248" y="664"/>
                  <a:pt x="168" y="632"/>
                </a:cubicBezTo>
                <a:cubicBezTo>
                  <a:pt x="88" y="600"/>
                  <a:pt x="48" y="504"/>
                  <a:pt x="24" y="440"/>
                </a:cubicBezTo>
                <a:cubicBezTo>
                  <a:pt x="0" y="376"/>
                  <a:pt x="0" y="312"/>
                  <a:pt x="24" y="248"/>
                </a:cubicBezTo>
                <a:cubicBezTo>
                  <a:pt x="48" y="184"/>
                  <a:pt x="120" y="96"/>
                  <a:pt x="168" y="56"/>
                </a:cubicBezTo>
                <a:cubicBezTo>
                  <a:pt x="216" y="16"/>
                  <a:pt x="264" y="16"/>
                  <a:pt x="312" y="8"/>
                </a:cubicBezTo>
                <a:cubicBezTo>
                  <a:pt x="360" y="0"/>
                  <a:pt x="408" y="4"/>
                  <a:pt x="456" y="8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604520" y="676440"/>
            <a:ext cx="472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點在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點的方位角是否相等於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點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點的方位角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604520" y="676440"/>
            <a:ext cx="472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點在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點的方位角是否相等於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點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點的方位角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22240" y="194616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不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6873840" y="17870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035760" y="3540240"/>
            <a:ext cx="838080" cy="2133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21560" y="3540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012800" y="155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113880" y="5673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012440" y="342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59440" y="55976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705720" y="3124080"/>
            <a:ext cx="546120" cy="1003320"/>
          </a:xfrm>
          <a:custGeom>
            <a:avLst/>
            <a:gdLst/>
            <a:ahLst/>
            <a:rect l="l" t="t" r="r" b="b"/>
            <a:pathLst>
              <a:path w="344" h="632">
                <a:moveTo>
                  <a:pt x="96" y="0"/>
                </a:moveTo>
                <a:cubicBezTo>
                  <a:pt x="212" y="72"/>
                  <a:pt x="328" y="144"/>
                  <a:pt x="336" y="240"/>
                </a:cubicBezTo>
                <a:cubicBezTo>
                  <a:pt x="344" y="336"/>
                  <a:pt x="200" y="520"/>
                  <a:pt x="144" y="576"/>
                </a:cubicBezTo>
                <a:cubicBezTo>
                  <a:pt x="88" y="632"/>
                  <a:pt x="44" y="604"/>
                  <a:pt x="0" y="576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936480" y="3886200"/>
            <a:ext cx="7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213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572000" y="228564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587840" y="2362320"/>
            <a:ext cx="898560" cy="1787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35560" y="414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0" y="3124080"/>
            <a:ext cx="380880" cy="177840"/>
          </a:xfrm>
          <a:custGeom>
            <a:avLst/>
            <a:gdLst/>
            <a:ahLst/>
            <a:rect l="l" t="t" r="r" b="b"/>
            <a:pathLst>
              <a:path w="240" h="112">
                <a:moveTo>
                  <a:pt x="0" y="16"/>
                </a:moveTo>
                <a:cubicBezTo>
                  <a:pt x="28" y="8"/>
                  <a:pt x="56" y="0"/>
                  <a:pt x="96" y="16"/>
                </a:cubicBezTo>
                <a:cubicBezTo>
                  <a:pt x="136" y="32"/>
                  <a:pt x="188" y="72"/>
                  <a:pt x="240" y="11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06040" y="1676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1696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640840" y="220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10080" y="23623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8320" y="2631960"/>
            <a:ext cx="5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</a:rPr>
              <a:t>33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270320" y="838080"/>
            <a:ext cx="33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表哥很喜歡到碼頭觀看輪船航行。表哥記錄了他在碼頭看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的三艘輪船及燈塔的位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95240" y="2133720"/>
            <a:ext cx="1876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以燈塔為中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輪船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的方位角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輪船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的方位角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輪船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的方位角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95240" y="4191120"/>
            <a:ext cx="1876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以表哥為中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輪船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的方位角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輪船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的方位角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輪船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的方位角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19520" y="2438280"/>
            <a:ext cx="77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140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19520" y="2743200"/>
            <a:ext cx="77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205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819520" y="3048120"/>
            <a:ext cx="77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255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819520" y="4495680"/>
            <a:ext cx="77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066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19520" y="4800600"/>
            <a:ext cx="77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080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19520" y="5105520"/>
            <a:ext cx="77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000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49720" y="271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工作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bearing" descr=""/>
          <p:cNvPicPr/>
          <p:nvPr/>
        </p:nvPicPr>
        <p:blipFill>
          <a:blip r:embed="rId1"/>
          <a:stretch/>
        </p:blipFill>
        <p:spPr>
          <a:xfrm>
            <a:off x="3581280" y="1752480"/>
            <a:ext cx="53182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133720" y="2971800"/>
            <a:ext cx="426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1447920"/>
            <a:ext cx="3886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2666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572000" y="14475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914400"/>
            <a:ext cx="7162920" cy="45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西北（ＮＷ）　　　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</a:rPr>
              <a:t>北（Ｎ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TW" sz="2400" spc="-1" strike="noStrike">
                <a:solidFill>
                  <a:srgbClr val="ff3300"/>
                </a:solidFill>
                <a:latin typeface="文鼎新藝體"/>
                <a:ea typeface="文鼎新藝體"/>
              </a:rPr>
              <a:t>T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　東北（ＮＥ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西（Ｗ）　　　　　　　　　　　　　　東（Ｅ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　　　　　　　　　 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</a:rPr>
              <a:t>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西南（Ｓ）　　　　南（Ｓ）　　　　東南（Ｓ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86400" y="12952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47242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T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在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P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的北方嗎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47242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T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在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P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的東北方嗎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54100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怎麼辦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54100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3300"/>
                </a:solidFill>
                <a:latin typeface="文鼎粗隸"/>
                <a:ea typeface="文鼎粗隸"/>
              </a:rPr>
              <a:t>看來只有八個主要方向是不夠的</a:t>
            </a:r>
            <a:r>
              <a:rPr b="0" lang="zh-TW" sz="2800" spc="-1" strike="noStrike">
                <a:solidFill>
                  <a:srgbClr val="ff3300"/>
                </a:solidFill>
                <a:latin typeface="文鼎粗隸"/>
                <a:ea typeface="文鼎粗隸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1523880"/>
            <a:ext cx="289584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124080" y="1523880"/>
            <a:ext cx="289584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95280" y="914400"/>
            <a:ext cx="7162920" cy="45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西北（ＮＷ）　　　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</a:rPr>
              <a:t>北（Ｎ）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TW" sz="2400" spc="-1" strike="noStrike">
                <a:solidFill>
                  <a:srgbClr val="ff3300"/>
                </a:solidFill>
                <a:latin typeface="文鼎新藝體"/>
                <a:ea typeface="文鼎新藝體"/>
              </a:rPr>
              <a:t>T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　東北（ＮＥ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西（Ｗ）　　　　　　　　　　　　　　東（Ｅ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　　　　　　　　　 </a:t>
            </a:r>
            <a:r>
              <a:rPr b="0" lang="zh-TW" sz="2400" spc="-1" strike="noStrike">
                <a:solidFill>
                  <a:srgbClr val="ff3300"/>
                </a:solidFill>
                <a:latin typeface="Times New Roman"/>
              </a:rPr>
              <a:t>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西南（Ｓ）　　　　南（Ｓ）　　　　東南（Ｓ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2971800"/>
            <a:ext cx="426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1447920"/>
            <a:ext cx="3886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590920" y="1447560"/>
            <a:ext cx="388620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1447920"/>
            <a:ext cx="388620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666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572000" y="14475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12952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4724280"/>
            <a:ext cx="64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你會怎樣說明金魚池的位置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572000" y="1371600"/>
            <a:ext cx="914400" cy="129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54100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首先把</a:t>
            </a: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T</a:t>
            </a: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與</a:t>
            </a: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P</a:t>
            </a: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用直線連起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09680" y="4419720"/>
            <a:ext cx="60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然後利用量角器量出</a:t>
            </a:r>
            <a:r>
              <a:rPr b="0" lang="zh-TW" sz="3200" spc="-1" strike="noStrike">
                <a:solidFill>
                  <a:srgbClr val="990000"/>
                </a:solidFill>
                <a:latin typeface="Symbol"/>
                <a:ea typeface="Symbol"/>
              </a:rPr>
              <a:t>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</a:rPr>
              <a:t>NPT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</a:rPr>
              <a:t>＝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</a:rPr>
              <a:t>25</a:t>
            </a:r>
            <a:r>
              <a:rPr b="0" lang="zh-TW" sz="3200" spc="-1" strike="noStrike">
                <a:solidFill>
                  <a:srgbClr val="99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49528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由此可知，</a:t>
            </a:r>
            <a:r>
              <a:rPr b="0" lang="zh-TW" sz="3200" spc="-1" strike="noStrike" u="sng">
                <a:solidFill>
                  <a:srgbClr val="3333cc"/>
                </a:solidFill>
                <a:uFillTx/>
                <a:latin typeface="標楷體"/>
                <a:ea typeface="標楷體"/>
              </a:rPr>
              <a:t>Ｔ對Ｐ的方向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290680" y="0"/>
          <a:ext cx="441504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0680" y="0"/>
                    <a:ext cx="44150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2057400" y="54864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「北</a:t>
            </a: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25</a:t>
            </a:r>
            <a:r>
              <a:rPr b="0" lang="zh-TW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東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54864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標楷體"/>
                <a:ea typeface="標楷體"/>
              </a:rPr>
              <a:t>寫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5410080"/>
            <a:ext cx="2475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Ｎ</a:t>
            </a: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25</a:t>
            </a:r>
            <a:r>
              <a:rPr b="0" lang="zh-TW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Ｅ</a:t>
            </a:r>
            <a:r>
              <a:rPr b="0" lang="zh-TW" sz="3200" spc="-1" strike="noStrike">
                <a:solidFill>
                  <a:srgbClr val="3333cc"/>
                </a:solidFill>
                <a:latin typeface="華康POP1體"/>
                <a:ea typeface="華康POP1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60199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cc"/>
                </a:solidFill>
                <a:latin typeface="華康POP1體"/>
                <a:ea typeface="華康POP1體"/>
              </a:rPr>
              <a:t>還可以用</a:t>
            </a:r>
            <a:r>
              <a:rPr b="0" lang="zh-TW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方位角</a:t>
            </a:r>
            <a:r>
              <a:rPr b="0" lang="zh-TW" sz="3200" spc="-1" strike="noStrike">
                <a:solidFill>
                  <a:srgbClr val="3333cc"/>
                </a:solidFill>
                <a:latin typeface="華康POP1體"/>
                <a:ea typeface="華康POP1體"/>
              </a:rPr>
              <a:t>來表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方位角的定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由北方起依順時針方向至目標方向所做成的角，稱為方位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而且方位角是用三位數字來表示的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例如︰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寫作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034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114800" y="609480"/>
            <a:ext cx="40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首先把指南針的圓周分為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360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等份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,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每份是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1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533520"/>
          <a:ext cx="415764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415764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4038480" y="19051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北方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(N)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定為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000</a:t>
            </a:r>
            <a:r>
              <a:rPr b="0" lang="zh-TW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,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即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(0</a:t>
            </a:r>
            <a:r>
              <a:rPr b="0" lang="zh-TW" sz="3200" spc="-1" strike="noStrike">
                <a:solidFill>
                  <a:srgbClr val="990000"/>
                </a:solidFill>
                <a:latin typeface="Symbol"/>
                <a:ea typeface="Symbol"/>
              </a:rPr>
              <a:t></a:t>
            </a:r>
            <a:r>
              <a:rPr b="0" lang="zh-TW" sz="3200" spc="-1" strike="noStrike">
                <a:solidFill>
                  <a:srgbClr val="990000"/>
                </a:solidFill>
                <a:latin typeface="華康POP1體"/>
                <a:ea typeface="華康POP1體"/>
              </a:rPr>
              <a:t>)</a:t>
            </a:r>
            <a:r>
              <a:rPr b="0" lang="zh-TW" sz="3200" spc="-1" strike="noStrike">
                <a:solidFill>
                  <a:srgbClr val="990000"/>
                </a:solidFill>
                <a:latin typeface="華康POP1體"/>
                <a:ea typeface="華康POP1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2666880"/>
            <a:ext cx="54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東方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(E)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定為</a:t>
            </a: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090</a:t>
            </a:r>
            <a:r>
              <a:rPr b="0" lang="zh-TW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,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即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(90</a:t>
            </a:r>
            <a:r>
              <a:rPr b="0" lang="zh-TW" sz="3200" spc="-1" strike="noStrike">
                <a:solidFill>
                  <a:srgbClr val="990000"/>
                </a:solidFill>
                <a:latin typeface="Symbol"/>
                <a:ea typeface="Symbol"/>
              </a:rPr>
              <a:t></a:t>
            </a:r>
            <a:r>
              <a:rPr b="0" lang="zh-TW" sz="3200" spc="-1" strike="noStrike">
                <a:solidFill>
                  <a:srgbClr val="990000"/>
                </a:solidFill>
                <a:latin typeface="華康POP1體"/>
                <a:ea typeface="華康POP1體"/>
              </a:rPr>
              <a:t>)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3429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南方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(S)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定為     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3429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180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3429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(180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)</a:t>
            </a:r>
            <a:r>
              <a:rPr b="0" lang="zh-CN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42670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西方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(W)</a:t>
            </a:r>
            <a:r>
              <a:rPr b="0" lang="zh-TW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定為     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00720" y="42210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270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96080" y="42670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(270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ff3300"/>
                </a:solidFill>
                <a:latin typeface="華康POP1體"/>
                <a:ea typeface="華康POP1體"/>
              </a:rPr>
              <a:t>)</a:t>
            </a:r>
            <a:r>
              <a:rPr b="0" lang="zh-CN" sz="3200" spc="-1" strike="noStrike">
                <a:solidFill>
                  <a:srgbClr val="990000"/>
                </a:solidFill>
                <a:latin typeface="標楷體"/>
                <a:ea typeface="標楷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5029200"/>
            <a:ext cx="5410080" cy="121824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cc"/>
                </a:solidFill>
                <a:latin typeface="文鼎新藝體"/>
                <a:ea typeface="文鼎新藝體"/>
              </a:rPr>
              <a:t>這是用方位角表示的角度</a:t>
            </a:r>
            <a:r>
              <a:rPr b="0" lang="zh-TW" sz="3200" spc="-1" strike="noStrike">
                <a:solidFill>
                  <a:srgbClr val="9900cc"/>
                </a:solidFill>
                <a:latin typeface="文鼎新藝體"/>
                <a:ea typeface="文鼎新藝體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cc"/>
                </a:solidFill>
                <a:latin typeface="文鼎新藝體"/>
                <a:ea typeface="文鼎新藝體"/>
              </a:rPr>
              <a:t>它是由三個數字組成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00800" y="5029200"/>
            <a:ext cx="685800" cy="685800"/>
          </a:xfrm>
          <a:custGeom>
            <a:avLst/>
            <a:gdLst>
              <a:gd name="textAreaLeft" fmla="*/ 228600 w 685800"/>
              <a:gd name="textAreaRight" fmla="*/ 587520 w 685800"/>
              <a:gd name="textAreaTop" fmla="*/ 394920 h 685800"/>
              <a:gd name="textAreaBottom" fmla="*/ 587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219320" y="6858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0000"/>
                </a:solidFill>
                <a:latin typeface="Times New Roman"/>
              </a:rPr>
              <a:t>試用方位角表示下列方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52388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3505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752480" y="20574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752480" y="2514600"/>
            <a:ext cx="9907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2895480"/>
            <a:ext cx="761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3809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045</a:t>
            </a:r>
            <a:r>
              <a:rPr b="0" lang="zh-TW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4495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可不以可以用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045</a:t>
            </a:r>
            <a:r>
              <a:rPr b="0" lang="zh-TW" sz="2800" spc="-1" strike="noStrike">
                <a:solidFill>
                  <a:srgbClr val="990000"/>
                </a:solidFill>
                <a:latin typeface="Symbol"/>
                <a:ea typeface="Symbol"/>
              </a:rPr>
              <a:t>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來表示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5410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可以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,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但不常用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,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因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NE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的寫法較簡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447920"/>
            <a:ext cx="3124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3333cc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3333cc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62720" y="28195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086600" y="1905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248520" y="281952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69000" y="2535120"/>
            <a:ext cx="844560" cy="803520"/>
          </a:xfrm>
          <a:custGeom>
            <a:avLst/>
            <a:gdLst/>
            <a:ahLst/>
            <a:rect l="l" t="t" r="r" b="b"/>
            <a:pathLst>
              <a:path w="532" h="506">
                <a:moveTo>
                  <a:pt x="257" y="18"/>
                </a:moveTo>
                <a:cubicBezTo>
                  <a:pt x="311" y="0"/>
                  <a:pt x="353" y="17"/>
                  <a:pt x="407" y="31"/>
                </a:cubicBezTo>
                <a:cubicBezTo>
                  <a:pt x="420" y="43"/>
                  <a:pt x="434" y="54"/>
                  <a:pt x="445" y="68"/>
                </a:cubicBezTo>
                <a:cubicBezTo>
                  <a:pt x="464" y="92"/>
                  <a:pt x="495" y="144"/>
                  <a:pt x="495" y="144"/>
                </a:cubicBezTo>
                <a:cubicBezTo>
                  <a:pt x="503" y="169"/>
                  <a:pt x="512" y="194"/>
                  <a:pt x="520" y="219"/>
                </a:cubicBezTo>
                <a:cubicBezTo>
                  <a:pt x="524" y="231"/>
                  <a:pt x="532" y="256"/>
                  <a:pt x="532" y="256"/>
                </a:cubicBezTo>
                <a:cubicBezTo>
                  <a:pt x="516" y="338"/>
                  <a:pt x="508" y="416"/>
                  <a:pt x="420" y="444"/>
                </a:cubicBezTo>
                <a:cubicBezTo>
                  <a:pt x="372" y="476"/>
                  <a:pt x="339" y="483"/>
                  <a:pt x="282" y="494"/>
                </a:cubicBezTo>
                <a:cubicBezTo>
                  <a:pt x="223" y="489"/>
                  <a:pt x="152" y="506"/>
                  <a:pt x="106" y="469"/>
                </a:cubicBezTo>
                <a:cubicBezTo>
                  <a:pt x="0" y="385"/>
                  <a:pt x="142" y="464"/>
                  <a:pt x="56" y="41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9625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3300"/>
                </a:solidFill>
                <a:latin typeface="標楷體"/>
                <a:ea typeface="標楷體"/>
              </a:rPr>
              <a:t>225</a:t>
            </a:r>
            <a:r>
              <a:rPr b="0" lang="zh-TW" sz="32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46483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可不以可以用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225</a:t>
            </a:r>
            <a:r>
              <a:rPr b="0" lang="zh-TW" sz="2800" spc="-1" strike="noStrike">
                <a:solidFill>
                  <a:srgbClr val="990000"/>
                </a:solidFill>
                <a:latin typeface="Symbol"/>
                <a:ea typeface="Symbol"/>
              </a:rPr>
              <a:t>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來表示</a:t>
            </a:r>
            <a:r>
              <a:rPr b="0" lang="zh-TW" sz="2800" spc="-1" strike="noStrike">
                <a:solidFill>
                  <a:srgbClr val="990000"/>
                </a:solidFill>
                <a:latin typeface="標楷體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76920" y="5562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可以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,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但不常用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,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因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SW</a:t>
            </a:r>
            <a:r>
              <a:rPr b="0" lang="zh-TW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的寫法較簡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806760" y="166680"/>
            <a:ext cx="7875000" cy="6366960"/>
            <a:chOff x="806760" y="166680"/>
            <a:chExt cx="7875000" cy="6366960"/>
          </a:xfrm>
        </p:grpSpPr>
        <p:sp>
          <p:nvSpPr>
            <p:cNvPr id="140" name=""/>
            <p:cNvSpPr/>
            <p:nvPr/>
          </p:nvSpPr>
          <p:spPr>
            <a:xfrm>
              <a:off x="7697880" y="3092400"/>
              <a:ext cx="98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3600" spc="-1" strike="noStrike">
                  <a:solidFill>
                    <a:srgbClr val="000000"/>
                  </a:solidFill>
                  <a:latin typeface="Times New Roman"/>
                </a:rPr>
                <a:t>090</a:t>
              </a:r>
              <a:r>
                <a:rPr b="0" lang="zh-TW" sz="2800" spc="-1" strike="noStrike" baseline="60000">
                  <a:solidFill>
                    <a:srgbClr val="000000"/>
                  </a:solidFill>
                  <a:latin typeface="Bookman Old Style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806760" y="166680"/>
              <a:ext cx="6987600" cy="6366960"/>
              <a:chOff x="806760" y="166680"/>
              <a:chExt cx="6987600" cy="6366960"/>
            </a:xfrm>
          </p:grpSpPr>
          <p:sp>
            <p:nvSpPr>
              <p:cNvPr id="142" name=""/>
              <p:cNvSpPr/>
              <p:nvPr/>
            </p:nvSpPr>
            <p:spPr>
              <a:xfrm>
                <a:off x="4344480" y="60948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3333cc"/>
                    </a:solidFill>
                    <a:latin typeface="Times New Roman"/>
                  </a:rPr>
                  <a:t>北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2362320" y="1218960"/>
                <a:ext cx="4495680" cy="4190760"/>
                <a:chOff x="2362320" y="1218960"/>
                <a:chExt cx="4495680" cy="4190760"/>
              </a:xfrm>
            </p:grpSpPr>
            <p:sp>
              <p:nvSpPr>
                <p:cNvPr id="144" name=""/>
                <p:cNvSpPr/>
                <p:nvPr/>
              </p:nvSpPr>
              <p:spPr>
                <a:xfrm flipV="1">
                  <a:off x="4572000" y="1218960"/>
                  <a:ext cx="0" cy="4190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362320" y="3429000"/>
                  <a:ext cx="449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881080" y="1948680"/>
                  <a:ext cx="3381840" cy="296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V="1">
                  <a:off x="2921400" y="1901160"/>
                  <a:ext cx="3260160" cy="309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" name=""/>
              <p:cNvSpPr/>
              <p:nvPr/>
            </p:nvSpPr>
            <p:spPr>
              <a:xfrm>
                <a:off x="7027200" y="310824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3333cc"/>
                    </a:solidFill>
                    <a:latin typeface="Times New Roman"/>
                  </a:rPr>
                  <a:t>東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345920" y="530388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3333cc"/>
                    </a:solidFill>
                    <a:latin typeface="Times New Roman"/>
                  </a:rPr>
                  <a:t>南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29880" y="310680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3333cc"/>
                    </a:solidFill>
                    <a:latin typeface="Times New Roman"/>
                  </a:rPr>
                  <a:t>西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470680" y="134136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0000"/>
                    </a:solidFill>
                    <a:latin typeface="Times New Roman"/>
                  </a:rPr>
                  <a:t>西北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36040" y="13352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ff0000"/>
                    </a:solidFill>
                    <a:latin typeface="Times New Roman"/>
                  </a:rPr>
                  <a:t>東北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955120" y="479736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ff0000"/>
                    </a:solidFill>
                    <a:latin typeface="Times New Roman"/>
                  </a:rPr>
                  <a:t>東南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570400" y="4911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0000"/>
                    </a:solidFill>
                    <a:latin typeface="Times New Roman"/>
                  </a:rPr>
                  <a:t>西南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81760" y="166680"/>
                <a:ext cx="98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000</a:t>
                </a:r>
                <a:r>
                  <a:rPr b="0" lang="zh-TW" sz="2800" spc="-1" strike="noStrike" baseline="60000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187880" y="5891040"/>
                <a:ext cx="98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180</a:t>
                </a:r>
                <a:r>
                  <a:rPr b="0" lang="zh-TW" sz="2800" spc="-1" strike="noStrike" baseline="60000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06760" y="3105000"/>
                <a:ext cx="98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270</a:t>
                </a:r>
                <a:r>
                  <a:rPr b="0" lang="zh-TW" sz="2800" spc="-1" strike="noStrike" baseline="60000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770880" y="1022400"/>
                <a:ext cx="98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045</a:t>
                </a:r>
                <a:r>
                  <a:rPr b="0" lang="zh-TW" sz="2800" spc="-1" strike="noStrike" baseline="60000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810480" y="5219640"/>
                <a:ext cx="98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135</a:t>
                </a:r>
                <a:r>
                  <a:rPr b="0" lang="zh-TW" sz="2800" spc="-1" strike="noStrike" baseline="60000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638720" y="5357880"/>
                <a:ext cx="999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225</a:t>
                </a:r>
                <a:r>
                  <a:rPr b="0" lang="zh-TW" sz="36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486080" y="1006560"/>
                <a:ext cx="983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315</a:t>
                </a:r>
                <a:r>
                  <a:rPr b="0" lang="zh-TW" sz="2800" spc="-1" strike="noStrike" baseline="60000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1304800">
                <a:off x="3980520" y="2539800"/>
                <a:ext cx="1218240" cy="76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9" y="0"/>
                    </a:moveTo>
                    <a:arcTo wR="10800" hR="10800" stAng="-5400167" swAng="54001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9" y="0"/>
                    </a:moveTo>
                    <a:arcTo wR="10800" hR="10800" stAng="-5400167" swAng="5400167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32560" y="1965240"/>
                <a:ext cx="755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3600" spc="-1" strike="noStrike">
                    <a:solidFill>
                      <a:srgbClr val="000000"/>
                    </a:solidFill>
                    <a:latin typeface="Times New Roman"/>
                  </a:rPr>
                  <a:t>45</a:t>
                </a:r>
                <a:r>
                  <a:rPr b="0" lang="zh-TW" sz="2800" spc="-1" strike="noStrike" baseline="60000">
                    <a:solidFill>
                      <a:srgbClr val="000000"/>
                    </a:solidFill>
                    <a:latin typeface="Bookman Old Style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" name=""/>
          <p:cNvSpPr/>
          <p:nvPr/>
        </p:nvSpPr>
        <p:spPr>
          <a:xfrm>
            <a:off x="905760" y="138240"/>
            <a:ext cx="2207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cc00cc"/>
                </a:solidFill>
                <a:latin typeface="Times New Roman"/>
                <a:ea typeface="標楷體"/>
              </a:rPr>
              <a:t>八個主要方位角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0T10:32:07Z</dcterms:created>
  <dc:creator>Guest4</dc:creator>
  <dc:description/>
  <dc:language>en-US</dc:language>
  <cp:lastModifiedBy>Simon</cp:lastModifiedBy>
  <dcterms:modified xsi:type="dcterms:W3CDTF">2004-05-13T13:44:19Z</dcterms:modified>
  <cp:revision>28</cp:revision>
  <dc:subject/>
  <dc:title>無投影片標題</dc:title>
</cp:coreProperties>
</file>