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7B4-C2C4-4875-A0E7-757893E6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58327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640" y="5507640"/>
            <a:ext cx="58327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584-99EB-446F-A57F-82BEDD4E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2640" y="55076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722-775B-4458-A784-469C24B7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720" y="264168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800" y="264168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640" y="550764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4720" y="550764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800" y="5507640"/>
            <a:ext cx="18777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B96-2118-4BF0-BDAF-882BD0C4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2640" y="2641680"/>
            <a:ext cx="5832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6D2-26F1-4FCE-B973-56FCFCF6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583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AA5-1833-4DDB-A1C6-A63823E9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CDB-8267-4805-A748-A0B66180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9E5-4904-4D2F-807B-AD5AA7D1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2640" y="814320"/>
            <a:ext cx="58327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F0C-FDE7-4DDC-B41F-6324EA5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2640" y="55076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B03-234B-4F0F-B877-E5B90342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373-3B04-45B1-A257-13F742C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264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616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640" y="5507640"/>
            <a:ext cx="5832720" cy="26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911-DE0D-425F-ABD9-3586E5C4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2640" y="814320"/>
            <a:ext cx="583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2640" y="2641680"/>
            <a:ext cx="583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2280" y="8331120"/>
            <a:ext cx="14288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160" y="8331120"/>
            <a:ext cx="14288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B700-6B7E-4921-9488-62D1FEE5B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0" y="-380880"/>
            <a:ext cx="6248520" cy="830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466560" y="-304920"/>
          <a:ext cx="4305240" cy="723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6560" y="-304920"/>
                    <a:ext cx="4305240" cy="72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-109440" y="3581280"/>
            <a:ext cx="2644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4920" rIns="124920" tIns="62640" bIns="62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t-Out - Cranford Nor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R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X 4g, 5g (180deg) (5g=90deg, 2-10 nose low MI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LERON R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ZY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LIT 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BAN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V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W FL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W FLIGHT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B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CTORS CONTACT ST-IN OPTION CROSSW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 O/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560" y="625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4680" y="2809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94720" y="1905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5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680" y="219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9840" y="3498840"/>
            <a:ext cx="15843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920" rIns="124920" tIns="62640" bIns="62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  Don’t su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9200"/>
                <a:tab algn="l" pos="2498760"/>
                <a:tab algn="l" pos="3747960"/>
                <a:tab algn="l" pos="4997520"/>
                <a:tab algn="l" pos="6246720"/>
                <a:tab algn="l" pos="7496280"/>
                <a:tab algn="l" pos="8745480"/>
                <a:tab algn="l" pos="99950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23:48:31Z</dcterms:created>
  <dc:creator>Bryan Duke</dc:creator>
  <dc:description/>
  <dc:language>en-US</dc:language>
  <cp:lastModifiedBy>Bryan Duke</cp:lastModifiedBy>
  <cp:lastPrinted>1999-09-21T02:06:38Z</cp:lastPrinted>
  <dcterms:modified xsi:type="dcterms:W3CDTF">2000-01-09T21:57:31Z</dcterms:modified>
  <cp:revision>13</cp:revision>
  <dc:subject/>
  <dc:title>No Slide Title</dc:title>
</cp:coreProperties>
</file>