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011-7E32-4FBC-A468-BA3658ED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CD5-AD47-4FCC-BD0B-28AADA47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D1E-E051-4CC0-8BCC-5B127271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503-D933-4E3B-A9E0-6FAD2B0F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79F-C702-4324-BEA2-41393B9C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D39-61DB-47F3-9F0C-6DF9DF59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F3E-CEFC-42F1-90F9-398B2FBC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52B-29D5-49D6-AB18-8990D86A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F07-C6F1-4E39-8AC5-E099E43D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E2D-5770-49CC-A4F7-CE0ACC33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FD8-EB0E-4003-A130-C484E78E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86D-8623-418E-AD58-D79D981F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0C32-315F-4136-88FA-43D863324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22360" y="0"/>
            <a:ext cx="4087800" cy="6686280"/>
            <a:chOff x="1422360" y="0"/>
            <a:chExt cx="4087800" cy="6686280"/>
          </a:xfrm>
        </p:grpSpPr>
        <p:sp>
          <p:nvSpPr>
            <p:cNvPr id="42" name=""/>
            <p:cNvSpPr/>
            <p:nvPr/>
          </p:nvSpPr>
          <p:spPr>
            <a:xfrm>
              <a:off x="1422360" y="0"/>
              <a:ext cx="1261080" cy="46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attery On  </a:t>
              </a:r>
              <a:r>
                <a:rPr b="1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3 Out &amp; Up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teps are Stow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Silver key - All strapped 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Item 5 comple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2 pushed with 2 pins  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Good Price check__over_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B’s in - center and left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3 outboar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Rudder trim - neutr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Throttles - off             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peed brake center and af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mpass Ma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Fuel shutoff - up&amp;guard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lt gear handle - stow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Landing lights - 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Handle down 3 green 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710 1.2 - 1.4 Bug Set @___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Uncaged &amp; adjusted 3°N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3 on one  __:__ good sweep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Normal Tacan Good Bc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2 forward</a:t>
              </a: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Antennae Auto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Both Preset Squelch CH 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99X T/R ON 109.3 (108.7)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Mag Compass checks goo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Altimeter __.__ reads __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VVI = 0</a:t>
              </a: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           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Enviros S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oost Pumps 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rossfeed 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Generators 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IFF standb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 u="sng">
                  <a:solidFill>
                    <a:srgbClr val="33cc33"/>
                  </a:solidFill>
                  <a:uFillTx/>
                  <a:latin typeface="Times New Roman"/>
                </a:rPr>
                <a:t>“</a:t>
              </a:r>
              <a:r>
                <a:rPr b="1" i="1" lang="en-US" sz="700" spc="-1" strike="noStrike" u="sng">
                  <a:solidFill>
                    <a:srgbClr val="33cc33"/>
                  </a:solidFill>
                  <a:uFillTx/>
                  <a:latin typeface="Times New Roman"/>
                </a:rPr>
                <a:t>Ready for my lights”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Light in the handle  Hor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3 green  4 fire lights AO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Master Caution  Canop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Full Panel                   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Interior Lights Set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orm Lights 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Rotating beacon 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osition lights off       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Pubs AOA and Loo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items Stow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Mask up Visor d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492920" y="4748400"/>
              <a:ext cx="1146600" cy="1937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28120" y="4704840"/>
              <a:ext cx="119556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tarting Engi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No O</a:t>
              </a:r>
              <a:r>
                <a:rPr b="1" lang="en-US" sz="7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 or refueling w/i 50f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Clear fore sides aft&amp; inle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33cc33"/>
                  </a:solidFill>
                  <a:latin typeface="Times New Roman"/>
                </a:rPr>
                <a:t>“</a:t>
              </a:r>
              <a:r>
                <a:rPr b="1" i="1" lang="en-US" sz="700" spc="-1" strike="noStrike">
                  <a:solidFill>
                    <a:srgbClr val="33cc33"/>
                  </a:solidFill>
                  <a:latin typeface="Times New Roman"/>
                </a:rPr>
                <a:t>Hands Clear” (Connect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Ready Ready HAC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Off flag out of vie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Fuel flow EGT Oil Hydr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Caution Panel Clear Righ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33cc33"/>
                  </a:solidFill>
                  <a:latin typeface="Times New Roman"/>
                </a:rPr>
                <a:t>“</a:t>
              </a:r>
              <a:r>
                <a:rPr b="1" i="1" lang="en-US" sz="700" spc="-1" strike="noStrike">
                  <a:solidFill>
                    <a:srgbClr val="33cc33"/>
                  </a:solidFill>
                  <a:latin typeface="Times New Roman"/>
                </a:rPr>
                <a:t>Hands Clear” (Switch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Ready Ready HAC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Off flag out of vie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Fuel flow EGT Oil Hydr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Caution Panel Clear Lef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cc33"/>
                  </a:solidFill>
                  <a:latin typeface="Times New Roman"/>
                </a:rPr>
                <a:t>Engage Disengage Re-engag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33cc33"/>
                  </a:solidFill>
                  <a:latin typeface="Times New Roman"/>
                </a:rPr>
                <a:t>(Disconnect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CB’s in Center and Lef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Battery 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01000" y="21240"/>
              <a:ext cx="11696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EFORE TAX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efog, Temp, P. Hea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Yam Damper - on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G-suit zip good squeeze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eet and Knees Clear”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Trim check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lt. controls - chec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peed brake - chec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lap Slab - check</a:t>
              </a: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lt Dir/COM/NAV chk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3° Nose Low on 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Heading ____ on 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Altimeter set __._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eads ___ w/drop of _ _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IFF checks goo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uel’s __ good bal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Light at a Li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-over good           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Seat height adjust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2 showed and stow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Good brak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33cc33"/>
                  </a:solidFill>
                  <a:latin typeface="Times New Roman"/>
                </a:rPr>
                <a:t>“</a:t>
              </a:r>
              <a:r>
                <a:rPr b="1" i="1" lang="en-US" sz="700" spc="-1" strike="noStrike">
                  <a:solidFill>
                    <a:srgbClr val="33cc33"/>
                  </a:solidFill>
                  <a:latin typeface="Times New Roman"/>
                </a:rPr>
                <a:t>Hands Clear”(</a:t>
              </a:r>
              <a:r>
                <a:rPr b="1" lang="en-US" sz="700" spc="-1" strike="noStrike">
                  <a:solidFill>
                    <a:srgbClr val="33cc33"/>
                  </a:solidFill>
                  <a:latin typeface="Times New Roman"/>
                </a:rPr>
                <a:t>Chock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43120" y="46440"/>
              <a:ext cx="1032120" cy="2384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43120" y="2430720"/>
              <a:ext cx="1032120" cy="2417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12160" y="2399040"/>
              <a:ext cx="1093680" cy="23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AXI/BEFORE T/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Taxi Lights 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3° Nose Low on 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(HDG) on 2          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Handle down 3 gre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laps 6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Hyd Oil &amp; Fuel - goo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ins are out          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Min-accel is ___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Adj Refusal is __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Refusal is ___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SETOS is ___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SETOS+10 is ___ 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attery’s 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Enviros s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Loose items stow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Visors d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T/O trim in the gre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33cc33"/>
                  </a:solidFill>
                  <a:latin typeface="Times New Roman"/>
                </a:rPr>
                <a:t>“</a:t>
              </a:r>
              <a:r>
                <a:rPr b="1" i="1" lang="en-US" sz="700" spc="-1" strike="noStrike">
                  <a:solidFill>
                    <a:srgbClr val="33cc33"/>
                  </a:solidFill>
                  <a:latin typeface="Times New Roman"/>
                </a:rPr>
                <a:t>Feet and Knees clear”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Flight controls chec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anopies Up w/a ligh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43120" y="4848480"/>
              <a:ext cx="1032120" cy="485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32680" y="4823280"/>
              <a:ext cx="951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N - Navai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E- Emergency Retur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W - Weath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S - SI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43120" y="5334480"/>
              <a:ext cx="1032120" cy="1351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02440" y="5302800"/>
              <a:ext cx="1037160" cy="12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INEUP/TAKE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333cc"/>
                  </a:solidFill>
                  <a:latin typeface="Times New Roman"/>
                </a:rPr>
                <a:t>Lights      Squaw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333cc"/>
                  </a:solidFill>
                  <a:latin typeface="Times New Roman"/>
                </a:rPr>
                <a:t>Pitot     Envir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se Wheel Center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MIL on the brak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Engine instr. Chec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lear Telelight Pan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rake Release - MA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enterline   Needle 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00 knots taking a ti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Min-accel   We’re a g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75240" y="46440"/>
              <a:ext cx="950760" cy="645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79200" y="41400"/>
              <a:ext cx="657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LIM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Hot and Dr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Oxyg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Fu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abin Alt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75240" y="1338480"/>
              <a:ext cx="950760" cy="1112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55080" y="1326600"/>
              <a:ext cx="9216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C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Visor - d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HDG + Attitu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Altimeter - chec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Fuel -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700" spc="-1" strike="noStrike">
                  <a:solidFill>
                    <a:srgbClr val="3333cc"/>
                  </a:solidFill>
                  <a:latin typeface="Times New Roman"/>
                </a:rPr>
                <a:t>BUG SPE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X-feed - 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efog + temp - s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Pitot/Anti ice - A/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Land/Pos Lts - 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75240" y="2447280"/>
              <a:ext cx="950760" cy="1751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31320" y="2425680"/>
              <a:ext cx="99288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FTER L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2 Pins - 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Pitot heat - 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Loose items - stow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abin Alt. - chec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Ram Dump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Canopies - op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Gear doors - op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T/O trim in the gre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Flaps - up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peed brake - af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Ldg/Pos lits - 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Center Console - 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IFF - 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abin press - 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75240" y="4192200"/>
              <a:ext cx="950760" cy="138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68040" y="4177440"/>
              <a:ext cx="8773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HUTD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Eng 70% - 1 m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Seats - full up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Pos/form lts - 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Oxygen - 100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Throttles - 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eacon - 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Stdby ADI - cag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Ung switches - 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Silver key - sec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attery - 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lt. Dir - 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33200" y="51120"/>
              <a:ext cx="8053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uel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rm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N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3500   180     </a:t>
              </a: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19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3400   179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9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3300   178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9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3200   177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9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3100   176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9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3000   175     </a:t>
              </a: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19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00   174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8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800   173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8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700   172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8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600   171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8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2500   170     </a:t>
              </a: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18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400   169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8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300   168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8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200   167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8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100   166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8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2000   165     </a:t>
              </a: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18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900   164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7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0   163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7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700   162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7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600   161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7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500   160     </a:t>
              </a: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17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400   159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7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300   158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7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0   157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7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100   156     </a:t>
              </a:r>
              <a:r>
                <a:rPr b="0" lang="en-US" sz="700" spc="-1" strike="noStrike">
                  <a:solidFill>
                    <a:srgbClr val="ff0000"/>
                  </a:solidFill>
                  <a:latin typeface="Times New Roman"/>
                </a:rPr>
                <a:t>17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000   155     </a:t>
              </a: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17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23120" y="46440"/>
              <a:ext cx="863280" cy="3110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92920" y="46440"/>
              <a:ext cx="1146600" cy="4701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75240" y="692280"/>
              <a:ext cx="950760" cy="645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91440" y="674280"/>
              <a:ext cx="68076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EVEL O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Oxyg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Fu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abin Alt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Times New Roman"/>
                </a:rPr>
                <a:t>Altime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27080" y="3164760"/>
              <a:ext cx="627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T - Ti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T - Tur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T - Thrott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T - Twis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T - Trac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T - Tal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904200"/>
              <a:ext cx="938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W - Weath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H - Hold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O - Obtain Clear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L - Letdown Pl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D - Descent chec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S - Spe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11160" y="5536080"/>
              <a:ext cx="108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Times New Roman"/>
                </a:rPr>
                <a:t>N - Navai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Times New Roman"/>
                </a:rPr>
                <a:t>M - Minimu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Times New Roman"/>
                </a:rPr>
                <a:t>A - Altime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Times New Roman"/>
                </a:rPr>
                <a:t>I - Initial rate desce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Times New Roman"/>
                </a:rPr>
                <a:t>L - Lost com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Times New Roman"/>
                </a:rPr>
                <a:t>M - Missed appro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Times New Roman"/>
                </a:rPr>
                <a:t>A - Airspee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Times New Roman"/>
                </a:rPr>
                <a:t>N - Next appro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5240" y="5577480"/>
              <a:ext cx="950760" cy="1105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26360" y="3153240"/>
              <a:ext cx="862920" cy="772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26360" y="3925800"/>
              <a:ext cx="862920" cy="72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85680" y="4636800"/>
              <a:ext cx="8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L - Localiz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I - Inbound Cour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D - D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cc"/>
                  </a:solidFill>
                  <a:latin typeface="Times New Roman"/>
                </a:rPr>
                <a:t>S - Spe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26360" y="4651560"/>
              <a:ext cx="862920" cy="49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02240" y="1365120"/>
              <a:ext cx="897120" cy="10584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6:54:02Z</dcterms:created>
  <dc:creator>Preferred Customer</dc:creator>
  <dc:description/>
  <dc:language>en-US</dc:language>
  <cp:lastModifiedBy>Bryan Duke</cp:lastModifiedBy>
  <cp:lastPrinted>1999-12-15T20:25:02Z</cp:lastPrinted>
  <dcterms:modified xsi:type="dcterms:W3CDTF">2000-01-08T17:04:22Z</dcterms:modified>
  <cp:revision>12</cp:revision>
  <dc:subject/>
  <dc:title>No Slide Title</dc:title>
</cp:coreProperties>
</file>