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1E0-056B-416D-A6D2-68599E14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089-5566-4AF4-84F7-DF711C6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35-9248-4FEB-B5DA-3217624B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CEE-FF46-4BF6-B310-5E6B3A1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FB1-4F09-4008-A4FD-DD8EAF20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AE7-FA8E-45FC-BF79-31F4F1EC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821-CE54-48D4-BF3D-EBDA3A8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6AF-B5C7-4709-8447-C46080C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7ED-03D4-41AB-92E4-B36954CA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0CA-7ABB-47B6-9ED2-7B37352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97A-631D-402E-84CF-23026E5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8DA-3630-41F2-BCA3-555AC51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6CA-5E78-4F37-B44A-9424780A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9040" y="1981080"/>
            <a:ext cx="35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117144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358128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19520" y="3714840"/>
            <a:ext cx="1066680" cy="58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90720" y="281628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574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90720" y="1447920"/>
            <a:ext cx="7121520" cy="7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3581280"/>
            <a:ext cx="1371600" cy="868320"/>
          </a:xfrm>
          <a:custGeom>
            <a:avLst/>
            <a:gdLst>
              <a:gd name="textAreaLeft" fmla="*/ 94680 w 1371600"/>
              <a:gd name="textAreaRight" fmla="*/ 1276920 w 1371600"/>
              <a:gd name="textAreaTop" fmla="*/ 94680 h 868320"/>
              <a:gd name="textAreaBottom" fmla="*/ 773640 h 868320"/>
            </a:gdLst>
            <a:ahLst/>
            <a:rect l="textAreaLeft" t="textAreaTop" r="textAreaRight" b="textAreaBottom"/>
            <a:pathLst>
              <a:path w="34114" h="21600">
                <a:moveTo>
                  <a:pt x="0" y="0"/>
                </a:moveTo>
                <a:lnTo>
                  <a:pt x="34114" y="0"/>
                </a:lnTo>
                <a:lnTo>
                  <a:pt x="34114" y="21600"/>
                </a:lnTo>
                <a:lnTo>
                  <a:pt x="0" y="21600"/>
                </a:lnTo>
                <a:close/>
              </a:path>
              <a:path fill="lightenLess" w="34114" h="21600">
                <a:moveTo>
                  <a:pt x="0" y="0"/>
                </a:moveTo>
                <a:lnTo>
                  <a:pt x="34114" y="0"/>
                </a:lnTo>
                <a:lnTo>
                  <a:pt x="31751" y="2363"/>
                </a:lnTo>
                <a:lnTo>
                  <a:pt x="2363" y="2363"/>
                </a:lnTo>
                <a:close/>
              </a:path>
              <a:path fill="darken" w="34114" h="21600">
                <a:moveTo>
                  <a:pt x="34114" y="0"/>
                </a:moveTo>
                <a:lnTo>
                  <a:pt x="34114" y="21600"/>
                </a:lnTo>
                <a:lnTo>
                  <a:pt x="31751" y="19237"/>
                </a:lnTo>
                <a:lnTo>
                  <a:pt x="31751" y="2363"/>
                </a:lnTo>
                <a:close/>
              </a:path>
              <a:path fill="darkenLess" w="34114" h="21600">
                <a:moveTo>
                  <a:pt x="3411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31751" y="19237"/>
                </a:lnTo>
                <a:close/>
              </a:path>
              <a:path fill="lighten" w="3411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59240" y="3693960"/>
          <a:ext cx="1036800" cy="62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9240" y="3693960"/>
                    <a:ext cx="10368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210280" y="4127400"/>
            <a:ext cx="11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BOITIZ 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52680" y="838080"/>
            <a:ext cx="24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ff6600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2590920"/>
          <a:ext cx="714996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49960" cy="34290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04920" y="2133720"/>
          <a:ext cx="851040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510400" cy="3328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75040" y="5638680"/>
            <a:ext cx="72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E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172200"/>
            <a:ext cx="485640" cy="480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15238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Impact"/>
              </a:rPr>
              <a:t>September Call Monitoring Re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Impact"/>
              </a:rPr>
              <a:t>% of Abandone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1219320"/>
            <a:ext cx="2286000" cy="990360"/>
          </a:xfrm>
          <a:prstGeom prst="cloudCallout">
            <a:avLst>
              <a:gd name="adj1" fmla="val -36527"/>
              <a:gd name="adj2" fmla="val 83652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6 % Abandoned Calls (VPN Proble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5562720"/>
          <a:ext cx="8229600" cy="990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5562720"/>
                    <a:ext cx="8229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83808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45720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7720" y="1752480"/>
            <a:ext cx="54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Impact"/>
              </a:rPr>
              <a:t>Top Callers (By Department) for September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43000" y="2398680"/>
          <a:ext cx="7238880" cy="36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398680"/>
                    <a:ext cx="7238880" cy="36100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838080"/>
            <a:ext cx="7313760" cy="685800"/>
          </a:xfrm>
          <a:custGeom>
            <a:avLst/>
            <a:gdLst>
              <a:gd name="textAreaLeft" fmla="*/ 74880 w 7313760"/>
              <a:gd name="textAreaRight" fmla="*/ 7238880 w 7313760"/>
              <a:gd name="textAreaTop" fmla="*/ 74880 h 685800"/>
              <a:gd name="textAreaBottom" fmla="*/ 610920 h 685800"/>
            </a:gdLst>
            <a:ahLst/>
            <a:rect l="textAreaLeft" t="textAreaTop" r="textAreaRight" b="textAreaBottom"/>
            <a:pathLst>
              <a:path w="230245" h="21600">
                <a:moveTo>
                  <a:pt x="0" y="0"/>
                </a:moveTo>
                <a:lnTo>
                  <a:pt x="230245" y="0"/>
                </a:lnTo>
                <a:lnTo>
                  <a:pt x="230245" y="21600"/>
                </a:lnTo>
                <a:lnTo>
                  <a:pt x="0" y="21600"/>
                </a:lnTo>
                <a:close/>
              </a:path>
              <a:path fill="lightenLess" w="230245" h="21600">
                <a:moveTo>
                  <a:pt x="0" y="0"/>
                </a:moveTo>
                <a:lnTo>
                  <a:pt x="230245" y="0"/>
                </a:lnTo>
                <a:lnTo>
                  <a:pt x="227882" y="2363"/>
                </a:lnTo>
                <a:lnTo>
                  <a:pt x="2363" y="2363"/>
                </a:lnTo>
                <a:close/>
              </a:path>
              <a:path fill="darken" w="230245" h="21600">
                <a:moveTo>
                  <a:pt x="230245" y="0"/>
                </a:moveTo>
                <a:lnTo>
                  <a:pt x="230245" y="21600"/>
                </a:lnTo>
                <a:lnTo>
                  <a:pt x="227882" y="19237"/>
                </a:lnTo>
                <a:lnTo>
                  <a:pt x="227882" y="2363"/>
                </a:lnTo>
                <a:close/>
              </a:path>
              <a:path fill="darkenLess" w="230245" h="21600">
                <a:moveTo>
                  <a:pt x="230245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27882" y="19237"/>
                </a:lnTo>
                <a:close/>
              </a:path>
              <a:path fill="lighten" w="230245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152280"/>
            <a:ext cx="2667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33520"/>
            <a:ext cx="1495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523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op Problems Re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00160" y="2635200"/>
          <a:ext cx="7021440" cy="335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2635200"/>
                    <a:ext cx="7021440" cy="33591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6200" y="160020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ff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Impact"/>
              </a:rPr>
              <a:t>Incidents Logged for September 2003  –  Network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2438280"/>
          <a:ext cx="6934320" cy="3605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438280"/>
                    <a:ext cx="693432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467480" y="1676520"/>
            <a:ext cx="1219320" cy="838080"/>
          </a:xfrm>
          <a:prstGeom prst="cloudCallout">
            <a:avLst>
              <a:gd name="adj1" fmla="val -81250"/>
              <a:gd name="adj2" fmla="val 1227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PN connection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440" y="160020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Impact"/>
              </a:rPr>
              <a:t>Incidents Logged for January to September 2003 – Hardware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71600" y="2590920"/>
          <a:ext cx="6480000" cy="384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590920"/>
                    <a:ext cx="6480000" cy="38433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162920" y="1752480"/>
            <a:ext cx="1752480" cy="1143000"/>
          </a:xfrm>
          <a:prstGeom prst="cloudCallout">
            <a:avLst>
              <a:gd name="adj1" fmla="val -35324"/>
              <a:gd name="adj2" fmla="val 686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9810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 related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1600200"/>
            <a:ext cx="666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Impact"/>
              </a:rPr>
              <a:t>Call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Impact"/>
              </a:rPr>
              <a:t>Incidents Logged for Jan to September 2003  –  Software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514600"/>
          <a:ext cx="6705720" cy="358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514600"/>
                    <a:ext cx="6705720" cy="35812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68580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457200"/>
            <a:ext cx="141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ff3399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ff3399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286000"/>
          <a:ext cx="7162920" cy="390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86000"/>
                    <a:ext cx="7162920" cy="390528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772400" y="3581280"/>
            <a:ext cx="990720" cy="838440"/>
          </a:xfrm>
          <a:prstGeom prst="cloudCallout">
            <a:avLst>
              <a:gd name="adj1" fmla="val -43750"/>
              <a:gd name="adj2" fmla="val 64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37339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s server han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66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993366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993366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514600"/>
          <a:ext cx="7315200" cy="359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14600"/>
                    <a:ext cx="7315200" cy="359424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0120" y="3048120"/>
            <a:ext cx="1218960" cy="685800"/>
          </a:xfrm>
          <a:prstGeom prst="cloudCallout">
            <a:avLst>
              <a:gd name="adj1" fmla="val -45703"/>
              <a:gd name="adj2" fmla="val 9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276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m prob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90720" y="2514600"/>
          <a:ext cx="720072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200720" cy="36576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914400" y="762120"/>
            <a:ext cx="7313760" cy="731880"/>
          </a:xfrm>
          <a:custGeom>
            <a:avLst/>
            <a:gdLst>
              <a:gd name="textAreaLeft" fmla="*/ 79920 w 7313760"/>
              <a:gd name="textAreaRight" fmla="*/ 7233840 w 7313760"/>
              <a:gd name="textAreaTop" fmla="*/ 79920 h 731880"/>
              <a:gd name="textAreaBottom" fmla="*/ 651960 h 731880"/>
            </a:gdLst>
            <a:ahLst/>
            <a:rect l="textAreaLeft" t="textAreaTop" r="textAreaRight" b="textAreaBottom"/>
            <a:pathLst>
              <a:path w="215756" h="21600">
                <a:moveTo>
                  <a:pt x="0" y="0"/>
                </a:moveTo>
                <a:lnTo>
                  <a:pt x="215756" y="0"/>
                </a:lnTo>
                <a:lnTo>
                  <a:pt x="215756" y="21600"/>
                </a:lnTo>
                <a:lnTo>
                  <a:pt x="0" y="21600"/>
                </a:lnTo>
                <a:close/>
              </a:path>
              <a:path fill="lightenLess" w="215756" h="21600">
                <a:moveTo>
                  <a:pt x="0" y="0"/>
                </a:moveTo>
                <a:lnTo>
                  <a:pt x="215756" y="0"/>
                </a:lnTo>
                <a:lnTo>
                  <a:pt x="213393" y="2363"/>
                </a:lnTo>
                <a:lnTo>
                  <a:pt x="2363" y="2363"/>
                </a:lnTo>
                <a:close/>
              </a:path>
              <a:path fill="darken" w="215756" h="21600">
                <a:moveTo>
                  <a:pt x="215756" y="0"/>
                </a:moveTo>
                <a:lnTo>
                  <a:pt x="215756" y="21600"/>
                </a:lnTo>
                <a:lnTo>
                  <a:pt x="213393" y="19237"/>
                </a:lnTo>
                <a:lnTo>
                  <a:pt x="213393" y="2363"/>
                </a:lnTo>
                <a:close/>
              </a:path>
              <a:path fill="darkenLess" w="215756" h="21600">
                <a:moveTo>
                  <a:pt x="215756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13393" y="19237"/>
                </a:lnTo>
                <a:close/>
              </a:path>
              <a:path fill="lighten" w="215756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End-Us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52280"/>
            <a:ext cx="259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99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I.T. Dashbo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99ff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457200"/>
            <a:ext cx="1343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ptember 200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640" y="152388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00"/>
                </a:solidFill>
                <a:uFillTx/>
                <a:latin typeface="Impact"/>
              </a:rPr>
              <a:t>Call Escalatio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% of Calls Escalated to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Impact"/>
              </a:rPr>
              <a:t>nd</a:t>
            </a:r>
            <a:r>
              <a:rPr b="0" lang="en-US" sz="1800" spc="-1" strike="noStrike">
                <a:solidFill>
                  <a:srgbClr val="003300"/>
                </a:solidFill>
                <a:latin typeface="Impact"/>
              </a:rPr>
              <a:t> leve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08:53Z</dcterms:created>
  <dc:creator>AKP616</dc:creator>
  <dc:description/>
  <dc:language>en-US</dc:language>
  <cp:lastModifiedBy>akp616</cp:lastModifiedBy>
  <dcterms:modified xsi:type="dcterms:W3CDTF">2003-10-30T01:34:13Z</dcterms:modified>
  <cp:revision>130</cp:revision>
  <dc:subject/>
  <dc:title>PowerPoint Presentation</dc:title>
</cp:coreProperties>
</file>