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3.xlsx" ContentType="application/vnd.openxmlformats-officedocument.spreadsheetml.sheet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983A-890E-48DB-B6EF-8E035DF13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3DB8-FB13-4326-9838-5726719CE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BF68-A51B-49CF-AB10-66D6C0D94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FC26-C953-441F-A681-739AD7195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92D5-28C5-44B4-A747-5228B3B53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F1F6-891E-4A07-8DA1-DCE9C3260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784E-4CE5-47E8-B27F-B8FF32840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A335-1D46-4628-BE05-E31B9C6A1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6BD7-8C1E-484B-91F2-2B0482F6B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C9BF-E361-4C69-83E0-AA1051965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84DA-802D-4254-8710-2A4CC6746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F457-64BE-4F7D-AEE8-01F298A76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6E1D3-986F-459D-B234-2534DBE05C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" Target="slide15.xm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" Target="slide11.xml"/><Relationship Id="rId8" Type="http://schemas.openxmlformats.org/officeDocument/2006/relationships/slide" Target="slide11.xml"/><Relationship Id="rId9" Type="http://schemas.openxmlformats.org/officeDocument/2006/relationships/image" Target="../media/image2.pn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5.jpeg"/><Relationship Id="rId13" Type="http://schemas.openxmlformats.org/officeDocument/2006/relationships/image" Target="../media/image5.jpeg"/><Relationship Id="rId1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package" Target="../embeddings/oleObject3.xlsx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46400" y="1065240"/>
            <a:ext cx="42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ystems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" action="ppaction://hlinkshowjump?jump=nextslide"/>
          </p:cNvPr>
          <p:cNvSpPr/>
          <p:nvPr/>
        </p:nvSpPr>
        <p:spPr>
          <a:xfrm>
            <a:off x="2057400" y="1933560"/>
            <a:ext cx="5257800" cy="392040"/>
          </a:xfrm>
          <a:custGeom>
            <a:avLst/>
            <a:gdLst>
              <a:gd name="textAreaLeft" fmla="*/ 42840 w 5257800"/>
              <a:gd name="textAreaRight" fmla="*/ 5214960 w 5257800"/>
              <a:gd name="textAreaTop" fmla="*/ 42840 h 392040"/>
              <a:gd name="textAreaBottom" fmla="*/ 349200 h 392040"/>
            </a:gdLst>
            <a:ahLst/>
            <a:rect l="textAreaLeft" t="textAreaTop" r="textAreaRight" b="textAreaBottom"/>
            <a:pathLst>
              <a:path w="289440" h="21600">
                <a:moveTo>
                  <a:pt x="0" y="0"/>
                </a:moveTo>
                <a:lnTo>
                  <a:pt x="289440" y="0"/>
                </a:lnTo>
                <a:lnTo>
                  <a:pt x="289440" y="21600"/>
                </a:lnTo>
                <a:lnTo>
                  <a:pt x="0" y="21600"/>
                </a:lnTo>
                <a:close/>
              </a:path>
              <a:path fill="lightenLess" w="289440" h="21600">
                <a:moveTo>
                  <a:pt x="0" y="0"/>
                </a:moveTo>
                <a:lnTo>
                  <a:pt x="289440" y="0"/>
                </a:lnTo>
                <a:lnTo>
                  <a:pt x="287077" y="2363"/>
                </a:lnTo>
                <a:lnTo>
                  <a:pt x="2363" y="2363"/>
                </a:lnTo>
                <a:close/>
              </a:path>
              <a:path fill="darken" w="289440" h="21600">
                <a:moveTo>
                  <a:pt x="289440" y="0"/>
                </a:moveTo>
                <a:lnTo>
                  <a:pt x="289440" y="21600"/>
                </a:lnTo>
                <a:lnTo>
                  <a:pt x="287077" y="19237"/>
                </a:lnTo>
                <a:lnTo>
                  <a:pt x="287077" y="2363"/>
                </a:lnTo>
                <a:close/>
              </a:path>
              <a:path fill="darkenLess" w="289440" h="21600">
                <a:moveTo>
                  <a:pt x="289440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287077" y="19237"/>
                </a:lnTo>
                <a:close/>
              </a:path>
              <a:path fill="lighten" w="289440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800000"/>
              </a:gs>
              <a:gs pos="50000">
                <a:srgbClr val="ff0000"/>
              </a:gs>
              <a:gs pos="100000">
                <a:srgbClr val="8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Database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219320" y="1114560"/>
          <a:ext cx="609480" cy="49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114560"/>
                    <a:ext cx="60948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2057400" y="3884760"/>
            <a:ext cx="1371600" cy="868320"/>
          </a:xfrm>
          <a:custGeom>
            <a:avLst/>
            <a:gdLst>
              <a:gd name="textAreaLeft" fmla="*/ 94680 w 1371600"/>
              <a:gd name="textAreaRight" fmla="*/ 1276920 w 1371600"/>
              <a:gd name="textAreaTop" fmla="*/ 94680 h 868320"/>
              <a:gd name="textAreaBottom" fmla="*/ 773640 h 868320"/>
            </a:gdLst>
            <a:ahLst/>
            <a:rect l="textAreaLeft" t="textAreaTop" r="textAreaRight" b="textAreaBottom"/>
            <a:pathLst>
              <a:path w="34114" h="21600">
                <a:moveTo>
                  <a:pt x="0" y="0"/>
                </a:moveTo>
                <a:lnTo>
                  <a:pt x="34114" y="0"/>
                </a:lnTo>
                <a:lnTo>
                  <a:pt x="34114" y="21600"/>
                </a:lnTo>
                <a:lnTo>
                  <a:pt x="0" y="21600"/>
                </a:lnTo>
                <a:close/>
              </a:path>
              <a:path fill="lightenLess" w="34114" h="21600">
                <a:moveTo>
                  <a:pt x="0" y="0"/>
                </a:moveTo>
                <a:lnTo>
                  <a:pt x="34114" y="0"/>
                </a:lnTo>
                <a:lnTo>
                  <a:pt x="31751" y="2363"/>
                </a:lnTo>
                <a:lnTo>
                  <a:pt x="2363" y="2363"/>
                </a:lnTo>
                <a:close/>
              </a:path>
              <a:path fill="darken" w="34114" h="21600">
                <a:moveTo>
                  <a:pt x="34114" y="0"/>
                </a:moveTo>
                <a:lnTo>
                  <a:pt x="34114" y="21600"/>
                </a:lnTo>
                <a:lnTo>
                  <a:pt x="31751" y="19237"/>
                </a:lnTo>
                <a:lnTo>
                  <a:pt x="31751" y="2363"/>
                </a:lnTo>
                <a:close/>
              </a:path>
              <a:path fill="darkenLess" w="34114" h="21600">
                <a:moveTo>
                  <a:pt x="34114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31751" y="19237"/>
                </a:lnTo>
                <a:close/>
              </a:path>
              <a:path fill="lighten" w="34114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209680" y="4017960"/>
            <a:ext cx="1067040" cy="5889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581280" y="3884760"/>
            <a:ext cx="1371600" cy="868320"/>
          </a:xfrm>
          <a:custGeom>
            <a:avLst/>
            <a:gdLst>
              <a:gd name="textAreaLeft" fmla="*/ 94680 w 1371600"/>
              <a:gd name="textAreaRight" fmla="*/ 1276920 w 1371600"/>
              <a:gd name="textAreaTop" fmla="*/ 94680 h 868320"/>
              <a:gd name="textAreaBottom" fmla="*/ 773640 h 868320"/>
            </a:gdLst>
            <a:ahLst/>
            <a:rect l="textAreaLeft" t="textAreaTop" r="textAreaRight" b="textAreaBottom"/>
            <a:pathLst>
              <a:path w="34114" h="21600">
                <a:moveTo>
                  <a:pt x="0" y="0"/>
                </a:moveTo>
                <a:lnTo>
                  <a:pt x="34114" y="0"/>
                </a:lnTo>
                <a:lnTo>
                  <a:pt x="34114" y="21600"/>
                </a:lnTo>
                <a:lnTo>
                  <a:pt x="0" y="21600"/>
                </a:lnTo>
                <a:close/>
              </a:path>
              <a:path fill="lightenLess" w="34114" h="21600">
                <a:moveTo>
                  <a:pt x="0" y="0"/>
                </a:moveTo>
                <a:lnTo>
                  <a:pt x="34114" y="0"/>
                </a:lnTo>
                <a:lnTo>
                  <a:pt x="31751" y="2363"/>
                </a:lnTo>
                <a:lnTo>
                  <a:pt x="2363" y="2363"/>
                </a:lnTo>
                <a:close/>
              </a:path>
              <a:path fill="darken" w="34114" h="21600">
                <a:moveTo>
                  <a:pt x="34114" y="0"/>
                </a:moveTo>
                <a:lnTo>
                  <a:pt x="34114" y="21600"/>
                </a:lnTo>
                <a:lnTo>
                  <a:pt x="31751" y="19237"/>
                </a:lnTo>
                <a:lnTo>
                  <a:pt x="31751" y="2363"/>
                </a:lnTo>
                <a:close/>
              </a:path>
              <a:path fill="darkenLess" w="34114" h="21600">
                <a:moveTo>
                  <a:pt x="34114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31751" y="19237"/>
                </a:lnTo>
                <a:close/>
              </a:path>
              <a:path fill="lighten" w="34114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105520" y="3884760"/>
            <a:ext cx="1371600" cy="868320"/>
          </a:xfrm>
          <a:custGeom>
            <a:avLst/>
            <a:gdLst>
              <a:gd name="textAreaLeft" fmla="*/ 94680 w 1371600"/>
              <a:gd name="textAreaRight" fmla="*/ 1276920 w 1371600"/>
              <a:gd name="textAreaTop" fmla="*/ 94680 h 868320"/>
              <a:gd name="textAreaBottom" fmla="*/ 773640 h 868320"/>
            </a:gdLst>
            <a:ahLst/>
            <a:rect l="textAreaLeft" t="textAreaTop" r="textAreaRight" b="textAreaBottom"/>
            <a:pathLst>
              <a:path w="34114" h="21600">
                <a:moveTo>
                  <a:pt x="0" y="0"/>
                </a:moveTo>
                <a:lnTo>
                  <a:pt x="34114" y="0"/>
                </a:lnTo>
                <a:lnTo>
                  <a:pt x="34114" y="21600"/>
                </a:lnTo>
                <a:lnTo>
                  <a:pt x="0" y="21600"/>
                </a:lnTo>
                <a:close/>
              </a:path>
              <a:path fill="lightenLess" w="34114" h="21600">
                <a:moveTo>
                  <a:pt x="0" y="0"/>
                </a:moveTo>
                <a:lnTo>
                  <a:pt x="34114" y="0"/>
                </a:lnTo>
                <a:lnTo>
                  <a:pt x="31751" y="2363"/>
                </a:lnTo>
                <a:lnTo>
                  <a:pt x="2363" y="2363"/>
                </a:lnTo>
                <a:close/>
              </a:path>
              <a:path fill="darken" w="34114" h="21600">
                <a:moveTo>
                  <a:pt x="34114" y="0"/>
                </a:moveTo>
                <a:lnTo>
                  <a:pt x="34114" y="21600"/>
                </a:lnTo>
                <a:lnTo>
                  <a:pt x="31751" y="19237"/>
                </a:lnTo>
                <a:lnTo>
                  <a:pt x="31751" y="2363"/>
                </a:lnTo>
                <a:close/>
              </a:path>
              <a:path fill="darkenLess" w="34114" h="21600">
                <a:moveTo>
                  <a:pt x="34114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31751" y="19237"/>
                </a:lnTo>
                <a:close/>
              </a:path>
              <a:path fill="lighten" w="34114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bd21318_" descr=""/>
          <p:cNvPicPr/>
          <p:nvPr/>
        </p:nvPicPr>
        <p:blipFill>
          <a:blip r:embed="rId5"/>
          <a:stretch/>
        </p:blipFill>
        <p:spPr>
          <a:xfrm>
            <a:off x="990720" y="1658880"/>
            <a:ext cx="7121520" cy="795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1905120" y="109440"/>
            <a:ext cx="510516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50000">
                      <a:srgbClr val="6699ff"/>
                    </a:gs>
                    <a:gs pos="100000">
                      <a:srgbClr val="3333cc"/>
                    </a:gs>
                  </a:gsLst>
                  <a:lin ang="5400000"/>
                </a:gradFill>
                <a:latin typeface="Arial Black"/>
              </a:rPr>
              <a:t>I.T. Dashboar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50000">
                    <a:srgbClr val="6699ff"/>
                  </a:gs>
                  <a:gs pos="100000">
                    <a:srgbClr val="3333c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048120" y="595440"/>
            <a:ext cx="240984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eptember 2003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2" name="bd21318_" descr=""/>
          <p:cNvPicPr/>
          <p:nvPr/>
        </p:nvPicPr>
        <p:blipFill>
          <a:blip r:embed="rId6"/>
          <a:stretch/>
        </p:blipFill>
        <p:spPr>
          <a:xfrm>
            <a:off x="990720" y="987480"/>
            <a:ext cx="7121520" cy="79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052720" y="2590920"/>
            <a:ext cx="5262480" cy="392040"/>
          </a:xfrm>
          <a:custGeom>
            <a:avLst/>
            <a:gdLst>
              <a:gd name="textAreaLeft" fmla="*/ 42840 w 5262480"/>
              <a:gd name="textAreaRight" fmla="*/ 5219640 w 5262480"/>
              <a:gd name="textAreaTop" fmla="*/ 42840 h 392040"/>
              <a:gd name="textAreaBottom" fmla="*/ 349200 h 392040"/>
            </a:gdLst>
            <a:ahLst/>
            <a:rect l="textAreaLeft" t="textAreaTop" r="textAreaRight" b="textAreaBottom"/>
            <a:pathLst>
              <a:path w="289698" h="21600">
                <a:moveTo>
                  <a:pt x="0" y="0"/>
                </a:moveTo>
                <a:lnTo>
                  <a:pt x="289698" y="0"/>
                </a:lnTo>
                <a:lnTo>
                  <a:pt x="289698" y="21600"/>
                </a:lnTo>
                <a:lnTo>
                  <a:pt x="0" y="21600"/>
                </a:lnTo>
                <a:close/>
              </a:path>
              <a:path fill="lightenLess" w="289698" h="21600">
                <a:moveTo>
                  <a:pt x="0" y="0"/>
                </a:moveTo>
                <a:lnTo>
                  <a:pt x="289698" y="0"/>
                </a:lnTo>
                <a:lnTo>
                  <a:pt x="287335" y="2363"/>
                </a:lnTo>
                <a:lnTo>
                  <a:pt x="2363" y="2363"/>
                </a:lnTo>
                <a:close/>
              </a:path>
              <a:path fill="darken" w="289698" h="21600">
                <a:moveTo>
                  <a:pt x="289698" y="0"/>
                </a:moveTo>
                <a:lnTo>
                  <a:pt x="289698" y="21600"/>
                </a:lnTo>
                <a:lnTo>
                  <a:pt x="287335" y="19237"/>
                </a:lnTo>
                <a:lnTo>
                  <a:pt x="287335" y="2363"/>
                </a:lnTo>
                <a:close/>
              </a:path>
              <a:path fill="darkenLess" w="289698" h="21600">
                <a:moveTo>
                  <a:pt x="289698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287335" y="19237"/>
                </a:lnTo>
                <a:close/>
              </a:path>
              <a:path fill="lighten" w="289698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800000"/>
              </a:gs>
              <a:gs pos="50000">
                <a:srgbClr val="ff0000"/>
              </a:gs>
              <a:gs pos="100000">
                <a:srgbClr val="8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Enterprise Resource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7" action="ppaction://hlinksldjump"/>
          </p:cNvPr>
          <p:cNvSpPr/>
          <p:nvPr/>
        </p:nvSpPr>
        <p:spPr>
          <a:xfrm>
            <a:off x="2057400" y="3251160"/>
            <a:ext cx="5257800" cy="392040"/>
          </a:xfrm>
          <a:custGeom>
            <a:avLst/>
            <a:gdLst>
              <a:gd name="textAreaLeft" fmla="*/ 42840 w 5257800"/>
              <a:gd name="textAreaRight" fmla="*/ 5214960 w 5257800"/>
              <a:gd name="textAreaTop" fmla="*/ 42840 h 392040"/>
              <a:gd name="textAreaBottom" fmla="*/ 349200 h 392040"/>
            </a:gdLst>
            <a:ahLst/>
            <a:rect l="textAreaLeft" t="textAreaTop" r="textAreaRight" b="textAreaBottom"/>
            <a:pathLst>
              <a:path w="289440" h="21600">
                <a:moveTo>
                  <a:pt x="0" y="0"/>
                </a:moveTo>
                <a:lnTo>
                  <a:pt x="289440" y="0"/>
                </a:lnTo>
                <a:lnTo>
                  <a:pt x="289440" y="21600"/>
                </a:lnTo>
                <a:lnTo>
                  <a:pt x="0" y="21600"/>
                </a:lnTo>
                <a:close/>
              </a:path>
              <a:path fill="lightenLess" w="289440" h="21600">
                <a:moveTo>
                  <a:pt x="0" y="0"/>
                </a:moveTo>
                <a:lnTo>
                  <a:pt x="289440" y="0"/>
                </a:lnTo>
                <a:lnTo>
                  <a:pt x="287077" y="2363"/>
                </a:lnTo>
                <a:lnTo>
                  <a:pt x="2363" y="2363"/>
                </a:lnTo>
                <a:close/>
              </a:path>
              <a:path fill="darken" w="289440" h="21600">
                <a:moveTo>
                  <a:pt x="289440" y="0"/>
                </a:moveTo>
                <a:lnTo>
                  <a:pt x="289440" y="21600"/>
                </a:lnTo>
                <a:lnTo>
                  <a:pt x="287077" y="19237"/>
                </a:lnTo>
                <a:lnTo>
                  <a:pt x="287077" y="2363"/>
                </a:lnTo>
                <a:close/>
              </a:path>
              <a:path fill="darkenLess" w="289440" h="21600">
                <a:moveTo>
                  <a:pt x="289440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287077" y="19237"/>
                </a:lnTo>
                <a:close/>
              </a:path>
              <a:path fill="lighten" w="289440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800000"/>
              </a:gs>
              <a:gs pos="50000">
                <a:srgbClr val="ff0000"/>
              </a:gs>
              <a:gs pos="100000">
                <a:srgbClr val="8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Pro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8" action="ppaction://hlinksldjump"/>
          </p:cNvPr>
          <p:cNvSpPr/>
          <p:nvPr/>
        </p:nvSpPr>
        <p:spPr>
          <a:xfrm>
            <a:off x="2052720" y="5003640"/>
            <a:ext cx="5338800" cy="392400"/>
          </a:xfrm>
          <a:custGeom>
            <a:avLst/>
            <a:gdLst>
              <a:gd name="textAreaLeft" fmla="*/ 42840 w 5338800"/>
              <a:gd name="textAreaRight" fmla="*/ 5295960 w 5338800"/>
              <a:gd name="textAreaTop" fmla="*/ 42840 h 392400"/>
              <a:gd name="textAreaBottom" fmla="*/ 349560 h 392400"/>
            </a:gdLst>
            <a:ahLst/>
            <a:rect l="textAreaLeft" t="textAreaTop" r="textAreaRight" b="textAreaBottom"/>
            <a:pathLst>
              <a:path w="293629" h="21600">
                <a:moveTo>
                  <a:pt x="0" y="0"/>
                </a:moveTo>
                <a:lnTo>
                  <a:pt x="293629" y="0"/>
                </a:lnTo>
                <a:lnTo>
                  <a:pt x="293629" y="21600"/>
                </a:lnTo>
                <a:lnTo>
                  <a:pt x="0" y="21600"/>
                </a:lnTo>
                <a:close/>
              </a:path>
              <a:path fill="lightenLess" w="293629" h="21600">
                <a:moveTo>
                  <a:pt x="0" y="0"/>
                </a:moveTo>
                <a:lnTo>
                  <a:pt x="293629" y="0"/>
                </a:lnTo>
                <a:lnTo>
                  <a:pt x="291266" y="2363"/>
                </a:lnTo>
                <a:lnTo>
                  <a:pt x="2363" y="2363"/>
                </a:lnTo>
                <a:close/>
              </a:path>
              <a:path fill="darken" w="293629" h="21600">
                <a:moveTo>
                  <a:pt x="293629" y="0"/>
                </a:moveTo>
                <a:lnTo>
                  <a:pt x="293629" y="21600"/>
                </a:lnTo>
                <a:lnTo>
                  <a:pt x="291266" y="19237"/>
                </a:lnTo>
                <a:lnTo>
                  <a:pt x="291266" y="2363"/>
                </a:lnTo>
                <a:close/>
              </a:path>
              <a:path fill="darkenLess" w="293629" h="21600">
                <a:moveTo>
                  <a:pt x="293629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291266" y="19237"/>
                </a:lnTo>
                <a:close/>
              </a:path>
              <a:path fill="lighten" w="293629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800000"/>
              </a:gs>
              <a:gs pos="50000">
                <a:srgbClr val="ff0000"/>
              </a:gs>
              <a:gs pos="100000">
                <a:srgbClr val="8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KP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052720" y="5608800"/>
            <a:ext cx="1371600" cy="868320"/>
          </a:xfrm>
          <a:custGeom>
            <a:avLst/>
            <a:gdLst>
              <a:gd name="textAreaLeft" fmla="*/ 94680 w 1371600"/>
              <a:gd name="textAreaRight" fmla="*/ 1276920 w 1371600"/>
              <a:gd name="textAreaTop" fmla="*/ 94680 h 868320"/>
              <a:gd name="textAreaBottom" fmla="*/ 773640 h 868320"/>
            </a:gdLst>
            <a:ahLst/>
            <a:rect l="textAreaLeft" t="textAreaTop" r="textAreaRight" b="textAreaBottom"/>
            <a:pathLst>
              <a:path w="34114" h="21600">
                <a:moveTo>
                  <a:pt x="0" y="0"/>
                </a:moveTo>
                <a:lnTo>
                  <a:pt x="34114" y="0"/>
                </a:lnTo>
                <a:lnTo>
                  <a:pt x="34114" y="21600"/>
                </a:lnTo>
                <a:lnTo>
                  <a:pt x="0" y="21600"/>
                </a:lnTo>
                <a:close/>
              </a:path>
              <a:path fill="lightenLess" w="34114" h="21600">
                <a:moveTo>
                  <a:pt x="0" y="0"/>
                </a:moveTo>
                <a:lnTo>
                  <a:pt x="34114" y="0"/>
                </a:lnTo>
                <a:lnTo>
                  <a:pt x="31751" y="2363"/>
                </a:lnTo>
                <a:lnTo>
                  <a:pt x="2363" y="2363"/>
                </a:lnTo>
                <a:close/>
              </a:path>
              <a:path fill="darken" w="34114" h="21600">
                <a:moveTo>
                  <a:pt x="34114" y="0"/>
                </a:moveTo>
                <a:lnTo>
                  <a:pt x="34114" y="21600"/>
                </a:lnTo>
                <a:lnTo>
                  <a:pt x="31751" y="19237"/>
                </a:lnTo>
                <a:lnTo>
                  <a:pt x="31751" y="2363"/>
                </a:lnTo>
                <a:close/>
              </a:path>
              <a:path fill="darkenLess" w="34114" h="21600">
                <a:moveTo>
                  <a:pt x="34114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31751" y="19237"/>
                </a:lnTo>
                <a:close/>
              </a:path>
              <a:path fill="lighten" w="34114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9"/>
          <a:stretch/>
        </p:blipFill>
        <p:spPr>
          <a:xfrm>
            <a:off x="2205000" y="5742000"/>
            <a:ext cx="1066680" cy="5889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576600" y="5608800"/>
            <a:ext cx="1371600" cy="868320"/>
          </a:xfrm>
          <a:custGeom>
            <a:avLst/>
            <a:gdLst>
              <a:gd name="textAreaLeft" fmla="*/ 94680 w 1371600"/>
              <a:gd name="textAreaRight" fmla="*/ 1276920 w 1371600"/>
              <a:gd name="textAreaTop" fmla="*/ 94680 h 868320"/>
              <a:gd name="textAreaBottom" fmla="*/ 773640 h 868320"/>
            </a:gdLst>
            <a:ahLst/>
            <a:rect l="textAreaLeft" t="textAreaTop" r="textAreaRight" b="textAreaBottom"/>
            <a:pathLst>
              <a:path w="34114" h="21600">
                <a:moveTo>
                  <a:pt x="0" y="0"/>
                </a:moveTo>
                <a:lnTo>
                  <a:pt x="34114" y="0"/>
                </a:lnTo>
                <a:lnTo>
                  <a:pt x="34114" y="21600"/>
                </a:lnTo>
                <a:lnTo>
                  <a:pt x="0" y="21600"/>
                </a:lnTo>
                <a:close/>
              </a:path>
              <a:path fill="lightenLess" w="34114" h="21600">
                <a:moveTo>
                  <a:pt x="0" y="0"/>
                </a:moveTo>
                <a:lnTo>
                  <a:pt x="34114" y="0"/>
                </a:lnTo>
                <a:lnTo>
                  <a:pt x="31751" y="2363"/>
                </a:lnTo>
                <a:lnTo>
                  <a:pt x="2363" y="2363"/>
                </a:lnTo>
                <a:close/>
              </a:path>
              <a:path fill="darken" w="34114" h="21600">
                <a:moveTo>
                  <a:pt x="34114" y="0"/>
                </a:moveTo>
                <a:lnTo>
                  <a:pt x="34114" y="21600"/>
                </a:lnTo>
                <a:lnTo>
                  <a:pt x="31751" y="19237"/>
                </a:lnTo>
                <a:lnTo>
                  <a:pt x="31751" y="2363"/>
                </a:lnTo>
                <a:close/>
              </a:path>
              <a:path fill="darkenLess" w="34114" h="21600">
                <a:moveTo>
                  <a:pt x="34114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31751" y="19237"/>
                </a:lnTo>
                <a:close/>
              </a:path>
              <a:path fill="lighten" w="34114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100480" y="5608800"/>
            <a:ext cx="1371600" cy="868320"/>
          </a:xfrm>
          <a:custGeom>
            <a:avLst/>
            <a:gdLst>
              <a:gd name="textAreaLeft" fmla="*/ 94680 w 1371600"/>
              <a:gd name="textAreaRight" fmla="*/ 1276920 w 1371600"/>
              <a:gd name="textAreaTop" fmla="*/ 94680 h 868320"/>
              <a:gd name="textAreaBottom" fmla="*/ 773640 h 868320"/>
            </a:gdLst>
            <a:ahLst/>
            <a:rect l="textAreaLeft" t="textAreaTop" r="textAreaRight" b="textAreaBottom"/>
            <a:pathLst>
              <a:path w="34114" h="21600">
                <a:moveTo>
                  <a:pt x="0" y="0"/>
                </a:moveTo>
                <a:lnTo>
                  <a:pt x="34114" y="0"/>
                </a:lnTo>
                <a:lnTo>
                  <a:pt x="34114" y="21600"/>
                </a:lnTo>
                <a:lnTo>
                  <a:pt x="0" y="21600"/>
                </a:lnTo>
                <a:close/>
              </a:path>
              <a:path fill="lightenLess" w="34114" h="21600">
                <a:moveTo>
                  <a:pt x="0" y="0"/>
                </a:moveTo>
                <a:lnTo>
                  <a:pt x="34114" y="0"/>
                </a:lnTo>
                <a:lnTo>
                  <a:pt x="31751" y="2363"/>
                </a:lnTo>
                <a:lnTo>
                  <a:pt x="2363" y="2363"/>
                </a:lnTo>
                <a:close/>
              </a:path>
              <a:path fill="darken" w="34114" h="21600">
                <a:moveTo>
                  <a:pt x="34114" y="0"/>
                </a:moveTo>
                <a:lnTo>
                  <a:pt x="34114" y="21600"/>
                </a:lnTo>
                <a:lnTo>
                  <a:pt x="31751" y="19237"/>
                </a:lnTo>
                <a:lnTo>
                  <a:pt x="31751" y="2363"/>
                </a:lnTo>
                <a:close/>
              </a:path>
              <a:path fill="darkenLess" w="34114" h="21600">
                <a:moveTo>
                  <a:pt x="34114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31751" y="19237"/>
                </a:lnTo>
                <a:close/>
              </a:path>
              <a:path fill="lighten" w="34114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 Black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657600" y="3929040"/>
            <a:ext cx="1218960" cy="747720"/>
            <a:chOff x="3657600" y="3929040"/>
            <a:chExt cx="1218960" cy="747720"/>
          </a:xfrm>
        </p:grpSpPr>
        <p:pic>
          <p:nvPicPr>
            <p:cNvPr id="61" name="!NEWABOJ" descr=""/>
            <p:cNvPicPr/>
            <p:nvPr/>
          </p:nvPicPr>
          <p:blipFill>
            <a:blip r:embed="rId10"/>
            <a:srcRect l="31522" t="-1004" r="25003" b="71189"/>
            <a:stretch/>
          </p:blipFill>
          <p:spPr>
            <a:xfrm>
              <a:off x="3657600" y="3929040"/>
              <a:ext cx="1218240" cy="74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3658680" y="3945600"/>
              <a:ext cx="12178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3652920" y="5662440"/>
            <a:ext cx="1218600" cy="747720"/>
            <a:chOff x="3652920" y="5662440"/>
            <a:chExt cx="1218600" cy="747720"/>
          </a:xfrm>
        </p:grpSpPr>
        <p:pic>
          <p:nvPicPr>
            <p:cNvPr id="64" name="!NEWABOJ" descr=""/>
            <p:cNvPicPr/>
            <p:nvPr/>
          </p:nvPicPr>
          <p:blipFill>
            <a:blip r:embed="rId11"/>
            <a:srcRect l="31522" t="-1004" r="25003" b="71189"/>
            <a:stretch/>
          </p:blipFill>
          <p:spPr>
            <a:xfrm>
              <a:off x="3652920" y="5662440"/>
              <a:ext cx="1217880" cy="74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3654000" y="5679000"/>
              <a:ext cx="12175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6" name="new%20supercat%20logo" descr=""/>
          <p:cNvPicPr/>
          <p:nvPr/>
        </p:nvPicPr>
        <p:blipFill>
          <a:blip r:embed="rId12"/>
          <a:stretch/>
        </p:blipFill>
        <p:spPr>
          <a:xfrm>
            <a:off x="5210280" y="3976560"/>
            <a:ext cx="1158840" cy="717840"/>
          </a:xfrm>
          <a:prstGeom prst="rect">
            <a:avLst/>
          </a:prstGeom>
          <a:ln w="0">
            <a:noFill/>
          </a:ln>
        </p:spPr>
      </p:pic>
      <p:pic>
        <p:nvPicPr>
          <p:cNvPr id="67" name="new%20supercat%20logo" descr=""/>
          <p:cNvPicPr/>
          <p:nvPr/>
        </p:nvPicPr>
        <p:blipFill>
          <a:blip r:embed="rId13"/>
          <a:stretch/>
        </p:blipFill>
        <p:spPr>
          <a:xfrm>
            <a:off x="5205240" y="5688000"/>
            <a:ext cx="1159200" cy="7174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92436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914400" y="838080"/>
            <a:ext cx="7313760" cy="731880"/>
          </a:xfrm>
          <a:custGeom>
            <a:avLst/>
            <a:gdLst>
              <a:gd name="textAreaLeft" fmla="*/ 79920 w 7313760"/>
              <a:gd name="textAreaRight" fmla="*/ 7233840 w 7313760"/>
              <a:gd name="textAreaTop" fmla="*/ 79920 h 731880"/>
              <a:gd name="textAreaBottom" fmla="*/ 651960 h 731880"/>
            </a:gdLst>
            <a:ahLst/>
            <a:rect l="textAreaLeft" t="textAreaTop" r="textAreaRight" b="textAreaBottom"/>
            <a:pathLst>
              <a:path w="215756" h="21600">
                <a:moveTo>
                  <a:pt x="0" y="0"/>
                </a:moveTo>
                <a:lnTo>
                  <a:pt x="215756" y="0"/>
                </a:lnTo>
                <a:lnTo>
                  <a:pt x="215756" y="21600"/>
                </a:lnTo>
                <a:lnTo>
                  <a:pt x="0" y="21600"/>
                </a:lnTo>
                <a:close/>
              </a:path>
              <a:path fill="lightenLess" w="215756" h="21600">
                <a:moveTo>
                  <a:pt x="0" y="0"/>
                </a:moveTo>
                <a:lnTo>
                  <a:pt x="215756" y="0"/>
                </a:lnTo>
                <a:lnTo>
                  <a:pt x="213393" y="2363"/>
                </a:lnTo>
                <a:lnTo>
                  <a:pt x="2363" y="2363"/>
                </a:lnTo>
                <a:close/>
              </a:path>
              <a:path fill="darken" w="215756" h="21600">
                <a:moveTo>
                  <a:pt x="215756" y="0"/>
                </a:moveTo>
                <a:lnTo>
                  <a:pt x="215756" y="21600"/>
                </a:lnTo>
                <a:lnTo>
                  <a:pt x="213393" y="19237"/>
                </a:lnTo>
                <a:lnTo>
                  <a:pt x="213393" y="2363"/>
                </a:lnTo>
                <a:close/>
              </a:path>
              <a:path fill="darkenLess" w="215756" h="21600">
                <a:moveTo>
                  <a:pt x="215756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213393" y="19237"/>
                </a:lnTo>
                <a:close/>
              </a:path>
              <a:path fill="lighten" w="215756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800000"/>
              </a:gs>
              <a:gs pos="50000">
                <a:srgbClr val="ff0000"/>
              </a:gs>
              <a:gs pos="100000">
                <a:srgbClr val="8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Projects-Comple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28600" y="152280"/>
            <a:ext cx="25909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50000">
                      <a:srgbClr val="6699ff"/>
                    </a:gs>
                    <a:gs pos="100000">
                      <a:srgbClr val="3333cc"/>
                    </a:gs>
                  </a:gsLst>
                  <a:lin ang="5400000"/>
                </a:gradFill>
                <a:latin typeface="Arial Black"/>
              </a:rPr>
              <a:t>I.T. Dashboar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50000">
                    <a:srgbClr val="6699ff"/>
                  </a:gs>
                  <a:gs pos="100000">
                    <a:srgbClr val="3333c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914400" y="457200"/>
            <a:ext cx="10382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eptember 2003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447920" y="914400"/>
          <a:ext cx="609480" cy="46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914400"/>
                    <a:ext cx="60948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3869280" y="1536840"/>
            <a:ext cx="16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boitiz 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1981080"/>
            <a:ext cx="8153640" cy="33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Special Projec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S trigger and POD Module revision to eliminate double updating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PTLV 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ivery performance report for UK and DFA transac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ation of delivery status update restrictions on DFA and U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ation of SMS queuing and reprocessing fac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ous brow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914400" y="838080"/>
            <a:ext cx="7313760" cy="731880"/>
          </a:xfrm>
          <a:custGeom>
            <a:avLst/>
            <a:gdLst>
              <a:gd name="textAreaLeft" fmla="*/ 79920 w 7313760"/>
              <a:gd name="textAreaRight" fmla="*/ 7233840 w 7313760"/>
              <a:gd name="textAreaTop" fmla="*/ 79920 h 731880"/>
              <a:gd name="textAreaBottom" fmla="*/ 651960 h 731880"/>
            </a:gdLst>
            <a:ahLst/>
            <a:rect l="textAreaLeft" t="textAreaTop" r="textAreaRight" b="textAreaBottom"/>
            <a:pathLst>
              <a:path w="215756" h="21600">
                <a:moveTo>
                  <a:pt x="0" y="0"/>
                </a:moveTo>
                <a:lnTo>
                  <a:pt x="215756" y="0"/>
                </a:lnTo>
                <a:lnTo>
                  <a:pt x="215756" y="21600"/>
                </a:lnTo>
                <a:lnTo>
                  <a:pt x="0" y="21600"/>
                </a:lnTo>
                <a:close/>
              </a:path>
              <a:path fill="lightenLess" w="215756" h="21600">
                <a:moveTo>
                  <a:pt x="0" y="0"/>
                </a:moveTo>
                <a:lnTo>
                  <a:pt x="215756" y="0"/>
                </a:lnTo>
                <a:lnTo>
                  <a:pt x="213393" y="2363"/>
                </a:lnTo>
                <a:lnTo>
                  <a:pt x="2363" y="2363"/>
                </a:lnTo>
                <a:close/>
              </a:path>
              <a:path fill="darken" w="215756" h="21600">
                <a:moveTo>
                  <a:pt x="215756" y="0"/>
                </a:moveTo>
                <a:lnTo>
                  <a:pt x="215756" y="21600"/>
                </a:lnTo>
                <a:lnTo>
                  <a:pt x="213393" y="19237"/>
                </a:lnTo>
                <a:lnTo>
                  <a:pt x="213393" y="2363"/>
                </a:lnTo>
                <a:close/>
              </a:path>
              <a:path fill="darkenLess" w="215756" h="21600">
                <a:moveTo>
                  <a:pt x="215756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213393" y="19237"/>
                </a:lnTo>
                <a:close/>
              </a:path>
              <a:path fill="lighten" w="215756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800000"/>
              </a:gs>
              <a:gs pos="50000">
                <a:srgbClr val="ff0000"/>
              </a:gs>
              <a:gs pos="100000">
                <a:srgbClr val="8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Projects-Ongoing/On-Que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28600" y="152280"/>
            <a:ext cx="25909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50000">
                      <a:srgbClr val="6699ff"/>
                    </a:gs>
                    <a:gs pos="100000">
                      <a:srgbClr val="3333cc"/>
                    </a:gs>
                  </a:gsLst>
                  <a:lin ang="5400000"/>
                </a:gradFill>
                <a:latin typeface="Arial Black"/>
              </a:rPr>
              <a:t>I.T. Dashboar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50000">
                    <a:srgbClr val="6699ff"/>
                  </a:gs>
                  <a:gs pos="100000">
                    <a:srgbClr val="3333c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14400" y="457200"/>
            <a:ext cx="10382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eptember 2003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447920" y="914400"/>
          <a:ext cx="609480" cy="46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914400"/>
                    <a:ext cx="60948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3869280" y="1536840"/>
            <a:ext cx="16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boitiz 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057400"/>
            <a:ext cx="815364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S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ackberry Evaluation and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e Mobile Mail Evaluation and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WGA – Fre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ainer Tracking System – ongoing monito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ernative Scanner for Cargo Traffic Team; UAT scheduled Oct 3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waiting delivery of scan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Clai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data clean-up and final migration to new Linux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14400" y="838080"/>
            <a:ext cx="7313760" cy="731880"/>
          </a:xfrm>
          <a:custGeom>
            <a:avLst/>
            <a:gdLst>
              <a:gd name="textAreaLeft" fmla="*/ 79920 w 7313760"/>
              <a:gd name="textAreaRight" fmla="*/ 7233840 w 7313760"/>
              <a:gd name="textAreaTop" fmla="*/ 79920 h 731880"/>
              <a:gd name="textAreaBottom" fmla="*/ 651960 h 731880"/>
            </a:gdLst>
            <a:ahLst/>
            <a:rect l="textAreaLeft" t="textAreaTop" r="textAreaRight" b="textAreaBottom"/>
            <a:pathLst>
              <a:path w="215756" h="21600">
                <a:moveTo>
                  <a:pt x="0" y="0"/>
                </a:moveTo>
                <a:lnTo>
                  <a:pt x="215756" y="0"/>
                </a:lnTo>
                <a:lnTo>
                  <a:pt x="215756" y="21600"/>
                </a:lnTo>
                <a:lnTo>
                  <a:pt x="0" y="21600"/>
                </a:lnTo>
                <a:close/>
              </a:path>
              <a:path fill="lightenLess" w="215756" h="21600">
                <a:moveTo>
                  <a:pt x="0" y="0"/>
                </a:moveTo>
                <a:lnTo>
                  <a:pt x="215756" y="0"/>
                </a:lnTo>
                <a:lnTo>
                  <a:pt x="213393" y="2363"/>
                </a:lnTo>
                <a:lnTo>
                  <a:pt x="2363" y="2363"/>
                </a:lnTo>
                <a:close/>
              </a:path>
              <a:path fill="darken" w="215756" h="21600">
                <a:moveTo>
                  <a:pt x="215756" y="0"/>
                </a:moveTo>
                <a:lnTo>
                  <a:pt x="215756" y="21600"/>
                </a:lnTo>
                <a:lnTo>
                  <a:pt x="213393" y="19237"/>
                </a:lnTo>
                <a:lnTo>
                  <a:pt x="213393" y="2363"/>
                </a:lnTo>
                <a:close/>
              </a:path>
              <a:path fill="darkenLess" w="215756" h="21600">
                <a:moveTo>
                  <a:pt x="215756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213393" y="19237"/>
                </a:lnTo>
                <a:close/>
              </a:path>
              <a:path fill="lighten" w="215756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800000"/>
              </a:gs>
              <a:gs pos="50000">
                <a:srgbClr val="ff0000"/>
              </a:gs>
              <a:gs pos="100000">
                <a:srgbClr val="8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Projects-Ongoing/On-Que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28600" y="152280"/>
            <a:ext cx="25909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50000">
                      <a:srgbClr val="6699ff"/>
                    </a:gs>
                    <a:gs pos="100000">
                      <a:srgbClr val="3333cc"/>
                    </a:gs>
                  </a:gsLst>
                  <a:lin ang="5400000"/>
                </a:gradFill>
                <a:latin typeface="Arial Black"/>
              </a:rPr>
              <a:t>I.T. Dashboar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50000">
                    <a:srgbClr val="6699ff"/>
                  </a:gs>
                  <a:gs pos="100000">
                    <a:srgbClr val="3333c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914400" y="457200"/>
            <a:ext cx="10382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eptember 2003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447920" y="914400"/>
          <a:ext cx="609480" cy="46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914400"/>
                    <a:ext cx="60948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3869280" y="1536840"/>
            <a:ext cx="16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boitiz 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00000" y="1981080"/>
            <a:ext cx="74818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Information Techn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port Solution 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CFID Implementation (Durian &amp; Hanga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O Docu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D&amp;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S Implementation at DPI Edan (Direct Manila); 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ld pending repair of scann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ation of leased line at DPI-Edan off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wser for off-loaded car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334720" y="5896080"/>
            <a:ext cx="646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0000"/>
                </a:solidFill>
                <a:latin typeface="Arial Black"/>
              </a:rPr>
              <a:t>Sys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0000"/>
                </a:solidFill>
                <a:latin typeface="Arial Black"/>
              </a:rPr>
              <a:t>HO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8305920" y="6248520"/>
          <a:ext cx="685800" cy="555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05920" y="6248520"/>
                    <a:ext cx="68580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914400" y="762120"/>
            <a:ext cx="7313760" cy="731880"/>
          </a:xfrm>
          <a:custGeom>
            <a:avLst/>
            <a:gdLst>
              <a:gd name="textAreaLeft" fmla="*/ 79920 w 7313760"/>
              <a:gd name="textAreaRight" fmla="*/ 7233840 w 7313760"/>
              <a:gd name="textAreaTop" fmla="*/ 79920 h 731880"/>
              <a:gd name="textAreaBottom" fmla="*/ 651960 h 731880"/>
            </a:gdLst>
            <a:ahLst/>
            <a:rect l="textAreaLeft" t="textAreaTop" r="textAreaRight" b="textAreaBottom"/>
            <a:pathLst>
              <a:path w="215756" h="21600">
                <a:moveTo>
                  <a:pt x="0" y="0"/>
                </a:moveTo>
                <a:lnTo>
                  <a:pt x="215756" y="0"/>
                </a:lnTo>
                <a:lnTo>
                  <a:pt x="215756" y="21600"/>
                </a:lnTo>
                <a:lnTo>
                  <a:pt x="0" y="21600"/>
                </a:lnTo>
                <a:close/>
              </a:path>
              <a:path fill="lightenLess" w="215756" h="21600">
                <a:moveTo>
                  <a:pt x="0" y="0"/>
                </a:moveTo>
                <a:lnTo>
                  <a:pt x="215756" y="0"/>
                </a:lnTo>
                <a:lnTo>
                  <a:pt x="213393" y="2363"/>
                </a:lnTo>
                <a:lnTo>
                  <a:pt x="2363" y="2363"/>
                </a:lnTo>
                <a:close/>
              </a:path>
              <a:path fill="darken" w="215756" h="21600">
                <a:moveTo>
                  <a:pt x="215756" y="0"/>
                </a:moveTo>
                <a:lnTo>
                  <a:pt x="215756" y="21600"/>
                </a:lnTo>
                <a:lnTo>
                  <a:pt x="213393" y="19237"/>
                </a:lnTo>
                <a:lnTo>
                  <a:pt x="213393" y="2363"/>
                </a:lnTo>
                <a:close/>
              </a:path>
              <a:path fill="darkenLess" w="215756" h="21600">
                <a:moveTo>
                  <a:pt x="215756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213393" y="19237"/>
                </a:lnTo>
                <a:close/>
              </a:path>
              <a:path fill="lighten" w="215756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800000"/>
              </a:gs>
              <a:gs pos="50000">
                <a:srgbClr val="ff0000"/>
              </a:gs>
              <a:gs pos="100000">
                <a:srgbClr val="8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2003 Completed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28600" y="152280"/>
            <a:ext cx="25909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50000">
                      <a:srgbClr val="6699ff"/>
                    </a:gs>
                    <a:gs pos="100000">
                      <a:srgbClr val="3333cc"/>
                    </a:gs>
                  </a:gsLst>
                  <a:lin ang="5400000"/>
                </a:gradFill>
                <a:latin typeface="Arial Black"/>
              </a:rPr>
              <a:t>I.T. Dashboar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50000">
                    <a:srgbClr val="6699ff"/>
                  </a:gs>
                  <a:gs pos="100000">
                    <a:srgbClr val="3333c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914400" y="457200"/>
            <a:ext cx="10382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eptember 2003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2" name=""/>
          <p:cNvSpPr/>
          <p:nvPr/>
        </p:nvSpPr>
        <p:spPr>
          <a:xfrm>
            <a:off x="182520" y="2133720"/>
            <a:ext cx="866664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SFFC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ew Generation SuperCat Web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pletion of Nexus Debugging, Docu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&amp; Turnover of System from SQL Wizard to ATG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ssage I.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91840" y="1676520"/>
            <a:ext cx="29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TG SEA CEB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914400" y="762120"/>
            <a:ext cx="7313760" cy="731880"/>
          </a:xfrm>
          <a:custGeom>
            <a:avLst/>
            <a:gdLst>
              <a:gd name="textAreaLeft" fmla="*/ 79920 w 7313760"/>
              <a:gd name="textAreaRight" fmla="*/ 7233840 w 7313760"/>
              <a:gd name="textAreaTop" fmla="*/ 79920 h 731880"/>
              <a:gd name="textAreaBottom" fmla="*/ 651960 h 731880"/>
            </a:gdLst>
            <a:ahLst/>
            <a:rect l="textAreaLeft" t="textAreaTop" r="textAreaRight" b="textAreaBottom"/>
            <a:pathLst>
              <a:path w="215756" h="21600">
                <a:moveTo>
                  <a:pt x="0" y="0"/>
                </a:moveTo>
                <a:lnTo>
                  <a:pt x="215756" y="0"/>
                </a:lnTo>
                <a:lnTo>
                  <a:pt x="215756" y="21600"/>
                </a:lnTo>
                <a:lnTo>
                  <a:pt x="0" y="21600"/>
                </a:lnTo>
                <a:close/>
              </a:path>
              <a:path fill="lightenLess" w="215756" h="21600">
                <a:moveTo>
                  <a:pt x="0" y="0"/>
                </a:moveTo>
                <a:lnTo>
                  <a:pt x="215756" y="0"/>
                </a:lnTo>
                <a:lnTo>
                  <a:pt x="213393" y="2363"/>
                </a:lnTo>
                <a:lnTo>
                  <a:pt x="2363" y="2363"/>
                </a:lnTo>
                <a:close/>
              </a:path>
              <a:path fill="darken" w="215756" h="21600">
                <a:moveTo>
                  <a:pt x="215756" y="0"/>
                </a:moveTo>
                <a:lnTo>
                  <a:pt x="215756" y="21600"/>
                </a:lnTo>
                <a:lnTo>
                  <a:pt x="213393" y="19237"/>
                </a:lnTo>
                <a:lnTo>
                  <a:pt x="213393" y="2363"/>
                </a:lnTo>
                <a:close/>
              </a:path>
              <a:path fill="darkenLess" w="215756" h="21600">
                <a:moveTo>
                  <a:pt x="215756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213393" y="19237"/>
                </a:lnTo>
                <a:close/>
              </a:path>
              <a:path fill="lighten" w="215756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800000"/>
              </a:gs>
              <a:gs pos="50000">
                <a:srgbClr val="ff0000"/>
              </a:gs>
              <a:gs pos="100000">
                <a:srgbClr val="8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2003 Ongoing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28600" y="152280"/>
            <a:ext cx="25909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50000">
                      <a:srgbClr val="6699ff"/>
                    </a:gs>
                    <a:gs pos="100000">
                      <a:srgbClr val="3333cc"/>
                    </a:gs>
                  </a:gsLst>
                  <a:lin ang="5400000"/>
                </a:gradFill>
                <a:latin typeface="Arial Black"/>
              </a:rPr>
              <a:t>I.T. Dashboar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50000">
                    <a:srgbClr val="6699ff"/>
                  </a:gs>
                  <a:gs pos="100000">
                    <a:srgbClr val="3333c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914400" y="457200"/>
            <a:ext cx="10382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eptember 2003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7" name=""/>
          <p:cNvSpPr/>
          <p:nvPr/>
        </p:nvSpPr>
        <p:spPr>
          <a:xfrm>
            <a:off x="-89640" y="2438280"/>
            <a:ext cx="9507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Target Date of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. Task Management System (L . Notes)     - Oct ‘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. CFC SAS Application (L . Notes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     - Oct ‘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. SFFC SMS Ticketing Additional Gateway - Oct ’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. Batangas-Calapan Ticketing System       - Dec ‘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. Co-Branding/Credit Card Payment      - Deferred to ‘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426840" y="1649520"/>
            <a:ext cx="22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TG SEA CEB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34720" y="5896080"/>
            <a:ext cx="646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0000"/>
                </a:solidFill>
                <a:latin typeface="Arial Black"/>
              </a:rPr>
              <a:t>Sys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0000"/>
                </a:solidFill>
                <a:latin typeface="Arial Black"/>
              </a:rPr>
              <a:t>HO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8305920" y="6248520"/>
          <a:ext cx="685800" cy="55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05920" y="6248520"/>
                    <a:ext cx="68580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914400" y="716040"/>
            <a:ext cx="7313760" cy="731880"/>
          </a:xfrm>
          <a:custGeom>
            <a:avLst/>
            <a:gdLst>
              <a:gd name="textAreaLeft" fmla="*/ 79920 w 7313760"/>
              <a:gd name="textAreaRight" fmla="*/ 7233840 w 7313760"/>
              <a:gd name="textAreaTop" fmla="*/ 79920 h 731880"/>
              <a:gd name="textAreaBottom" fmla="*/ 651960 h 731880"/>
            </a:gdLst>
            <a:ahLst/>
            <a:rect l="textAreaLeft" t="textAreaTop" r="textAreaRight" b="textAreaBottom"/>
            <a:pathLst>
              <a:path w="215756" h="21600">
                <a:moveTo>
                  <a:pt x="0" y="0"/>
                </a:moveTo>
                <a:lnTo>
                  <a:pt x="215756" y="0"/>
                </a:lnTo>
                <a:lnTo>
                  <a:pt x="215756" y="21600"/>
                </a:lnTo>
                <a:lnTo>
                  <a:pt x="0" y="21600"/>
                </a:lnTo>
                <a:close/>
              </a:path>
              <a:path fill="lightenLess" w="215756" h="21600">
                <a:moveTo>
                  <a:pt x="0" y="0"/>
                </a:moveTo>
                <a:lnTo>
                  <a:pt x="215756" y="0"/>
                </a:lnTo>
                <a:lnTo>
                  <a:pt x="213393" y="2363"/>
                </a:lnTo>
                <a:lnTo>
                  <a:pt x="2363" y="2363"/>
                </a:lnTo>
                <a:close/>
              </a:path>
              <a:path fill="darken" w="215756" h="21600">
                <a:moveTo>
                  <a:pt x="215756" y="0"/>
                </a:moveTo>
                <a:lnTo>
                  <a:pt x="215756" y="21600"/>
                </a:lnTo>
                <a:lnTo>
                  <a:pt x="213393" y="19237"/>
                </a:lnTo>
                <a:lnTo>
                  <a:pt x="213393" y="2363"/>
                </a:lnTo>
                <a:close/>
              </a:path>
              <a:path fill="darkenLess" w="215756" h="21600">
                <a:moveTo>
                  <a:pt x="215756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213393" y="19237"/>
                </a:lnTo>
                <a:close/>
              </a:path>
              <a:path fill="lighten" w="215756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800000"/>
              </a:gs>
              <a:gs pos="50000">
                <a:srgbClr val="ff0000"/>
              </a:gs>
              <a:gs pos="100000">
                <a:srgbClr val="8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KP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447920" y="868320"/>
          <a:ext cx="609480" cy="46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868320"/>
                    <a:ext cx="609480" cy="4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 txBox="1"/>
          <p:nvPr/>
        </p:nvSpPr>
        <p:spPr>
          <a:xfrm>
            <a:off x="228600" y="152280"/>
            <a:ext cx="25909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50000">
                      <a:srgbClr val="6699ff"/>
                    </a:gs>
                    <a:gs pos="100000">
                      <a:srgbClr val="3333cc"/>
                    </a:gs>
                  </a:gsLst>
                  <a:lin ang="5400000"/>
                </a:gradFill>
                <a:latin typeface="Arial Black"/>
              </a:rPr>
              <a:t>I.T. Dashboar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50000">
                    <a:srgbClr val="6699ff"/>
                  </a:gs>
                  <a:gs pos="100000">
                    <a:srgbClr val="3333c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914400" y="457200"/>
            <a:ext cx="10382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eptember 2003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219320" y="1600200"/>
          <a:ext cx="6796080" cy="4888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1600200"/>
                    <a:ext cx="6796080" cy="48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914400" y="838080"/>
            <a:ext cx="7313760" cy="731880"/>
          </a:xfrm>
          <a:custGeom>
            <a:avLst/>
            <a:gdLst>
              <a:gd name="textAreaLeft" fmla="*/ 79920 w 7313760"/>
              <a:gd name="textAreaRight" fmla="*/ 7233840 w 7313760"/>
              <a:gd name="textAreaTop" fmla="*/ 79920 h 731880"/>
              <a:gd name="textAreaBottom" fmla="*/ 651960 h 731880"/>
            </a:gdLst>
            <a:ahLst/>
            <a:rect l="textAreaLeft" t="textAreaTop" r="textAreaRight" b="textAreaBottom"/>
            <a:pathLst>
              <a:path w="215756" h="21600">
                <a:moveTo>
                  <a:pt x="0" y="0"/>
                </a:moveTo>
                <a:lnTo>
                  <a:pt x="215756" y="0"/>
                </a:lnTo>
                <a:lnTo>
                  <a:pt x="215756" y="21600"/>
                </a:lnTo>
                <a:lnTo>
                  <a:pt x="0" y="21600"/>
                </a:lnTo>
                <a:close/>
              </a:path>
              <a:path fill="lightenLess" w="215756" h="21600">
                <a:moveTo>
                  <a:pt x="0" y="0"/>
                </a:moveTo>
                <a:lnTo>
                  <a:pt x="215756" y="0"/>
                </a:lnTo>
                <a:lnTo>
                  <a:pt x="213393" y="2363"/>
                </a:lnTo>
                <a:lnTo>
                  <a:pt x="2363" y="2363"/>
                </a:lnTo>
                <a:close/>
              </a:path>
              <a:path fill="darken" w="215756" h="21600">
                <a:moveTo>
                  <a:pt x="215756" y="0"/>
                </a:moveTo>
                <a:lnTo>
                  <a:pt x="215756" y="21600"/>
                </a:lnTo>
                <a:lnTo>
                  <a:pt x="213393" y="19237"/>
                </a:lnTo>
                <a:lnTo>
                  <a:pt x="213393" y="2363"/>
                </a:lnTo>
                <a:close/>
              </a:path>
              <a:path fill="darkenLess" w="215756" h="21600">
                <a:moveTo>
                  <a:pt x="215756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213393" y="19237"/>
                </a:lnTo>
                <a:close/>
              </a:path>
              <a:path fill="lighten" w="215756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800000"/>
              </a:gs>
              <a:gs pos="50000">
                <a:srgbClr val="ff0000"/>
              </a:gs>
              <a:gs pos="100000">
                <a:srgbClr val="8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KP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447920" y="914400"/>
          <a:ext cx="609480" cy="46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914400"/>
                    <a:ext cx="60948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"/>
          <p:cNvSpPr txBox="1"/>
          <p:nvPr/>
        </p:nvSpPr>
        <p:spPr>
          <a:xfrm>
            <a:off x="228600" y="152280"/>
            <a:ext cx="25909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50000">
                      <a:srgbClr val="6699ff"/>
                    </a:gs>
                    <a:gs pos="100000">
                      <a:srgbClr val="3333cc"/>
                    </a:gs>
                  </a:gsLst>
                  <a:lin ang="5400000"/>
                </a:gradFill>
                <a:latin typeface="Arial Black"/>
              </a:rPr>
              <a:t>I.T. Dashboar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50000">
                    <a:srgbClr val="6699ff"/>
                  </a:gs>
                  <a:gs pos="100000">
                    <a:srgbClr val="3333c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914400" y="457200"/>
            <a:ext cx="10382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eptember 2003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4" name=""/>
          <p:cNvSpPr/>
          <p:nvPr/>
        </p:nvSpPr>
        <p:spPr>
          <a:xfrm>
            <a:off x="8334720" y="5896080"/>
            <a:ext cx="646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0000"/>
                </a:solidFill>
                <a:latin typeface="Arial Black"/>
              </a:rPr>
              <a:t>Sys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0000"/>
                </a:solidFill>
                <a:latin typeface="Arial Black"/>
              </a:rPr>
              <a:t>HO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8305920" y="6248520"/>
          <a:ext cx="685800" cy="555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05920" y="6248520"/>
                    <a:ext cx="68580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1600200" y="1743120"/>
          <a:ext cx="5805360" cy="48769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00200" y="1743120"/>
                    <a:ext cx="580536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"/>
          <p:cNvGraphicFramePr/>
          <p:nvPr/>
        </p:nvGraphicFramePr>
        <p:xfrm>
          <a:off x="1295280" y="152280"/>
          <a:ext cx="6772320" cy="6381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52280"/>
                    <a:ext cx="6772320" cy="638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8334720" y="5896080"/>
            <a:ext cx="646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0000"/>
                </a:solidFill>
                <a:latin typeface="Arial Black"/>
              </a:rPr>
              <a:t>Sys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0000"/>
                </a:solidFill>
                <a:latin typeface="Arial Black"/>
              </a:rPr>
              <a:t>HO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8305920" y="6248520"/>
          <a:ext cx="685800" cy="555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05920" y="6248520"/>
                    <a:ext cx="68580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914400" y="716040"/>
            <a:ext cx="7313760" cy="731880"/>
          </a:xfrm>
          <a:custGeom>
            <a:avLst/>
            <a:gdLst>
              <a:gd name="textAreaLeft" fmla="*/ 79920 w 7313760"/>
              <a:gd name="textAreaRight" fmla="*/ 7233840 w 7313760"/>
              <a:gd name="textAreaTop" fmla="*/ 79920 h 731880"/>
              <a:gd name="textAreaBottom" fmla="*/ 651960 h 731880"/>
            </a:gdLst>
            <a:ahLst/>
            <a:rect l="textAreaLeft" t="textAreaTop" r="textAreaRight" b="textAreaBottom"/>
            <a:pathLst>
              <a:path w="215756" h="21600">
                <a:moveTo>
                  <a:pt x="0" y="0"/>
                </a:moveTo>
                <a:lnTo>
                  <a:pt x="215756" y="0"/>
                </a:lnTo>
                <a:lnTo>
                  <a:pt x="215756" y="21600"/>
                </a:lnTo>
                <a:lnTo>
                  <a:pt x="0" y="21600"/>
                </a:lnTo>
                <a:close/>
              </a:path>
              <a:path fill="lightenLess" w="215756" h="21600">
                <a:moveTo>
                  <a:pt x="0" y="0"/>
                </a:moveTo>
                <a:lnTo>
                  <a:pt x="215756" y="0"/>
                </a:lnTo>
                <a:lnTo>
                  <a:pt x="213393" y="2363"/>
                </a:lnTo>
                <a:lnTo>
                  <a:pt x="2363" y="2363"/>
                </a:lnTo>
                <a:close/>
              </a:path>
              <a:path fill="darken" w="215756" h="21600">
                <a:moveTo>
                  <a:pt x="215756" y="0"/>
                </a:moveTo>
                <a:lnTo>
                  <a:pt x="215756" y="21600"/>
                </a:lnTo>
                <a:lnTo>
                  <a:pt x="213393" y="19237"/>
                </a:lnTo>
                <a:lnTo>
                  <a:pt x="213393" y="2363"/>
                </a:lnTo>
                <a:close/>
              </a:path>
              <a:path fill="darkenLess" w="215756" h="21600">
                <a:moveTo>
                  <a:pt x="215756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213393" y="19237"/>
                </a:lnTo>
                <a:close/>
              </a:path>
              <a:path fill="lighten" w="215756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800000"/>
              </a:gs>
              <a:gs pos="50000">
                <a:srgbClr val="ff0000"/>
              </a:gs>
              <a:gs pos="100000">
                <a:srgbClr val="8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228600" y="152280"/>
            <a:ext cx="25909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50000">
                      <a:srgbClr val="6699ff"/>
                    </a:gs>
                    <a:gs pos="100000">
                      <a:srgbClr val="3333cc"/>
                    </a:gs>
                  </a:gsLst>
                  <a:lin ang="5400000"/>
                </a:gradFill>
                <a:latin typeface="Arial Black"/>
              </a:rPr>
              <a:t>I.T. Dashboar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50000">
                    <a:srgbClr val="6699ff"/>
                  </a:gs>
                  <a:gs pos="100000">
                    <a:srgbClr val="3333c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" y="1828800"/>
            <a:ext cx="77724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eigh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S Enhancement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n-going monitoring of COD SL performance; On-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oing UAT for expanded SAS functi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Warehousing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waiting go signal for ZIP DM production run; On-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oing review of UAT results for core Freigh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IP Enhancement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n-going UAT for ZIP system modifications relative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 printing of the bills of lading, official receipts, and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inting of invoices; On-going application tuning for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IP Inbound 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smir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n-going front-end system prototyping, database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 prototyping, and  testing of Oracle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cess-Connect tool; On-going documentation for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gical model and data model release 1.1; On-going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paration of the test suites for Asmira system based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n logical model release 1.1, simultaneous with the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view of the same docu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dmap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n-going development and bug fixing by Performex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d on the results of on-going U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A System Interfac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pleted the development of the interface program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d UAT; Awaiting final schedule of implementation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ue to resolutions to issues pertaining to the pro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reight Systems/Projects Turnover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n-going turnover of all Freight division’s systems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d projects to Oracle Apps Development Te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371600" y="914400"/>
            <a:ext cx="838080" cy="5461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816000" y="1584360"/>
            <a:ext cx="110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(WG&amp;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334720" y="5896080"/>
            <a:ext cx="646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0000"/>
                </a:solidFill>
                <a:latin typeface="Arial Black"/>
              </a:rPr>
              <a:t>Sys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0000"/>
                </a:solidFill>
                <a:latin typeface="Arial Black"/>
              </a:rPr>
              <a:t>HO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8305920" y="6248520"/>
          <a:ext cx="685800" cy="55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05920" y="6248520"/>
                    <a:ext cx="68580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 txBox="1"/>
          <p:nvPr/>
        </p:nvSpPr>
        <p:spPr>
          <a:xfrm>
            <a:off x="685800" y="457200"/>
            <a:ext cx="12668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eptember 2003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914400" y="609480"/>
            <a:ext cx="7313760" cy="731880"/>
          </a:xfrm>
          <a:custGeom>
            <a:avLst/>
            <a:gdLst>
              <a:gd name="textAreaLeft" fmla="*/ 79920 w 7313760"/>
              <a:gd name="textAreaRight" fmla="*/ 7233840 w 7313760"/>
              <a:gd name="textAreaTop" fmla="*/ 79920 h 731880"/>
              <a:gd name="textAreaBottom" fmla="*/ 651960 h 731880"/>
            </a:gdLst>
            <a:ahLst/>
            <a:rect l="textAreaLeft" t="textAreaTop" r="textAreaRight" b="textAreaBottom"/>
            <a:pathLst>
              <a:path w="215756" h="21600">
                <a:moveTo>
                  <a:pt x="0" y="0"/>
                </a:moveTo>
                <a:lnTo>
                  <a:pt x="215756" y="0"/>
                </a:lnTo>
                <a:lnTo>
                  <a:pt x="215756" y="21600"/>
                </a:lnTo>
                <a:lnTo>
                  <a:pt x="0" y="21600"/>
                </a:lnTo>
                <a:close/>
              </a:path>
              <a:path fill="lightenLess" w="215756" h="21600">
                <a:moveTo>
                  <a:pt x="0" y="0"/>
                </a:moveTo>
                <a:lnTo>
                  <a:pt x="215756" y="0"/>
                </a:lnTo>
                <a:lnTo>
                  <a:pt x="213393" y="2363"/>
                </a:lnTo>
                <a:lnTo>
                  <a:pt x="2363" y="2363"/>
                </a:lnTo>
                <a:close/>
              </a:path>
              <a:path fill="darken" w="215756" h="21600">
                <a:moveTo>
                  <a:pt x="215756" y="0"/>
                </a:moveTo>
                <a:lnTo>
                  <a:pt x="215756" y="21600"/>
                </a:lnTo>
                <a:lnTo>
                  <a:pt x="213393" y="19237"/>
                </a:lnTo>
                <a:lnTo>
                  <a:pt x="213393" y="2363"/>
                </a:lnTo>
                <a:close/>
              </a:path>
              <a:path fill="darkenLess" w="215756" h="21600">
                <a:moveTo>
                  <a:pt x="215756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213393" y="19237"/>
                </a:lnTo>
                <a:close/>
              </a:path>
              <a:path fill="lighten" w="215756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800000"/>
              </a:gs>
              <a:gs pos="50000">
                <a:srgbClr val="ff0000"/>
              </a:gs>
              <a:gs pos="100000">
                <a:srgbClr val="8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28600" y="152280"/>
            <a:ext cx="25909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50000">
                      <a:srgbClr val="6699ff"/>
                    </a:gs>
                    <a:gs pos="100000">
                      <a:srgbClr val="3333cc"/>
                    </a:gs>
                  </a:gsLst>
                  <a:lin ang="5400000"/>
                </a:gradFill>
                <a:latin typeface="Arial Black"/>
              </a:rPr>
              <a:t>I.T. Dashboar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50000">
                    <a:srgbClr val="6699ff"/>
                  </a:gs>
                  <a:gs pos="100000">
                    <a:srgbClr val="3333c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371600" y="685800"/>
            <a:ext cx="838080" cy="5461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3816000" y="1295280"/>
            <a:ext cx="110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(WG&amp;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2280" y="1523880"/>
            <a:ext cx="89917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ssag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xus2i Enhancement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50 printing F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ssuance – User testing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fund – User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ACU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ne UA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urrently encountering connection probl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blem isolation being done by WGA &amp; ABACUS t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S enhancement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ne UAT. For training and imple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tch Processing of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velopment Ph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ce Pax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icket Alloca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phase 1) for UA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venue Managem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mand Plann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duction Ru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laborat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ai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eView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aining/User Requir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200400" y="228600"/>
            <a:ext cx="12668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eptember 2003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914400" y="838080"/>
            <a:ext cx="7313760" cy="731880"/>
          </a:xfrm>
          <a:custGeom>
            <a:avLst/>
            <a:gdLst>
              <a:gd name="textAreaLeft" fmla="*/ 79920 w 7313760"/>
              <a:gd name="textAreaRight" fmla="*/ 7233840 w 7313760"/>
              <a:gd name="textAreaTop" fmla="*/ 79920 h 731880"/>
              <a:gd name="textAreaBottom" fmla="*/ 651960 h 731880"/>
            </a:gdLst>
            <a:ahLst/>
            <a:rect l="textAreaLeft" t="textAreaTop" r="textAreaRight" b="textAreaBottom"/>
            <a:pathLst>
              <a:path w="215756" h="21600">
                <a:moveTo>
                  <a:pt x="0" y="0"/>
                </a:moveTo>
                <a:lnTo>
                  <a:pt x="215756" y="0"/>
                </a:lnTo>
                <a:lnTo>
                  <a:pt x="215756" y="21600"/>
                </a:lnTo>
                <a:lnTo>
                  <a:pt x="0" y="21600"/>
                </a:lnTo>
                <a:close/>
              </a:path>
              <a:path fill="lightenLess" w="215756" h="21600">
                <a:moveTo>
                  <a:pt x="0" y="0"/>
                </a:moveTo>
                <a:lnTo>
                  <a:pt x="215756" y="0"/>
                </a:lnTo>
                <a:lnTo>
                  <a:pt x="213393" y="2363"/>
                </a:lnTo>
                <a:lnTo>
                  <a:pt x="2363" y="2363"/>
                </a:lnTo>
                <a:close/>
              </a:path>
              <a:path fill="darken" w="215756" h="21600">
                <a:moveTo>
                  <a:pt x="215756" y="0"/>
                </a:moveTo>
                <a:lnTo>
                  <a:pt x="215756" y="21600"/>
                </a:lnTo>
                <a:lnTo>
                  <a:pt x="213393" y="19237"/>
                </a:lnTo>
                <a:lnTo>
                  <a:pt x="213393" y="2363"/>
                </a:lnTo>
                <a:close/>
              </a:path>
              <a:path fill="darkenLess" w="215756" h="21600">
                <a:moveTo>
                  <a:pt x="215756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213393" y="19237"/>
                </a:lnTo>
                <a:close/>
              </a:path>
              <a:path fill="lighten" w="215756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800000"/>
              </a:gs>
              <a:gs pos="50000">
                <a:srgbClr val="ff0000"/>
              </a:gs>
              <a:gs pos="100000">
                <a:srgbClr val="8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Projects-Comple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28600" y="152280"/>
            <a:ext cx="25909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50000">
                      <a:srgbClr val="6699ff"/>
                    </a:gs>
                    <a:gs pos="100000">
                      <a:srgbClr val="3333cc"/>
                    </a:gs>
                  </a:gsLst>
                  <a:lin ang="5400000"/>
                </a:gradFill>
                <a:latin typeface="Arial Black"/>
              </a:rPr>
              <a:t>I.T. Dashboar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50000">
                    <a:srgbClr val="6699ff"/>
                  </a:gs>
                  <a:gs pos="100000">
                    <a:srgbClr val="3333c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447920" y="914400"/>
          <a:ext cx="609480" cy="46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914400"/>
                    <a:ext cx="60948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3861000" y="160020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BA T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98480" y="2133720"/>
            <a:ext cx="8317080" cy="48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Installation and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OD Claims Test Migration to Oracle 9i on Lin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FFC Platform Testing Migration to Lin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ugistics DB Setup (Production and Staging D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FFC Standby Database (reconfigured after HW Failure of Production DB Server in Sep 200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acle Forms 6i Training Environment (Linux Platfor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Implement New Backup Strategy (using RMA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PRD – Manugistics Production D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chnical documentation of production DB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x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F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nex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i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914400" y="457200"/>
            <a:ext cx="10382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eptember 2003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914400" y="838080"/>
            <a:ext cx="7313760" cy="731880"/>
          </a:xfrm>
          <a:custGeom>
            <a:avLst/>
            <a:gdLst>
              <a:gd name="textAreaLeft" fmla="*/ 79920 w 7313760"/>
              <a:gd name="textAreaRight" fmla="*/ 7233840 w 7313760"/>
              <a:gd name="textAreaTop" fmla="*/ 79920 h 731880"/>
              <a:gd name="textAreaBottom" fmla="*/ 651960 h 731880"/>
            </a:gdLst>
            <a:ahLst/>
            <a:rect l="textAreaLeft" t="textAreaTop" r="textAreaRight" b="textAreaBottom"/>
            <a:pathLst>
              <a:path w="215756" h="21600">
                <a:moveTo>
                  <a:pt x="0" y="0"/>
                </a:moveTo>
                <a:lnTo>
                  <a:pt x="215756" y="0"/>
                </a:lnTo>
                <a:lnTo>
                  <a:pt x="215756" y="21600"/>
                </a:lnTo>
                <a:lnTo>
                  <a:pt x="0" y="21600"/>
                </a:lnTo>
                <a:close/>
              </a:path>
              <a:path fill="lightenLess" w="215756" h="21600">
                <a:moveTo>
                  <a:pt x="0" y="0"/>
                </a:moveTo>
                <a:lnTo>
                  <a:pt x="215756" y="0"/>
                </a:lnTo>
                <a:lnTo>
                  <a:pt x="213393" y="2363"/>
                </a:lnTo>
                <a:lnTo>
                  <a:pt x="2363" y="2363"/>
                </a:lnTo>
                <a:close/>
              </a:path>
              <a:path fill="darken" w="215756" h="21600">
                <a:moveTo>
                  <a:pt x="215756" y="0"/>
                </a:moveTo>
                <a:lnTo>
                  <a:pt x="215756" y="21600"/>
                </a:lnTo>
                <a:lnTo>
                  <a:pt x="213393" y="19237"/>
                </a:lnTo>
                <a:lnTo>
                  <a:pt x="213393" y="2363"/>
                </a:lnTo>
                <a:close/>
              </a:path>
              <a:path fill="darkenLess" w="215756" h="21600">
                <a:moveTo>
                  <a:pt x="215756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213393" y="19237"/>
                </a:lnTo>
                <a:close/>
              </a:path>
              <a:path fill="lighten" w="215756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Projects Up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10640" y="1828800"/>
            <a:ext cx="30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Black"/>
              </a:rPr>
              <a:t>ATG Finance / OC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352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TR On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Implementation, awaiti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vailable P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h Receipt System Rollout t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e with users Trai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nches with Enhanceme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acle G/L for GUL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Testing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-hold du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no test env, awaiting for th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 upgrade andHBA c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nce / HR Reports Customiz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st of Sales and Output Tax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-going UAT/valid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ployees’ Cash Advances &amp;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-going UAT/valid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an Balances Led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715720" y="1874880"/>
            <a:ext cx="9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914400" y="762120"/>
            <a:ext cx="7313760" cy="731880"/>
          </a:xfrm>
          <a:custGeom>
            <a:avLst/>
            <a:gdLst>
              <a:gd name="textAreaLeft" fmla="*/ 79920 w 7313760"/>
              <a:gd name="textAreaRight" fmla="*/ 7233840 w 7313760"/>
              <a:gd name="textAreaTop" fmla="*/ 79920 h 731880"/>
              <a:gd name="textAreaBottom" fmla="*/ 651960 h 731880"/>
            </a:gdLst>
            <a:ahLst/>
            <a:rect l="textAreaLeft" t="textAreaTop" r="textAreaRight" b="textAreaBottom"/>
            <a:pathLst>
              <a:path w="215756" h="21600">
                <a:moveTo>
                  <a:pt x="0" y="0"/>
                </a:moveTo>
                <a:lnTo>
                  <a:pt x="215756" y="0"/>
                </a:lnTo>
                <a:lnTo>
                  <a:pt x="215756" y="21600"/>
                </a:lnTo>
                <a:lnTo>
                  <a:pt x="0" y="21600"/>
                </a:lnTo>
                <a:close/>
              </a:path>
              <a:path fill="lightenLess" w="215756" h="21600">
                <a:moveTo>
                  <a:pt x="0" y="0"/>
                </a:moveTo>
                <a:lnTo>
                  <a:pt x="215756" y="0"/>
                </a:lnTo>
                <a:lnTo>
                  <a:pt x="213393" y="2363"/>
                </a:lnTo>
                <a:lnTo>
                  <a:pt x="2363" y="2363"/>
                </a:lnTo>
                <a:close/>
              </a:path>
              <a:path fill="darken" w="215756" h="21600">
                <a:moveTo>
                  <a:pt x="215756" y="0"/>
                </a:moveTo>
                <a:lnTo>
                  <a:pt x="215756" y="21600"/>
                </a:lnTo>
                <a:lnTo>
                  <a:pt x="213393" y="19237"/>
                </a:lnTo>
                <a:lnTo>
                  <a:pt x="213393" y="2363"/>
                </a:lnTo>
                <a:close/>
              </a:path>
              <a:path fill="darkenLess" w="215756" h="21600">
                <a:moveTo>
                  <a:pt x="215756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213393" y="19237"/>
                </a:lnTo>
                <a:close/>
              </a:path>
              <a:path fill="lighten" w="215756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800000"/>
              </a:gs>
              <a:gs pos="50000">
                <a:srgbClr val="ff0000"/>
              </a:gs>
              <a:gs pos="100000">
                <a:srgbClr val="8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2003 Ongoing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28600" y="152280"/>
            <a:ext cx="25909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50000">
                      <a:srgbClr val="6699ff"/>
                    </a:gs>
                    <a:gs pos="100000">
                      <a:srgbClr val="3333cc"/>
                    </a:gs>
                  </a:gsLst>
                  <a:lin ang="5400000"/>
                </a:gradFill>
                <a:latin typeface="Arial Black"/>
              </a:rPr>
              <a:t>I.T. Dashboar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50000">
                    <a:srgbClr val="6699ff"/>
                  </a:gs>
                  <a:gs pos="100000">
                    <a:srgbClr val="3333c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78" name=""/>
          <p:cNvSpPr/>
          <p:nvPr/>
        </p:nvSpPr>
        <p:spPr>
          <a:xfrm>
            <a:off x="-56880" y="2424240"/>
            <a:ext cx="9444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Target Date of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 Migration of Quikair DB to 9i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 Oct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.  Technical Documentation of DB’s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 Oct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.  Migration of CLMAIR (Claims for AO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o Oracle 9i on Linux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 Sep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708720" y="16495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BA T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457200"/>
            <a:ext cx="10382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eptember 2003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914400" y="762120"/>
            <a:ext cx="7313760" cy="731880"/>
          </a:xfrm>
          <a:custGeom>
            <a:avLst/>
            <a:gdLst>
              <a:gd name="textAreaLeft" fmla="*/ 79920 w 7313760"/>
              <a:gd name="textAreaRight" fmla="*/ 7233840 w 7313760"/>
              <a:gd name="textAreaTop" fmla="*/ 79920 h 731880"/>
              <a:gd name="textAreaBottom" fmla="*/ 651960 h 731880"/>
            </a:gdLst>
            <a:ahLst/>
            <a:rect l="textAreaLeft" t="textAreaTop" r="textAreaRight" b="textAreaBottom"/>
            <a:pathLst>
              <a:path w="215756" h="21600">
                <a:moveTo>
                  <a:pt x="0" y="0"/>
                </a:moveTo>
                <a:lnTo>
                  <a:pt x="215756" y="0"/>
                </a:lnTo>
                <a:lnTo>
                  <a:pt x="215756" y="21600"/>
                </a:lnTo>
                <a:lnTo>
                  <a:pt x="0" y="21600"/>
                </a:lnTo>
                <a:close/>
              </a:path>
              <a:path fill="lightenLess" w="215756" h="21600">
                <a:moveTo>
                  <a:pt x="0" y="0"/>
                </a:moveTo>
                <a:lnTo>
                  <a:pt x="215756" y="0"/>
                </a:lnTo>
                <a:lnTo>
                  <a:pt x="213393" y="2363"/>
                </a:lnTo>
                <a:lnTo>
                  <a:pt x="2363" y="2363"/>
                </a:lnTo>
                <a:close/>
              </a:path>
              <a:path fill="darken" w="215756" h="21600">
                <a:moveTo>
                  <a:pt x="215756" y="0"/>
                </a:moveTo>
                <a:lnTo>
                  <a:pt x="215756" y="21600"/>
                </a:lnTo>
                <a:lnTo>
                  <a:pt x="213393" y="19237"/>
                </a:lnTo>
                <a:lnTo>
                  <a:pt x="213393" y="2363"/>
                </a:lnTo>
                <a:close/>
              </a:path>
              <a:path fill="darkenLess" w="215756" h="21600">
                <a:moveTo>
                  <a:pt x="215756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213393" y="19237"/>
                </a:lnTo>
                <a:close/>
              </a:path>
              <a:path fill="lighten" w="215756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800000"/>
              </a:gs>
              <a:gs pos="50000">
                <a:srgbClr val="ff0000"/>
              </a:gs>
              <a:gs pos="100000">
                <a:srgbClr val="8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2003 Pending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28600" y="152280"/>
            <a:ext cx="25909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50000">
                      <a:srgbClr val="6699ff"/>
                    </a:gs>
                    <a:gs pos="100000">
                      <a:srgbClr val="3333cc"/>
                    </a:gs>
                  </a:gsLst>
                  <a:lin ang="5400000"/>
                </a:gradFill>
                <a:latin typeface="Arial Black"/>
              </a:rPr>
              <a:t>I.T. Dashboar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50000">
                    <a:srgbClr val="6699ff"/>
                  </a:gs>
                  <a:gs pos="100000">
                    <a:srgbClr val="3333c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83" name=""/>
          <p:cNvSpPr/>
          <p:nvPr/>
        </p:nvSpPr>
        <p:spPr>
          <a:xfrm>
            <a:off x="3784680" y="156060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BA T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2424240"/>
            <a:ext cx="86216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lanning and Implementation of Disaster Recovery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914400" y="457200"/>
            <a:ext cx="10382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eptember 2003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914400" y="838080"/>
            <a:ext cx="7313760" cy="731880"/>
          </a:xfrm>
          <a:custGeom>
            <a:avLst/>
            <a:gdLst>
              <a:gd name="textAreaLeft" fmla="*/ 79920 w 7313760"/>
              <a:gd name="textAreaRight" fmla="*/ 7233840 w 7313760"/>
              <a:gd name="textAreaTop" fmla="*/ 79920 h 731880"/>
              <a:gd name="textAreaBottom" fmla="*/ 651960 h 731880"/>
            </a:gdLst>
            <a:ahLst/>
            <a:rect l="textAreaLeft" t="textAreaTop" r="textAreaRight" b="textAreaBottom"/>
            <a:pathLst>
              <a:path w="215756" h="21600">
                <a:moveTo>
                  <a:pt x="0" y="0"/>
                </a:moveTo>
                <a:lnTo>
                  <a:pt x="215756" y="0"/>
                </a:lnTo>
                <a:lnTo>
                  <a:pt x="215756" y="21600"/>
                </a:lnTo>
                <a:lnTo>
                  <a:pt x="0" y="21600"/>
                </a:lnTo>
                <a:close/>
              </a:path>
              <a:path fill="lightenLess" w="215756" h="21600">
                <a:moveTo>
                  <a:pt x="0" y="0"/>
                </a:moveTo>
                <a:lnTo>
                  <a:pt x="215756" y="0"/>
                </a:lnTo>
                <a:lnTo>
                  <a:pt x="213393" y="2363"/>
                </a:lnTo>
                <a:lnTo>
                  <a:pt x="2363" y="2363"/>
                </a:lnTo>
                <a:close/>
              </a:path>
              <a:path fill="darken" w="215756" h="21600">
                <a:moveTo>
                  <a:pt x="215756" y="0"/>
                </a:moveTo>
                <a:lnTo>
                  <a:pt x="215756" y="21600"/>
                </a:lnTo>
                <a:lnTo>
                  <a:pt x="213393" y="19237"/>
                </a:lnTo>
                <a:lnTo>
                  <a:pt x="213393" y="2363"/>
                </a:lnTo>
                <a:close/>
              </a:path>
              <a:path fill="darkenLess" w="215756" h="21600">
                <a:moveTo>
                  <a:pt x="215756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213393" y="19237"/>
                </a:lnTo>
                <a:close/>
              </a:path>
              <a:path fill="lighten" w="215756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800000"/>
              </a:gs>
              <a:gs pos="50000">
                <a:srgbClr val="ff0000"/>
              </a:gs>
              <a:gs pos="100000">
                <a:srgbClr val="8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990360"/>
            <a:ext cx="6540480" cy="4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DATABASE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28600" y="152280"/>
            <a:ext cx="25909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50000">
                      <a:srgbClr val="6699ff"/>
                    </a:gs>
                    <a:gs pos="100000">
                      <a:srgbClr val="3333cc"/>
                    </a:gs>
                  </a:gsLst>
                  <a:lin ang="5400000"/>
                </a:gradFill>
                <a:latin typeface="Arial Black"/>
              </a:rPr>
              <a:t>I.T. Dashboar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50000">
                    <a:srgbClr val="6699ff"/>
                  </a:gs>
                  <a:gs pos="100000">
                    <a:srgbClr val="3333c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914400" y="457200"/>
            <a:ext cx="10382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eptember 2003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0" name=""/>
          <p:cNvSpPr/>
          <p:nvPr/>
        </p:nvSpPr>
        <p:spPr>
          <a:xfrm>
            <a:off x="8334720" y="5896080"/>
            <a:ext cx="646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0000"/>
                </a:solidFill>
                <a:latin typeface="Arial Black"/>
              </a:rPr>
              <a:t>Sys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0000"/>
                </a:solidFill>
                <a:latin typeface="Arial Black"/>
              </a:rPr>
              <a:t>HO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8305920" y="6248520"/>
          <a:ext cx="685800" cy="55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05920" y="6248520"/>
                    <a:ext cx="68580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2286000" y="1676520"/>
            <a:ext cx="47163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749160"/>
            <a:ext cx="7238880" cy="533520"/>
          </a:xfrm>
          <a:custGeom>
            <a:avLst/>
            <a:gdLst>
              <a:gd name="textAreaLeft" fmla="*/ 58320 w 7238880"/>
              <a:gd name="textAreaRight" fmla="*/ 7180560 w 7238880"/>
              <a:gd name="textAreaTop" fmla="*/ 58320 h 533520"/>
              <a:gd name="textAreaBottom" fmla="*/ 475200 h 533520"/>
            </a:gdLst>
            <a:ahLst/>
            <a:rect l="textAreaLeft" t="textAreaTop" r="textAreaRight" b="textAreaBottom"/>
            <a:pathLst>
              <a:path w="292889" h="21600">
                <a:moveTo>
                  <a:pt x="0" y="0"/>
                </a:moveTo>
                <a:lnTo>
                  <a:pt x="292889" y="0"/>
                </a:lnTo>
                <a:lnTo>
                  <a:pt x="292889" y="21600"/>
                </a:lnTo>
                <a:lnTo>
                  <a:pt x="0" y="21600"/>
                </a:lnTo>
                <a:close/>
              </a:path>
              <a:path fill="lightenLess" w="292889" h="21600">
                <a:moveTo>
                  <a:pt x="0" y="0"/>
                </a:moveTo>
                <a:lnTo>
                  <a:pt x="292889" y="0"/>
                </a:lnTo>
                <a:lnTo>
                  <a:pt x="290526" y="2363"/>
                </a:lnTo>
                <a:lnTo>
                  <a:pt x="2363" y="2363"/>
                </a:lnTo>
                <a:close/>
              </a:path>
              <a:path fill="darken" w="292889" h="21600">
                <a:moveTo>
                  <a:pt x="292889" y="0"/>
                </a:moveTo>
                <a:lnTo>
                  <a:pt x="292889" y="21600"/>
                </a:lnTo>
                <a:lnTo>
                  <a:pt x="290526" y="19237"/>
                </a:lnTo>
                <a:lnTo>
                  <a:pt x="290526" y="2363"/>
                </a:lnTo>
                <a:close/>
              </a:path>
              <a:path fill="darkenLess" w="292889" h="21600">
                <a:moveTo>
                  <a:pt x="292889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290526" y="19237"/>
                </a:lnTo>
                <a:close/>
              </a:path>
              <a:path fill="lighten" w="292889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800000"/>
              </a:gs>
              <a:gs pos="50000">
                <a:srgbClr val="ff0000"/>
              </a:gs>
              <a:gs pos="100000">
                <a:srgbClr val="8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143000" y="806040"/>
            <a:ext cx="6629400" cy="4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Enterprise Resource Planning (ER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152280"/>
            <a:ext cx="25909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50000">
                      <a:srgbClr val="6699ff"/>
                    </a:gs>
                    <a:gs pos="100000">
                      <a:srgbClr val="3333cc"/>
                    </a:gs>
                  </a:gsLst>
                  <a:lin ang="5400000"/>
                </a:gradFill>
                <a:latin typeface="Arial Black"/>
              </a:rPr>
              <a:t>I.T. Dashboar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50000">
                    <a:srgbClr val="6699ff"/>
                  </a:gs>
                  <a:gs pos="100000">
                    <a:srgbClr val="3333c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914400" y="457200"/>
            <a:ext cx="10382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eptember 2003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8" name=""/>
          <p:cNvSpPr/>
          <p:nvPr/>
        </p:nvSpPr>
        <p:spPr>
          <a:xfrm>
            <a:off x="1063800" y="1346040"/>
            <a:ext cx="69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Century Gothic"/>
              </a:rPr>
              <a:t>Accomplishments in September 2003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233360" y="1760400"/>
          <a:ext cx="6629400" cy="5069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3360" y="1760400"/>
                    <a:ext cx="6629400" cy="506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914400" y="749160"/>
            <a:ext cx="7238880" cy="533520"/>
          </a:xfrm>
          <a:custGeom>
            <a:avLst/>
            <a:gdLst>
              <a:gd name="textAreaLeft" fmla="*/ 58320 w 7238880"/>
              <a:gd name="textAreaRight" fmla="*/ 7180560 w 7238880"/>
              <a:gd name="textAreaTop" fmla="*/ 58320 h 533520"/>
              <a:gd name="textAreaBottom" fmla="*/ 475200 h 533520"/>
            </a:gdLst>
            <a:ahLst/>
            <a:rect l="textAreaLeft" t="textAreaTop" r="textAreaRight" b="textAreaBottom"/>
            <a:pathLst>
              <a:path w="292889" h="21600">
                <a:moveTo>
                  <a:pt x="0" y="0"/>
                </a:moveTo>
                <a:lnTo>
                  <a:pt x="292889" y="0"/>
                </a:lnTo>
                <a:lnTo>
                  <a:pt x="292889" y="21600"/>
                </a:lnTo>
                <a:lnTo>
                  <a:pt x="0" y="21600"/>
                </a:lnTo>
                <a:close/>
              </a:path>
              <a:path fill="lightenLess" w="292889" h="21600">
                <a:moveTo>
                  <a:pt x="0" y="0"/>
                </a:moveTo>
                <a:lnTo>
                  <a:pt x="292889" y="0"/>
                </a:lnTo>
                <a:lnTo>
                  <a:pt x="290526" y="2363"/>
                </a:lnTo>
                <a:lnTo>
                  <a:pt x="2363" y="2363"/>
                </a:lnTo>
                <a:close/>
              </a:path>
              <a:path fill="darken" w="292889" h="21600">
                <a:moveTo>
                  <a:pt x="292889" y="0"/>
                </a:moveTo>
                <a:lnTo>
                  <a:pt x="292889" y="21600"/>
                </a:lnTo>
                <a:lnTo>
                  <a:pt x="290526" y="19237"/>
                </a:lnTo>
                <a:lnTo>
                  <a:pt x="290526" y="2363"/>
                </a:lnTo>
                <a:close/>
              </a:path>
              <a:path fill="darkenLess" w="292889" h="21600">
                <a:moveTo>
                  <a:pt x="292889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290526" y="19237"/>
                </a:lnTo>
                <a:close/>
              </a:path>
              <a:path fill="lighten" w="292889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800000"/>
              </a:gs>
              <a:gs pos="50000">
                <a:srgbClr val="ff0000"/>
              </a:gs>
              <a:gs pos="100000">
                <a:srgbClr val="8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43000" y="806040"/>
            <a:ext cx="6629400" cy="4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Enterprise Resource Planning (ER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28600" y="152280"/>
            <a:ext cx="25909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50000">
                      <a:srgbClr val="6699ff"/>
                    </a:gs>
                    <a:gs pos="100000">
                      <a:srgbClr val="3333cc"/>
                    </a:gs>
                  </a:gsLst>
                  <a:lin ang="5400000"/>
                </a:gradFill>
                <a:latin typeface="Arial Black"/>
              </a:rPr>
              <a:t>I.T. Dashboar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50000">
                    <a:srgbClr val="6699ff"/>
                  </a:gs>
                  <a:gs pos="100000">
                    <a:srgbClr val="3333c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457200"/>
            <a:ext cx="10382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eptember 2003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5" name=""/>
          <p:cNvSpPr/>
          <p:nvPr/>
        </p:nvSpPr>
        <p:spPr>
          <a:xfrm>
            <a:off x="2387520" y="1346040"/>
            <a:ext cx="469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Century Gothic"/>
              </a:rPr>
              <a:t>Upcoming Activities in Oct-Nov 2003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461960" y="1749600"/>
          <a:ext cx="6324840" cy="503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1960" y="1749600"/>
                    <a:ext cx="6324840" cy="50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914400" y="1015920"/>
            <a:ext cx="7313760" cy="731880"/>
          </a:xfrm>
          <a:custGeom>
            <a:avLst/>
            <a:gdLst>
              <a:gd name="textAreaLeft" fmla="*/ 79920 w 7313760"/>
              <a:gd name="textAreaRight" fmla="*/ 7233840 w 7313760"/>
              <a:gd name="textAreaTop" fmla="*/ 79920 h 731880"/>
              <a:gd name="textAreaBottom" fmla="*/ 651960 h 731880"/>
            </a:gdLst>
            <a:ahLst/>
            <a:rect l="textAreaLeft" t="textAreaTop" r="textAreaRight" b="textAreaBottom"/>
            <a:pathLst>
              <a:path w="215756" h="21600">
                <a:moveTo>
                  <a:pt x="0" y="0"/>
                </a:moveTo>
                <a:lnTo>
                  <a:pt x="215756" y="0"/>
                </a:lnTo>
                <a:lnTo>
                  <a:pt x="215756" y="21600"/>
                </a:lnTo>
                <a:lnTo>
                  <a:pt x="0" y="21600"/>
                </a:lnTo>
                <a:close/>
              </a:path>
              <a:path fill="lightenLess" w="215756" h="21600">
                <a:moveTo>
                  <a:pt x="0" y="0"/>
                </a:moveTo>
                <a:lnTo>
                  <a:pt x="215756" y="0"/>
                </a:lnTo>
                <a:lnTo>
                  <a:pt x="213393" y="2363"/>
                </a:lnTo>
                <a:lnTo>
                  <a:pt x="2363" y="2363"/>
                </a:lnTo>
                <a:close/>
              </a:path>
              <a:path fill="darken" w="215756" h="21600">
                <a:moveTo>
                  <a:pt x="215756" y="0"/>
                </a:moveTo>
                <a:lnTo>
                  <a:pt x="215756" y="21600"/>
                </a:lnTo>
                <a:lnTo>
                  <a:pt x="213393" y="19237"/>
                </a:lnTo>
                <a:lnTo>
                  <a:pt x="213393" y="2363"/>
                </a:lnTo>
                <a:close/>
              </a:path>
              <a:path fill="darkenLess" w="215756" h="21600">
                <a:moveTo>
                  <a:pt x="215756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213393" y="19237"/>
                </a:lnTo>
                <a:close/>
              </a:path>
              <a:path fill="lighten" w="215756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800000"/>
              </a:gs>
              <a:gs pos="50000">
                <a:srgbClr val="ff0000"/>
              </a:gs>
              <a:gs pos="100000">
                <a:srgbClr val="8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43000" y="1167840"/>
            <a:ext cx="6540480" cy="4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Enterprise Resource Planning (ERP) - K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28600" y="152280"/>
            <a:ext cx="25909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50000">
                      <a:srgbClr val="6699ff"/>
                    </a:gs>
                    <a:gs pos="100000">
                      <a:srgbClr val="3333cc"/>
                    </a:gs>
                  </a:gsLst>
                  <a:lin ang="5400000"/>
                </a:gradFill>
                <a:latin typeface="Arial Black"/>
              </a:rPr>
              <a:t>I.T. Dashboar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50000">
                    <a:srgbClr val="6699ff"/>
                  </a:gs>
                  <a:gs pos="100000">
                    <a:srgbClr val="3333c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914400" y="457200"/>
            <a:ext cx="10382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eptember 2003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2" name=""/>
          <p:cNvSpPr/>
          <p:nvPr/>
        </p:nvSpPr>
        <p:spPr>
          <a:xfrm>
            <a:off x="8334720" y="5896080"/>
            <a:ext cx="646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0000"/>
                </a:solidFill>
                <a:latin typeface="Arial Black"/>
              </a:rPr>
              <a:t>Sys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0000"/>
                </a:solidFill>
                <a:latin typeface="Arial Black"/>
              </a:rPr>
              <a:t>HO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8305920" y="6248520"/>
          <a:ext cx="685800" cy="55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05920" y="6248520"/>
                    <a:ext cx="68580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1123920" y="2657520"/>
          <a:ext cx="6962760" cy="1395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23920" y="2657520"/>
                    <a:ext cx="6962760" cy="13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1062000" y="4608360"/>
            <a:ext cx="6502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: Although the WGAEVA1 was down for almost 2 days, the reason for the downtime was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data corruption &amp; not because of application erro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914400" y="838080"/>
            <a:ext cx="7313760" cy="731880"/>
          </a:xfrm>
          <a:custGeom>
            <a:avLst/>
            <a:gdLst>
              <a:gd name="textAreaLeft" fmla="*/ 79920 w 7313760"/>
              <a:gd name="textAreaRight" fmla="*/ 7233840 w 7313760"/>
              <a:gd name="textAreaTop" fmla="*/ 79920 h 731880"/>
              <a:gd name="textAreaBottom" fmla="*/ 651960 h 731880"/>
            </a:gdLst>
            <a:ahLst/>
            <a:rect l="textAreaLeft" t="textAreaTop" r="textAreaRight" b="textAreaBottom"/>
            <a:pathLst>
              <a:path w="215756" h="21600">
                <a:moveTo>
                  <a:pt x="0" y="0"/>
                </a:moveTo>
                <a:lnTo>
                  <a:pt x="215756" y="0"/>
                </a:lnTo>
                <a:lnTo>
                  <a:pt x="215756" y="21600"/>
                </a:lnTo>
                <a:lnTo>
                  <a:pt x="0" y="21600"/>
                </a:lnTo>
                <a:close/>
              </a:path>
              <a:path fill="lightenLess" w="215756" h="21600">
                <a:moveTo>
                  <a:pt x="0" y="0"/>
                </a:moveTo>
                <a:lnTo>
                  <a:pt x="215756" y="0"/>
                </a:lnTo>
                <a:lnTo>
                  <a:pt x="213393" y="2363"/>
                </a:lnTo>
                <a:lnTo>
                  <a:pt x="2363" y="2363"/>
                </a:lnTo>
                <a:close/>
              </a:path>
              <a:path fill="darken" w="215756" h="21600">
                <a:moveTo>
                  <a:pt x="215756" y="0"/>
                </a:moveTo>
                <a:lnTo>
                  <a:pt x="215756" y="21600"/>
                </a:lnTo>
                <a:lnTo>
                  <a:pt x="213393" y="19237"/>
                </a:lnTo>
                <a:lnTo>
                  <a:pt x="213393" y="2363"/>
                </a:lnTo>
                <a:close/>
              </a:path>
              <a:path fill="darkenLess" w="215756" h="21600">
                <a:moveTo>
                  <a:pt x="215756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213393" y="19237"/>
                </a:lnTo>
                <a:close/>
              </a:path>
              <a:path fill="lighten" w="215756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800000"/>
              </a:gs>
              <a:gs pos="50000">
                <a:srgbClr val="ff0000"/>
              </a:gs>
              <a:gs pos="100000">
                <a:srgbClr val="8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Projects-Comple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28600" y="152280"/>
            <a:ext cx="25909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50000">
                      <a:srgbClr val="6699ff"/>
                    </a:gs>
                    <a:gs pos="100000">
                      <a:srgbClr val="3333cc"/>
                    </a:gs>
                  </a:gsLst>
                  <a:lin ang="5400000"/>
                </a:gradFill>
                <a:latin typeface="Arial Black"/>
              </a:rPr>
              <a:t>I.T. Dashboar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50000">
                    <a:srgbClr val="6699ff"/>
                  </a:gs>
                  <a:gs pos="100000">
                    <a:srgbClr val="3333c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914400" y="457200"/>
            <a:ext cx="10382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eptember 2003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447920" y="914400"/>
          <a:ext cx="609480" cy="46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914400"/>
                    <a:ext cx="60948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3869280" y="1600200"/>
            <a:ext cx="16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boitiz 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69720" y="1905120"/>
            <a:ext cx="8317080" cy="48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D&amp;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sion of Cargo Acceptance, Customer and RFS Set-up modules to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 encoding of sea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sion of Cargo Acceptance module to capture reference id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ardless of length, of British Embassy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AA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-up of hardware, network and system for RCBC money remittan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action proc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abling and rehabilitation of Durian 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Finan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sion of Invoice Transit Time Browser to exclude sundays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liday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9:21:14Z</dcterms:created>
  <dc:creator>Mymy Rapes</dc:creator>
  <dc:description/>
  <dc:language>en-US</dc:language>
  <cp:lastModifiedBy>akp616</cp:lastModifiedBy>
  <dcterms:modified xsi:type="dcterms:W3CDTF">2003-10-30T01:32:37Z</dcterms:modified>
  <cp:revision>234</cp:revision>
  <dc:subject/>
  <dc:title>PowerPoint Presentation</dc:title>
</cp:coreProperties>
</file>