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32.wmf" ContentType="image/x-wmf"/>
  <Override PartName="/ppt/media/image12.png" ContentType="image/png"/>
  <Override PartName="/ppt/media/image7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2FD-D173-4218-85B9-BBB5831A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FC5-C2FE-4A41-BF51-ED61E11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19E-0929-4A6D-9E00-50F41E1C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77A-855F-4D13-B715-5563ABC8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62B-B2AB-4714-8DF9-BA9A1A69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356-EA2F-4412-985B-815BE315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CB3-C5B0-4E17-BFBD-166ADFD5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8E8-3811-4607-B4A2-B4CC1324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5ED-4F90-45F9-AF06-0043B79C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A43-644D-4A19-B4C4-672C08A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2BA-1742-46D6-862C-29163F3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2CB-1A6E-4E6D-99E0-57BD452A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47D4-0842-4804-A88A-185D8985A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image" Target="../media/image1.wmf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1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package" Target="../embeddings/oleObject2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080" y="17524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echnolog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838080" y="26668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                   </a:t>
            </a: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e-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38080" y="35812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852480" y="54100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KEY PERFORMANCE 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4972_" descr=""/>
          <p:cNvPicPr/>
          <p:nvPr/>
        </p:nvPicPr>
        <p:blipFill>
          <a:blip r:embed="rId4"/>
          <a:stretch/>
        </p:blipFill>
        <p:spPr>
          <a:xfrm>
            <a:off x="958680" y="5529240"/>
            <a:ext cx="743040" cy="44280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838080" y="4495680"/>
            <a:ext cx="5256360" cy="685800"/>
          </a:xfrm>
          <a:custGeom>
            <a:avLst/>
            <a:gdLst>
              <a:gd name="textAreaLeft" fmla="*/ 74880 w 5256360"/>
              <a:gd name="textAreaRight" fmla="*/ 5181480 w 52563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65479" h="21600">
                <a:moveTo>
                  <a:pt x="0" y="0"/>
                </a:moveTo>
                <a:lnTo>
                  <a:pt x="165479" y="0"/>
                </a:lnTo>
                <a:lnTo>
                  <a:pt x="165479" y="21600"/>
                </a:lnTo>
                <a:lnTo>
                  <a:pt x="0" y="21600"/>
                </a:lnTo>
                <a:close/>
              </a:path>
              <a:path fill="lightenLess" w="165479" h="21600">
                <a:moveTo>
                  <a:pt x="0" y="0"/>
                </a:moveTo>
                <a:lnTo>
                  <a:pt x="165479" y="0"/>
                </a:lnTo>
                <a:lnTo>
                  <a:pt x="163116" y="2363"/>
                </a:lnTo>
                <a:lnTo>
                  <a:pt x="2363" y="2363"/>
                </a:lnTo>
                <a:close/>
              </a:path>
              <a:path fill="darken" w="165479" h="21600">
                <a:moveTo>
                  <a:pt x="165479" y="0"/>
                </a:moveTo>
                <a:lnTo>
                  <a:pt x="165479" y="21600"/>
                </a:lnTo>
                <a:lnTo>
                  <a:pt x="163116" y="19237"/>
                </a:lnTo>
                <a:lnTo>
                  <a:pt x="163116" y="2363"/>
                </a:lnTo>
                <a:close/>
              </a:path>
              <a:path fill="darkenLess" w="165479" h="21600">
                <a:moveTo>
                  <a:pt x="165479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63116" y="19237"/>
                </a:lnTo>
                <a:close/>
              </a:path>
              <a:path fill="lighten" w="165479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ystem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458316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9" name="bd04918_" descr=""/>
          <p:cNvPicPr/>
          <p:nvPr/>
        </p:nvPicPr>
        <p:blipFill>
          <a:blip r:embed="rId8"/>
          <a:stretch/>
        </p:blipFill>
        <p:spPr>
          <a:xfrm>
            <a:off x="1600200" y="3657600"/>
            <a:ext cx="609480" cy="52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066680" y="1857240"/>
            <a:ext cx="552600" cy="4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8120" y="838080"/>
            <a:ext cx="24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945080" y="1371600"/>
            <a:ext cx="29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Arial Black"/>
              </a:rPr>
              <a:t>Please click on the buttons to go to the sub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1841400" y="2757600"/>
            <a:ext cx="490680" cy="53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0" y="144792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21703"/>
              <a:gd name="adj5" fmla="val 51944"/>
              <a:gd name="adj6" fmla="val -39759"/>
            </a:avLst>
          </a:prstGeom>
          <a:gradFill rotWithShape="0">
            <a:gsLst>
              <a:gs pos="0">
                <a:srgbClr val="000099"/>
              </a:gs>
              <a:gs pos="50000">
                <a:srgbClr val="6699ff"/>
              </a:gs>
              <a:gs pos="100000">
                <a:srgbClr val="000099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Server &amp; network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and proj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Top Lotus Notes Us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31000" y="3429000"/>
            <a:ext cx="18288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1615"/>
              <a:gd name="adj5" fmla="val 61666"/>
              <a:gd name="adj6" fmla="val -39148"/>
            </a:avLst>
          </a:pr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WG&amp;A &amp; AO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Helpdesk call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8640" y="2819520"/>
            <a:ext cx="18288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1268"/>
              <a:gd name="adj5" fmla="val 37500"/>
              <a:gd name="adj6" fmla="val -38541"/>
            </a:avLst>
          </a:pr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Website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8640" y="4343400"/>
            <a:ext cx="1828800" cy="121932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21787"/>
              <a:gd name="adj5" fmla="val 47787"/>
              <a:gd name="adj6" fmla="val -40189"/>
            </a:avLst>
          </a:prstGeom>
          <a:gradFill rotWithShape="0">
            <a:gsLst>
              <a:gs pos="0">
                <a:srgbClr val="800000"/>
              </a:gs>
              <a:gs pos="50000">
                <a:srgbClr val="ff0000"/>
              </a:gs>
              <a:gs pos="100000">
                <a:srgbClr val="800000"/>
              </a:gs>
            </a:gsLst>
            <a:lin ang="5400000"/>
          </a:gra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Database performance. WG&amp;A, Aboitiz One, SFFC applic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&amp; proj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31000" y="5791320"/>
            <a:ext cx="1828800" cy="895320"/>
          </a:xfrm>
          <a:prstGeom prst="borderCallout2">
            <a:avLst>
              <a:gd name="adj1" fmla="val 18750"/>
              <a:gd name="adj2" fmla="val -8333"/>
              <a:gd name="adj3" fmla="val 12763"/>
              <a:gd name="adj4" fmla="val -21092"/>
              <a:gd name="adj5" fmla="val -10106"/>
              <a:gd name="adj6" fmla="val -38282"/>
            </a:avLst>
          </a:prstGeom>
          <a:solidFill>
            <a:srgbClr val="993366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WG&amp;A, AOD &amp; SFFC IT Key Performance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21318_" descr=""/>
          <p:cNvPicPr/>
          <p:nvPr/>
        </p:nvPicPr>
        <p:blipFill>
          <a:blip r:embed="rId11"/>
          <a:stretch/>
        </p:blipFill>
        <p:spPr>
          <a:xfrm>
            <a:off x="304920" y="1204920"/>
            <a:ext cx="8458200" cy="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" y="152388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320" y="2152800"/>
          <a:ext cx="4451400" cy="365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52800"/>
                    <a:ext cx="44514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76680" y="2162160"/>
          <a:ext cx="4451400" cy="3652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6680" y="2162160"/>
                    <a:ext cx="445140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" y="152388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9160" y="2171880"/>
          <a:ext cx="4451400" cy="336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2171880"/>
                    <a:ext cx="44514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26000" y="2162160"/>
          <a:ext cx="4460760" cy="2930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6000" y="2162160"/>
                    <a:ext cx="446076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" y="152388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6600" y="2171880"/>
          <a:ext cx="4451400" cy="365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2171880"/>
                    <a:ext cx="44514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8480" y="2162160"/>
          <a:ext cx="4451400" cy="3652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8480" y="2162160"/>
                    <a:ext cx="445140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320" y="2124000"/>
          <a:ext cx="443844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24000"/>
                    <a:ext cx="44384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133720"/>
          <a:ext cx="4438800" cy="336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133720"/>
                    <a:ext cx="44388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133720"/>
          <a:ext cx="4438800" cy="336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44388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533840" y="2133720"/>
          <a:ext cx="4437000" cy="3375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3840" y="2133720"/>
                    <a:ext cx="4437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2152800"/>
          <a:ext cx="4390920" cy="336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5280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448160" y="2171880"/>
          <a:ext cx="4390920" cy="336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8160" y="217188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2295360"/>
          <a:ext cx="439092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486320" y="2276640"/>
          <a:ext cx="4390920" cy="3362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6320" y="227664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1080" y="2295360"/>
          <a:ext cx="439092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600440" y="2305080"/>
          <a:ext cx="4391280" cy="3362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0440" y="2305080"/>
                    <a:ext cx="43912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81080" y="2295360"/>
          <a:ext cx="4390920" cy="33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619520" y="2295360"/>
          <a:ext cx="4419720" cy="154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9520" y="2295360"/>
                    <a:ext cx="44197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0" y="2295360"/>
          <a:ext cx="4390920" cy="3362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295360"/>
                    <a:ext cx="4390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486320" y="2276640"/>
          <a:ext cx="4390920" cy="33620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86320" y="2276640"/>
                    <a:ext cx="43909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2133720" y="304812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88620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724280"/>
            <a:ext cx="4433760" cy="685800"/>
          </a:xfrm>
          <a:custGeom>
            <a:avLst/>
            <a:gdLst>
              <a:gd name="textAreaLeft" fmla="*/ 74880 w 4433760"/>
              <a:gd name="textAreaRight" fmla="*/ 4358880 w 443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139584" h="21600">
                <a:moveTo>
                  <a:pt x="0" y="0"/>
                </a:moveTo>
                <a:lnTo>
                  <a:pt x="139584" y="0"/>
                </a:lnTo>
                <a:lnTo>
                  <a:pt x="139584" y="21600"/>
                </a:lnTo>
                <a:lnTo>
                  <a:pt x="0" y="21600"/>
                </a:lnTo>
                <a:close/>
              </a:path>
              <a:path fill="lightenLess" w="139584" h="21600">
                <a:moveTo>
                  <a:pt x="0" y="0"/>
                </a:moveTo>
                <a:lnTo>
                  <a:pt x="139584" y="0"/>
                </a:lnTo>
                <a:lnTo>
                  <a:pt x="137221" y="2363"/>
                </a:lnTo>
                <a:lnTo>
                  <a:pt x="2363" y="2363"/>
                </a:lnTo>
                <a:close/>
              </a:path>
              <a:path fill="darken" w="139584" h="21600">
                <a:moveTo>
                  <a:pt x="139584" y="0"/>
                </a:moveTo>
                <a:lnTo>
                  <a:pt x="139584" y="21600"/>
                </a:lnTo>
                <a:lnTo>
                  <a:pt x="137221" y="19237"/>
                </a:lnTo>
                <a:lnTo>
                  <a:pt x="137221" y="2363"/>
                </a:lnTo>
                <a:close/>
              </a:path>
              <a:path fill="darkenLess" w="139584" h="21600">
                <a:moveTo>
                  <a:pt x="13958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137221" y="19237"/>
                </a:lnTo>
                <a:close/>
              </a:path>
              <a:path fill="lighten" w="13958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1760" y="1809720"/>
            <a:ext cx="48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chnolog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4914_" descr=""/>
          <p:cNvPicPr/>
          <p:nvPr/>
        </p:nvPicPr>
        <p:blipFill>
          <a:blip r:embed="rId1"/>
          <a:stretch/>
        </p:blipFill>
        <p:spPr>
          <a:xfrm>
            <a:off x="2438280" y="4800600"/>
            <a:ext cx="766800" cy="52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8120" y="3990960"/>
            <a:ext cx="68580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24080" y="31240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90720" y="1523880"/>
            <a:ext cx="1162080" cy="1020960"/>
          </a:xfrm>
          <a:prstGeom prst="rect">
            <a:avLst/>
          </a:prstGeom>
          <a:ln w="0">
            <a:noFill/>
          </a:ln>
        </p:spPr>
      </p:pic>
      <p:pic>
        <p:nvPicPr>
          <p:cNvPr id="68" name="bd21318_" descr=""/>
          <p:cNvPicPr/>
          <p:nvPr/>
        </p:nvPicPr>
        <p:blipFill>
          <a:blip r:embed="rId5"/>
          <a:stretch/>
        </p:blipFill>
        <p:spPr>
          <a:xfrm>
            <a:off x="838080" y="25876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90512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0" name="bd21318_" descr=""/>
          <p:cNvPicPr/>
          <p:nvPr/>
        </p:nvPicPr>
        <p:blipFill>
          <a:blip r:embed="rId6"/>
          <a:stretch/>
        </p:blipFill>
        <p:spPr>
          <a:xfrm>
            <a:off x="838080" y="14446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3818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2895480"/>
            <a:ext cx="18288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17620"/>
              <a:gd name="adj5" fmla="val 80356"/>
              <a:gd name="adj6" fmla="val -31425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Memory utilization, CPU utiliz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3809880"/>
            <a:ext cx="18288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-17620"/>
              <a:gd name="adj5" fmla="val 46875"/>
              <a:gd name="adj6" fmla="val -31425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Wide Area Network (WAN) availabi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Network project stat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5021280"/>
            <a:ext cx="1828800" cy="541440"/>
          </a:xfrm>
          <a:prstGeom prst="borderCallout2">
            <a:avLst>
              <a:gd name="adj1" fmla="val 18750"/>
              <a:gd name="adj2" fmla="val -8333"/>
              <a:gd name="adj3" fmla="val 21115"/>
              <a:gd name="adj4" fmla="val -17796"/>
              <a:gd name="adj5" fmla="val 21115"/>
              <a:gd name="adj6" fmla="val -31597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 Unicode MS"/>
              </a:rPr>
              <a:t>Top Lotus Notes Users per ser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838080"/>
            <a:ext cx="24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05920" y="6246720"/>
            <a:ext cx="609480" cy="534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89720" y="589608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Tech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280" y="14349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5050"/>
                </a:solidFill>
                <a:uFillTx/>
                <a:latin typeface="Book Antiqua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2920" y="2200320"/>
            <a:ext cx="316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Palatino Linotype"/>
              </a:rPr>
              <a:t>QUICK AIR Memory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77360" y="3475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53200" y="2206800"/>
            <a:ext cx="272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Palatino Linotype"/>
              </a:rPr>
              <a:t>QUICK AIR CPU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27200" y="326376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Utiliza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2280" y="325764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Utiliza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23240" y="30798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181320"/>
            <a:ext cx="110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3040" y="666720"/>
            <a:ext cx="7313400" cy="731880"/>
          </a:xfrm>
          <a:custGeom>
            <a:avLst/>
            <a:gdLst>
              <a:gd name="textAreaLeft" fmla="*/ 79920 w 7313400"/>
              <a:gd name="textAreaRight" fmla="*/ 7233480 w 731340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45" h="21600">
                <a:moveTo>
                  <a:pt x="0" y="0"/>
                </a:moveTo>
                <a:lnTo>
                  <a:pt x="215745" y="0"/>
                </a:lnTo>
                <a:lnTo>
                  <a:pt x="215745" y="21600"/>
                </a:lnTo>
                <a:lnTo>
                  <a:pt x="0" y="21600"/>
                </a:lnTo>
                <a:close/>
              </a:path>
              <a:path fill="lightenLess" w="215745" h="21600">
                <a:moveTo>
                  <a:pt x="0" y="0"/>
                </a:moveTo>
                <a:lnTo>
                  <a:pt x="215745" y="0"/>
                </a:lnTo>
                <a:lnTo>
                  <a:pt x="213382" y="2363"/>
                </a:lnTo>
                <a:lnTo>
                  <a:pt x="2363" y="2363"/>
                </a:lnTo>
                <a:close/>
              </a:path>
              <a:path fill="darken" w="215745" h="21600">
                <a:moveTo>
                  <a:pt x="215745" y="0"/>
                </a:moveTo>
                <a:lnTo>
                  <a:pt x="215745" y="21600"/>
                </a:lnTo>
                <a:lnTo>
                  <a:pt x="213382" y="19237"/>
                </a:lnTo>
                <a:lnTo>
                  <a:pt x="213382" y="2363"/>
                </a:lnTo>
                <a:close/>
              </a:path>
              <a:path fill="darkenLess" w="215745" h="21600">
                <a:moveTo>
                  <a:pt x="215745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82" y="19237"/>
                </a:lnTo>
                <a:close/>
              </a:path>
              <a:path fill="lighten" w="215745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5200" y="3048120"/>
          <a:ext cx="3932280" cy="206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200" y="3048120"/>
                    <a:ext cx="3932280" cy="2063520"/>
                  </a:xfrm>
                  <a:prstGeom prst="rect">
                    <a:avLst/>
                  </a:prstGeom>
                  <a:ln w="9360">
                    <a:solidFill>
                      <a:srgbClr val="990033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787480" y="770040"/>
            <a:ext cx="609840" cy="533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14480" y="114480"/>
            <a:ext cx="2590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Garamond"/>
              </a:rPr>
              <a:t>I.T. Dashboar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0440" y="406440"/>
            <a:ext cx="171144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Franklin Gothic Medium"/>
              </a:rPr>
              <a:t>September 2003</a:t>
            </a:r>
            <a:endParaRPr b="0" lang="en-US" sz="2400" spc="1" strike="noStrike">
              <a:ln w="1260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Franklin Gothic Medium"/>
              <a:ea typeface="Franklin Gothic Medium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30760" y="3073320"/>
          <a:ext cx="3951360" cy="2027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30760" y="3073320"/>
                    <a:ext cx="3951360" cy="2027160"/>
                  </a:xfrm>
                  <a:prstGeom prst="rect">
                    <a:avLst/>
                  </a:prstGeom>
                  <a:ln w="9360">
                    <a:solidFill>
                      <a:srgbClr val="9900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959520" y="31748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Utilization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6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3800" y="36957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20040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Utiliza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313760" cy="609480"/>
          </a:xfrm>
          <a:custGeom>
            <a:avLst/>
            <a:gdLst>
              <a:gd name="textAreaLeft" fmla="*/ 66600 w 7313760"/>
              <a:gd name="textAreaRight" fmla="*/ 7247160 w 7313760"/>
              <a:gd name="textAreaTop" fmla="*/ 66600 h 609480"/>
              <a:gd name="textAreaBottom" fmla="*/ 542880 h 609480"/>
            </a:gdLst>
            <a:ahLst/>
            <a:rect l="textAreaLeft" t="textAreaTop" r="textAreaRight" b="textAreaBottom"/>
            <a:pathLst>
              <a:path w="259060" h="21600">
                <a:moveTo>
                  <a:pt x="0" y="0"/>
                </a:moveTo>
                <a:lnTo>
                  <a:pt x="259060" y="0"/>
                </a:lnTo>
                <a:lnTo>
                  <a:pt x="259060" y="21600"/>
                </a:lnTo>
                <a:lnTo>
                  <a:pt x="0" y="21600"/>
                </a:lnTo>
                <a:close/>
              </a:path>
              <a:path fill="lightenLess" w="259060" h="21600">
                <a:moveTo>
                  <a:pt x="0" y="0"/>
                </a:moveTo>
                <a:lnTo>
                  <a:pt x="259060" y="0"/>
                </a:lnTo>
                <a:lnTo>
                  <a:pt x="256697" y="2363"/>
                </a:lnTo>
                <a:lnTo>
                  <a:pt x="2363" y="2363"/>
                </a:lnTo>
                <a:close/>
              </a:path>
              <a:path fill="darken" w="259060" h="21600">
                <a:moveTo>
                  <a:pt x="259060" y="0"/>
                </a:moveTo>
                <a:lnTo>
                  <a:pt x="259060" y="21600"/>
                </a:lnTo>
                <a:lnTo>
                  <a:pt x="256697" y="19237"/>
                </a:lnTo>
                <a:lnTo>
                  <a:pt x="256697" y="2363"/>
                </a:lnTo>
                <a:close/>
              </a:path>
              <a:path fill="darkenLess" w="259060" h="21600">
                <a:moveTo>
                  <a:pt x="259060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56697" y="19237"/>
                </a:lnTo>
                <a:close/>
              </a:path>
              <a:path fill="lighten" w="259060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0" y="795240"/>
          <a:ext cx="6094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95240"/>
                    <a:ext cx="609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228600" y="7632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295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G&amp;A WAN/LAN AVAILABILITY FOR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2800" y="1676520"/>
          <a:ext cx="825840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800" y="1676520"/>
                    <a:ext cx="8258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94788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lishe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I-ATI Outdoor Wireless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94788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-Going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P – Network Conne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/IDS Re-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List – Internet Core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uan New Office SC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Management – Times 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S WAN Transfer, Wireless Connectivity &amp; SCS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79524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Starte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er 13 MMD Fiber Optic Data Telephony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LAN Rehab/SCS (Cdo, Dvo, Tag, Ilo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frastructure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Wireless Security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LAN Sub-netting &amp;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Warehouse LAN/SCS Reh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42840" y="528480"/>
            <a:ext cx="7285320" cy="528840"/>
          </a:xfrm>
          <a:custGeom>
            <a:avLst/>
            <a:gdLst>
              <a:gd name="textAreaLeft" fmla="*/ 57600 w 7285320"/>
              <a:gd name="textAreaRight" fmla="*/ 7227720 w 7285320"/>
              <a:gd name="textAreaTop" fmla="*/ 57600 h 528840"/>
              <a:gd name="textAreaBottom" fmla="*/ 471240 h 528840"/>
            </a:gdLst>
            <a:ahLst/>
            <a:rect l="textAreaLeft" t="textAreaTop" r="textAreaRight" b="textAreaBottom"/>
            <a:pathLst>
              <a:path w="297375" h="21600">
                <a:moveTo>
                  <a:pt x="0" y="0"/>
                </a:moveTo>
                <a:lnTo>
                  <a:pt x="297375" y="0"/>
                </a:lnTo>
                <a:lnTo>
                  <a:pt x="297375" y="21600"/>
                </a:lnTo>
                <a:lnTo>
                  <a:pt x="0" y="21600"/>
                </a:lnTo>
                <a:close/>
              </a:path>
              <a:path fill="lightenLess" w="297375" h="21600">
                <a:moveTo>
                  <a:pt x="0" y="0"/>
                </a:moveTo>
                <a:lnTo>
                  <a:pt x="297375" y="0"/>
                </a:lnTo>
                <a:lnTo>
                  <a:pt x="295012" y="2363"/>
                </a:lnTo>
                <a:lnTo>
                  <a:pt x="2363" y="2363"/>
                </a:lnTo>
                <a:close/>
              </a:path>
              <a:path fill="darken" w="297375" h="21600">
                <a:moveTo>
                  <a:pt x="297375" y="0"/>
                </a:moveTo>
                <a:lnTo>
                  <a:pt x="297375" y="21600"/>
                </a:lnTo>
                <a:lnTo>
                  <a:pt x="295012" y="19237"/>
                </a:lnTo>
                <a:lnTo>
                  <a:pt x="295012" y="2363"/>
                </a:lnTo>
                <a:close/>
              </a:path>
              <a:path fill="darkenLess" w="297375" h="21600">
                <a:moveTo>
                  <a:pt x="297375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95012" y="19237"/>
                </a:lnTo>
                <a:close/>
              </a:path>
              <a:path fill="lighten" w="297375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611280"/>
            <a:ext cx="838080" cy="52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8600" y="3816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2800" y="328680"/>
            <a:ext cx="166716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5760" y="1111320"/>
          <a:ext cx="8213400" cy="565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111320"/>
                    <a:ext cx="821340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6699f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nterprise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4914_" descr=""/>
          <p:cNvPicPr/>
          <p:nvPr/>
        </p:nvPicPr>
        <p:blipFill>
          <a:blip r:embed="rId1"/>
          <a:stretch/>
        </p:blipFill>
        <p:spPr>
          <a:xfrm>
            <a:off x="1219320" y="928800"/>
            <a:ext cx="838080" cy="52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" y="152388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TEN NOTES DATABAS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320" y="2133720"/>
          <a:ext cx="4362480" cy="36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133720"/>
                    <a:ext cx="43624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572000" y="2133720"/>
          <a:ext cx="4451400" cy="3652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133720"/>
                    <a:ext cx="44514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442800" y="457200"/>
            <a:ext cx="1667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320" y="5943600"/>
          <a:ext cx="1600200" cy="495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0" y="5943600"/>
                    <a:ext cx="1600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6:59:24Z</dcterms:created>
  <dc:creator>AHJ565</dc:creator>
  <dc:description/>
  <dc:language>en-US</dc:language>
  <cp:lastModifiedBy>akp616</cp:lastModifiedBy>
  <dcterms:modified xsi:type="dcterms:W3CDTF">2003-10-30T01:30:16Z</dcterms:modified>
  <cp:revision>53</cp:revision>
  <dc:subject/>
  <dc:title>PowerPoint Presentation</dc:title>
</cp:coreProperties>
</file>