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2962800" y="1523880"/>
            <a:ext cx="33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 Black"/>
              </a:rPr>
              <a:t>e </a:t>
            </a:r>
            <a:r>
              <a:rPr b="0" lang="en-US" sz="5400" spc="-1" strike="noStrike">
                <a:solidFill>
                  <a:srgbClr val="3333cc"/>
                </a:solidFill>
                <a:latin typeface="Arial Black"/>
              </a:rPr>
              <a:t>Servi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228600" y="5181480"/>
            <a:ext cx="4419720" cy="685800"/>
          </a:xfrm>
          <a:custGeom>
            <a:avLst/>
            <a:gdLst>
              <a:gd name="textAreaLeft" fmla="*/ 74880 w 4419720"/>
              <a:gd name="textAreaRight" fmla="*/ 4344840 w 441972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142" h="21600">
                <a:moveTo>
                  <a:pt x="0" y="0"/>
                </a:moveTo>
                <a:lnTo>
                  <a:pt x="139142" y="0"/>
                </a:lnTo>
                <a:lnTo>
                  <a:pt x="139142" y="21600"/>
                </a:lnTo>
                <a:lnTo>
                  <a:pt x="0" y="21600"/>
                </a:lnTo>
                <a:close/>
              </a:path>
              <a:path fill="lightenLess" w="139142" h="21600">
                <a:moveTo>
                  <a:pt x="0" y="0"/>
                </a:moveTo>
                <a:lnTo>
                  <a:pt x="139142" y="0"/>
                </a:lnTo>
                <a:lnTo>
                  <a:pt x="136779" y="2363"/>
                </a:lnTo>
                <a:lnTo>
                  <a:pt x="2363" y="2363"/>
                </a:lnTo>
                <a:close/>
              </a:path>
              <a:path fill="darken" w="139142" h="21600">
                <a:moveTo>
                  <a:pt x="139142" y="0"/>
                </a:moveTo>
                <a:lnTo>
                  <a:pt x="139142" y="21600"/>
                </a:lnTo>
                <a:lnTo>
                  <a:pt x="136779" y="19237"/>
                </a:lnTo>
                <a:lnTo>
                  <a:pt x="136779" y="2363"/>
                </a:lnTo>
                <a:close/>
              </a:path>
              <a:path fill="darkenLess" w="139142" h="21600">
                <a:moveTo>
                  <a:pt x="139142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6779" y="19237"/>
                </a:lnTo>
                <a:close/>
              </a:path>
              <a:path fill="lighten" w="139142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wgasuperfer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28600" y="3657600"/>
            <a:ext cx="4419720" cy="685800"/>
          </a:xfrm>
          <a:custGeom>
            <a:avLst/>
            <a:gdLst>
              <a:gd name="textAreaLeft" fmla="*/ 74880 w 4419720"/>
              <a:gd name="textAreaRight" fmla="*/ 4344840 w 441972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142" h="21600">
                <a:moveTo>
                  <a:pt x="0" y="0"/>
                </a:moveTo>
                <a:lnTo>
                  <a:pt x="139142" y="0"/>
                </a:lnTo>
                <a:lnTo>
                  <a:pt x="139142" y="21600"/>
                </a:lnTo>
                <a:lnTo>
                  <a:pt x="0" y="21600"/>
                </a:lnTo>
                <a:close/>
              </a:path>
              <a:path fill="lightenLess" w="139142" h="21600">
                <a:moveTo>
                  <a:pt x="0" y="0"/>
                </a:moveTo>
                <a:lnTo>
                  <a:pt x="139142" y="0"/>
                </a:lnTo>
                <a:lnTo>
                  <a:pt x="136779" y="2363"/>
                </a:lnTo>
                <a:lnTo>
                  <a:pt x="2363" y="2363"/>
                </a:lnTo>
                <a:close/>
              </a:path>
              <a:path fill="darken" w="139142" h="21600">
                <a:moveTo>
                  <a:pt x="139142" y="0"/>
                </a:moveTo>
                <a:lnTo>
                  <a:pt x="139142" y="21600"/>
                </a:lnTo>
                <a:lnTo>
                  <a:pt x="136779" y="19237"/>
                </a:lnTo>
                <a:lnTo>
                  <a:pt x="136779" y="2363"/>
                </a:lnTo>
                <a:close/>
              </a:path>
              <a:path fill="darkenLess" w="139142" h="21600">
                <a:moveTo>
                  <a:pt x="139142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6779" y="19237"/>
                </a:lnTo>
                <a:close/>
              </a:path>
              <a:path fill="lighten" w="139142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aboitizone.com.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8600" y="4419720"/>
            <a:ext cx="4419720" cy="685800"/>
          </a:xfrm>
          <a:custGeom>
            <a:avLst/>
            <a:gdLst>
              <a:gd name="textAreaLeft" fmla="*/ 74880 w 4419720"/>
              <a:gd name="textAreaRight" fmla="*/ 4344840 w 441972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142" h="21600">
                <a:moveTo>
                  <a:pt x="0" y="0"/>
                </a:moveTo>
                <a:lnTo>
                  <a:pt x="139142" y="0"/>
                </a:lnTo>
                <a:lnTo>
                  <a:pt x="139142" y="21600"/>
                </a:lnTo>
                <a:lnTo>
                  <a:pt x="0" y="21600"/>
                </a:lnTo>
                <a:close/>
              </a:path>
              <a:path fill="lightenLess" w="139142" h="21600">
                <a:moveTo>
                  <a:pt x="0" y="0"/>
                </a:moveTo>
                <a:lnTo>
                  <a:pt x="139142" y="0"/>
                </a:lnTo>
                <a:lnTo>
                  <a:pt x="136779" y="2363"/>
                </a:lnTo>
                <a:lnTo>
                  <a:pt x="2363" y="2363"/>
                </a:lnTo>
                <a:close/>
              </a:path>
              <a:path fill="darken" w="139142" h="21600">
                <a:moveTo>
                  <a:pt x="139142" y="0"/>
                </a:moveTo>
                <a:lnTo>
                  <a:pt x="139142" y="21600"/>
                </a:lnTo>
                <a:lnTo>
                  <a:pt x="136779" y="19237"/>
                </a:lnTo>
                <a:lnTo>
                  <a:pt x="136779" y="2363"/>
                </a:lnTo>
                <a:close/>
              </a:path>
              <a:path fill="darkenLess" w="139142" h="21600">
                <a:moveTo>
                  <a:pt x="139142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6779" y="19237"/>
                </a:lnTo>
                <a:close/>
              </a:path>
              <a:path fill="lighten" w="139142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supercat.com.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6019920"/>
            <a:ext cx="4433760" cy="685800"/>
          </a:xfrm>
          <a:custGeom>
            <a:avLst/>
            <a:gdLst>
              <a:gd name="textAreaLeft" fmla="*/ 74880 w 4433760"/>
              <a:gd name="textAreaRight" fmla="*/ 4358880 w 44337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584" h="21600">
                <a:moveTo>
                  <a:pt x="0" y="0"/>
                </a:moveTo>
                <a:lnTo>
                  <a:pt x="139584" y="0"/>
                </a:lnTo>
                <a:lnTo>
                  <a:pt x="139584" y="21600"/>
                </a:lnTo>
                <a:lnTo>
                  <a:pt x="0" y="21600"/>
                </a:lnTo>
                <a:close/>
              </a:path>
              <a:path fill="lightenLess" w="139584" h="21600">
                <a:moveTo>
                  <a:pt x="0" y="0"/>
                </a:moveTo>
                <a:lnTo>
                  <a:pt x="139584" y="0"/>
                </a:lnTo>
                <a:lnTo>
                  <a:pt x="137221" y="2363"/>
                </a:lnTo>
                <a:lnTo>
                  <a:pt x="2363" y="2363"/>
                </a:lnTo>
                <a:close/>
              </a:path>
              <a:path fill="darken" w="139584" h="21600">
                <a:moveTo>
                  <a:pt x="139584" y="0"/>
                </a:moveTo>
                <a:lnTo>
                  <a:pt x="139584" y="21600"/>
                </a:lnTo>
                <a:lnTo>
                  <a:pt x="137221" y="19237"/>
                </a:lnTo>
                <a:lnTo>
                  <a:pt x="137221" y="2363"/>
                </a:lnTo>
                <a:close/>
              </a:path>
              <a:path fill="darkenLess" w="139584" h="21600">
                <a:moveTo>
                  <a:pt x="13958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7221" y="19237"/>
                </a:lnTo>
                <a:close/>
              </a:path>
              <a:path fill="lighten" w="13958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wgasupercommerc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21520" cy="7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3657600"/>
            <a:ext cx="4114800" cy="685800"/>
          </a:xfrm>
          <a:custGeom>
            <a:avLst/>
            <a:gdLst>
              <a:gd name="textAreaLeft" fmla="*/ 74880 w 4114800"/>
              <a:gd name="textAreaRight" fmla="*/ 4039920 w 411480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29543" h="21600">
                <a:moveTo>
                  <a:pt x="0" y="0"/>
                </a:moveTo>
                <a:lnTo>
                  <a:pt x="129543" y="0"/>
                </a:lnTo>
                <a:lnTo>
                  <a:pt x="129543" y="21600"/>
                </a:lnTo>
                <a:lnTo>
                  <a:pt x="0" y="21600"/>
                </a:lnTo>
                <a:close/>
              </a:path>
              <a:path fill="lightenLess" w="129543" h="21600">
                <a:moveTo>
                  <a:pt x="0" y="0"/>
                </a:moveTo>
                <a:lnTo>
                  <a:pt x="129543" y="0"/>
                </a:lnTo>
                <a:lnTo>
                  <a:pt x="127180" y="2363"/>
                </a:lnTo>
                <a:lnTo>
                  <a:pt x="2363" y="2363"/>
                </a:lnTo>
                <a:close/>
              </a:path>
              <a:path fill="darken" w="129543" h="21600">
                <a:moveTo>
                  <a:pt x="129543" y="0"/>
                </a:moveTo>
                <a:lnTo>
                  <a:pt x="129543" y="21600"/>
                </a:lnTo>
                <a:lnTo>
                  <a:pt x="127180" y="19237"/>
                </a:lnTo>
                <a:lnTo>
                  <a:pt x="127180" y="2363"/>
                </a:lnTo>
                <a:close/>
              </a:path>
              <a:path fill="darkenLess" w="129543" h="21600">
                <a:moveTo>
                  <a:pt x="129543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27180" y="19237"/>
                </a:lnTo>
                <a:close/>
              </a:path>
              <a:path fill="lighten" w="129543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4419720"/>
            <a:ext cx="4114800" cy="685800"/>
          </a:xfrm>
          <a:custGeom>
            <a:avLst/>
            <a:gdLst>
              <a:gd name="textAreaLeft" fmla="*/ 74880 w 4114800"/>
              <a:gd name="textAreaRight" fmla="*/ 4039920 w 411480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29543" h="21600">
                <a:moveTo>
                  <a:pt x="0" y="0"/>
                </a:moveTo>
                <a:lnTo>
                  <a:pt x="129543" y="0"/>
                </a:lnTo>
                <a:lnTo>
                  <a:pt x="129543" y="21600"/>
                </a:lnTo>
                <a:lnTo>
                  <a:pt x="0" y="21600"/>
                </a:lnTo>
                <a:close/>
              </a:path>
              <a:path fill="lightenLess" w="129543" h="21600">
                <a:moveTo>
                  <a:pt x="0" y="0"/>
                </a:moveTo>
                <a:lnTo>
                  <a:pt x="129543" y="0"/>
                </a:lnTo>
                <a:lnTo>
                  <a:pt x="127180" y="2363"/>
                </a:lnTo>
                <a:lnTo>
                  <a:pt x="2363" y="2363"/>
                </a:lnTo>
                <a:close/>
              </a:path>
              <a:path fill="darken" w="129543" h="21600">
                <a:moveTo>
                  <a:pt x="129543" y="0"/>
                </a:moveTo>
                <a:lnTo>
                  <a:pt x="129543" y="21600"/>
                </a:lnTo>
                <a:lnTo>
                  <a:pt x="127180" y="19237"/>
                </a:lnTo>
                <a:lnTo>
                  <a:pt x="127180" y="2363"/>
                </a:lnTo>
                <a:close/>
              </a:path>
              <a:path fill="darkenLess" w="129543" h="21600">
                <a:moveTo>
                  <a:pt x="129543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27180" y="19237"/>
                </a:lnTo>
                <a:close/>
              </a:path>
              <a:path fill="lighten" w="129543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aboitiz-container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5181480"/>
            <a:ext cx="4114800" cy="685800"/>
          </a:xfrm>
          <a:custGeom>
            <a:avLst/>
            <a:gdLst>
              <a:gd name="textAreaLeft" fmla="*/ 74880 w 4114800"/>
              <a:gd name="textAreaRight" fmla="*/ 4039920 w 411480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29543" h="21600">
                <a:moveTo>
                  <a:pt x="0" y="0"/>
                </a:moveTo>
                <a:lnTo>
                  <a:pt x="129543" y="0"/>
                </a:lnTo>
                <a:lnTo>
                  <a:pt x="129543" y="21600"/>
                </a:lnTo>
                <a:lnTo>
                  <a:pt x="0" y="21600"/>
                </a:lnTo>
                <a:close/>
              </a:path>
              <a:path fill="lightenLess" w="129543" h="21600">
                <a:moveTo>
                  <a:pt x="0" y="0"/>
                </a:moveTo>
                <a:lnTo>
                  <a:pt x="129543" y="0"/>
                </a:lnTo>
                <a:lnTo>
                  <a:pt x="127180" y="2363"/>
                </a:lnTo>
                <a:lnTo>
                  <a:pt x="2363" y="2363"/>
                </a:lnTo>
                <a:close/>
              </a:path>
              <a:path fill="darken" w="129543" h="21600">
                <a:moveTo>
                  <a:pt x="129543" y="0"/>
                </a:moveTo>
                <a:lnTo>
                  <a:pt x="129543" y="21600"/>
                </a:lnTo>
                <a:lnTo>
                  <a:pt x="127180" y="19237"/>
                </a:lnTo>
                <a:lnTo>
                  <a:pt x="127180" y="2363"/>
                </a:lnTo>
                <a:close/>
              </a:path>
              <a:path fill="darkenLess" w="129543" h="21600">
                <a:moveTo>
                  <a:pt x="129543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27180" y="19237"/>
                </a:lnTo>
                <a:close/>
              </a:path>
              <a:path fill="lighten" w="129543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aboitizlogistic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819520"/>
            <a:ext cx="8686800" cy="685800"/>
          </a:xfrm>
          <a:custGeom>
            <a:avLst/>
            <a:gdLst>
              <a:gd name="textAreaLeft" fmla="*/ 74880 w 8686800"/>
              <a:gd name="textAreaRight" fmla="*/ 8611920 w 868680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273468" h="21600">
                <a:moveTo>
                  <a:pt x="0" y="0"/>
                </a:moveTo>
                <a:lnTo>
                  <a:pt x="273468" y="0"/>
                </a:lnTo>
                <a:lnTo>
                  <a:pt x="273468" y="21600"/>
                </a:lnTo>
                <a:lnTo>
                  <a:pt x="0" y="21600"/>
                </a:lnTo>
                <a:close/>
              </a:path>
              <a:path fill="lightenLess" w="273468" h="21600">
                <a:moveTo>
                  <a:pt x="0" y="0"/>
                </a:moveTo>
                <a:lnTo>
                  <a:pt x="273468" y="0"/>
                </a:lnTo>
                <a:lnTo>
                  <a:pt x="271105" y="2363"/>
                </a:lnTo>
                <a:lnTo>
                  <a:pt x="2363" y="2363"/>
                </a:lnTo>
                <a:close/>
              </a:path>
              <a:path fill="darken" w="273468" h="21600">
                <a:moveTo>
                  <a:pt x="273468" y="0"/>
                </a:moveTo>
                <a:lnTo>
                  <a:pt x="273468" y="21600"/>
                </a:lnTo>
                <a:lnTo>
                  <a:pt x="271105" y="19237"/>
                </a:lnTo>
                <a:lnTo>
                  <a:pt x="271105" y="2363"/>
                </a:lnTo>
                <a:close/>
              </a:path>
              <a:path fill="darkenLess" w="273468" h="21600">
                <a:moveTo>
                  <a:pt x="273468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71105" y="19237"/>
                </a:lnTo>
                <a:close/>
              </a:path>
              <a:path fill="lighten" w="273468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COMPARATIVE STATISTICS – web and 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47960" y="838080"/>
            <a:ext cx="1662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6019920"/>
            <a:ext cx="4114800" cy="685800"/>
          </a:xfrm>
          <a:custGeom>
            <a:avLst/>
            <a:gdLst>
              <a:gd name="textAreaLeft" fmla="*/ 74880 w 4114800"/>
              <a:gd name="textAreaRight" fmla="*/ 4039920 w 411480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29543" h="21600">
                <a:moveTo>
                  <a:pt x="0" y="0"/>
                </a:moveTo>
                <a:lnTo>
                  <a:pt x="129543" y="0"/>
                </a:lnTo>
                <a:lnTo>
                  <a:pt x="129543" y="21600"/>
                </a:lnTo>
                <a:lnTo>
                  <a:pt x="0" y="21600"/>
                </a:lnTo>
                <a:close/>
              </a:path>
              <a:path fill="lightenLess" w="129543" h="21600">
                <a:moveTo>
                  <a:pt x="0" y="0"/>
                </a:moveTo>
                <a:lnTo>
                  <a:pt x="129543" y="0"/>
                </a:lnTo>
                <a:lnTo>
                  <a:pt x="127180" y="2363"/>
                </a:lnTo>
                <a:lnTo>
                  <a:pt x="2363" y="2363"/>
                </a:lnTo>
                <a:close/>
              </a:path>
              <a:path fill="darken" w="129543" h="21600">
                <a:moveTo>
                  <a:pt x="129543" y="0"/>
                </a:moveTo>
                <a:lnTo>
                  <a:pt x="129543" y="21600"/>
                </a:lnTo>
                <a:lnTo>
                  <a:pt x="127180" y="19237"/>
                </a:lnTo>
                <a:lnTo>
                  <a:pt x="127180" y="2363"/>
                </a:lnTo>
                <a:close/>
              </a:path>
              <a:path fill="darkenLess" w="129543" h="21600">
                <a:moveTo>
                  <a:pt x="129543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27180" y="19237"/>
                </a:lnTo>
                <a:close/>
              </a:path>
              <a:path fill="lighten" w="129543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cebuferri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one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75680" y="81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75680" y="569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5680" y="81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75680" y="325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53360" y="133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53360" y="1087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53360" y="133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3360" y="84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53360" y="133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53360" y="1087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53360" y="133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53360" y="84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149560"/>
            <a:ext cx="73915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one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1649520"/>
            <a:ext cx="737244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one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13120" y="1714680"/>
            <a:ext cx="514980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one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41920" y="5896080"/>
            <a:ext cx="735480" cy="961920"/>
            <a:chOff x="8341920" y="5896080"/>
            <a:chExt cx="735480" cy="961920"/>
          </a:xfrm>
        </p:grpSpPr>
        <p:sp>
          <p:nvSpPr>
            <p:cNvPr id="133" name=""/>
            <p:cNvSpPr/>
            <p:nvPr/>
          </p:nvSpPr>
          <p:spPr>
            <a:xfrm>
              <a:off x="8341920" y="589608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 Black"/>
                </a:rPr>
                <a:t>e</a:t>
              </a:r>
              <a:r>
                <a:rPr b="0" lang="en-US" sz="1000" spc="-1" strike="noStrike">
                  <a:solidFill>
                    <a:srgbClr val="3333cc"/>
                  </a:solidFill>
                  <a:latin typeface="Arial Black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 Black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8510760" y="6248520"/>
            <a:ext cx="490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10760" y="6248520"/>
                      <a:ext cx="490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"/>
          <p:cNvSpPr/>
          <p:nvPr/>
        </p:nvSpPr>
        <p:spPr>
          <a:xfrm>
            <a:off x="8153280" y="571500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459160" y="1676520"/>
            <a:ext cx="49323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upercat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90560" y="2332080"/>
            <a:ext cx="57628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upercat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2149560"/>
            <a:ext cx="65833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upercat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5833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upercat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41920" y="5896080"/>
            <a:ext cx="735480" cy="961920"/>
            <a:chOff x="8341920" y="5896080"/>
            <a:chExt cx="735480" cy="961920"/>
          </a:xfrm>
        </p:grpSpPr>
        <p:sp>
          <p:nvSpPr>
            <p:cNvPr id="146" name=""/>
            <p:cNvSpPr/>
            <p:nvPr/>
          </p:nvSpPr>
          <p:spPr>
            <a:xfrm>
              <a:off x="8341920" y="589608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 Black"/>
                </a:rPr>
                <a:t>e</a:t>
              </a:r>
              <a:r>
                <a:rPr b="0" lang="en-US" sz="1000" spc="-1" strike="noStrike">
                  <a:solidFill>
                    <a:srgbClr val="3333cc"/>
                  </a:solidFill>
                  <a:latin typeface="Arial Black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 Black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8510760" y="6248520"/>
            <a:ext cx="490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10760" y="6248520"/>
                      <a:ext cx="490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9" name=""/>
          <p:cNvSpPr/>
          <p:nvPr/>
        </p:nvSpPr>
        <p:spPr>
          <a:xfrm>
            <a:off x="8153280" y="571500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281240" y="1868400"/>
            <a:ext cx="65833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logistic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5833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logistic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41920" y="5896080"/>
            <a:ext cx="735480" cy="961920"/>
            <a:chOff x="8341920" y="5896080"/>
            <a:chExt cx="735480" cy="961920"/>
          </a:xfrm>
        </p:grpSpPr>
        <p:sp>
          <p:nvSpPr>
            <p:cNvPr id="155" name=""/>
            <p:cNvSpPr/>
            <p:nvPr/>
          </p:nvSpPr>
          <p:spPr>
            <a:xfrm>
              <a:off x="8341920" y="589608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 Black"/>
                </a:rPr>
                <a:t>e</a:t>
              </a:r>
              <a:r>
                <a:rPr b="0" lang="en-US" sz="1000" spc="-1" strike="noStrike">
                  <a:solidFill>
                    <a:srgbClr val="3333cc"/>
                  </a:solidFill>
                  <a:latin typeface="Arial Black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 Black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8510760" y="6248520"/>
            <a:ext cx="490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10760" y="6248520"/>
                      <a:ext cx="490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8" name=""/>
          <p:cNvSpPr/>
          <p:nvPr/>
        </p:nvSpPr>
        <p:spPr>
          <a:xfrm>
            <a:off x="8153280" y="571500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085840" y="2386080"/>
            <a:ext cx="57628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mparative Statistics -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2160" y="182880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Page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6360" y="596412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PAGE VIEWS - count of pages accessed</a:t>
            </a: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3680" y="2489040"/>
            <a:ext cx="87566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-container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82960" y="2149560"/>
            <a:ext cx="57625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-container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341920" y="5896080"/>
            <a:ext cx="735480" cy="961920"/>
            <a:chOff x="8341920" y="5896080"/>
            <a:chExt cx="735480" cy="961920"/>
          </a:xfrm>
        </p:grpSpPr>
        <p:sp>
          <p:nvSpPr>
            <p:cNvPr id="164" name=""/>
            <p:cNvSpPr/>
            <p:nvPr/>
          </p:nvSpPr>
          <p:spPr>
            <a:xfrm>
              <a:off x="8341920" y="589608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 Black"/>
                </a:rPr>
                <a:t>e</a:t>
              </a:r>
              <a:r>
                <a:rPr b="0" lang="en-US" sz="1000" spc="-1" strike="noStrike">
                  <a:solidFill>
                    <a:srgbClr val="3333cc"/>
                  </a:solidFill>
                  <a:latin typeface="Arial Black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 Black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8510760" y="6248520"/>
            <a:ext cx="490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10760" y="6248520"/>
                      <a:ext cx="490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7" name=""/>
          <p:cNvSpPr/>
          <p:nvPr/>
        </p:nvSpPr>
        <p:spPr>
          <a:xfrm>
            <a:off x="8153280" y="571500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085840" y="2530440"/>
            <a:ext cx="57628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gasuperferr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43080" y="2252520"/>
          <a:ext cx="6657840" cy="23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2252520"/>
                    <a:ext cx="6657840" cy="23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gasuperferr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43080" y="1752480"/>
          <a:ext cx="6657840" cy="17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1752480"/>
                    <a:ext cx="665784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243080" y="3629160"/>
          <a:ext cx="6657840" cy="1019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629160"/>
                    <a:ext cx="66578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43080" y="4800600"/>
          <a:ext cx="6657840" cy="1019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3080" y="4800600"/>
                    <a:ext cx="66578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3808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gasuperferr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00280" y="1371600"/>
          <a:ext cx="574344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71600"/>
                    <a:ext cx="5743440" cy="373392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700280" y="5181480"/>
          <a:ext cx="5743440" cy="15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0280" y="5181480"/>
                    <a:ext cx="57434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gasuperferr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41920" y="5896080"/>
            <a:ext cx="735480" cy="961920"/>
            <a:chOff x="8341920" y="5896080"/>
            <a:chExt cx="735480" cy="961920"/>
          </a:xfrm>
        </p:grpSpPr>
        <p:sp>
          <p:nvSpPr>
            <p:cNvPr id="186" name=""/>
            <p:cNvSpPr/>
            <p:nvPr/>
          </p:nvSpPr>
          <p:spPr>
            <a:xfrm>
              <a:off x="8341920" y="589608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 Black"/>
                </a:rPr>
                <a:t>e</a:t>
              </a:r>
              <a:r>
                <a:rPr b="0" lang="en-US" sz="1000" spc="-1" strike="noStrike">
                  <a:solidFill>
                    <a:srgbClr val="3333cc"/>
                  </a:solidFill>
                  <a:latin typeface="Arial Black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 Black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8510760" y="6248520"/>
            <a:ext cx="490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10760" y="6248520"/>
                      <a:ext cx="490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9" name=""/>
          <p:cNvSpPr/>
          <p:nvPr/>
        </p:nvSpPr>
        <p:spPr>
          <a:xfrm>
            <a:off x="8153280" y="571500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00280" y="1828800"/>
          <a:ext cx="5743440" cy="4648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0280" y="1828800"/>
                    <a:ext cx="57434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gasupercommerc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14360" y="1928880"/>
          <a:ext cx="83152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1928880"/>
                    <a:ext cx="83152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95560" y="4619520"/>
          <a:ext cx="6752880" cy="140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5560" y="4619520"/>
                    <a:ext cx="675288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8341920" y="5896080"/>
            <a:ext cx="735480" cy="961920"/>
            <a:chOff x="8341920" y="5896080"/>
            <a:chExt cx="735480" cy="961920"/>
          </a:xfrm>
        </p:grpSpPr>
        <p:sp>
          <p:nvSpPr>
            <p:cNvPr id="198" name=""/>
            <p:cNvSpPr/>
            <p:nvPr/>
          </p:nvSpPr>
          <p:spPr>
            <a:xfrm>
              <a:off x="8341920" y="589608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 Black"/>
                </a:rPr>
                <a:t>e</a:t>
              </a:r>
              <a:r>
                <a:rPr b="0" lang="en-US" sz="1000" spc="-1" strike="noStrike">
                  <a:solidFill>
                    <a:srgbClr val="3333cc"/>
                  </a:solidFill>
                  <a:latin typeface="Arial Black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 Black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8510760" y="6248520"/>
            <a:ext cx="490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10760" y="6248520"/>
                      <a:ext cx="490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1" name=""/>
          <p:cNvSpPr/>
          <p:nvPr/>
        </p:nvSpPr>
        <p:spPr>
          <a:xfrm>
            <a:off x="8153280" y="571500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gasupercommerc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85800" y="2600280"/>
          <a:ext cx="5972400" cy="15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5800" y="2600280"/>
                    <a:ext cx="59724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78200" y="1900080"/>
            <a:ext cx="6022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41920" y="5896080"/>
            <a:ext cx="735480" cy="961920"/>
            <a:chOff x="8341920" y="5896080"/>
            <a:chExt cx="735480" cy="961920"/>
          </a:xfrm>
        </p:grpSpPr>
        <p:sp>
          <p:nvSpPr>
            <p:cNvPr id="209" name=""/>
            <p:cNvSpPr/>
            <p:nvPr/>
          </p:nvSpPr>
          <p:spPr>
            <a:xfrm>
              <a:off x="8341920" y="589608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 Black"/>
                </a:rPr>
                <a:t>e</a:t>
              </a:r>
              <a:r>
                <a:rPr b="0" lang="en-US" sz="1000" spc="-1" strike="noStrike">
                  <a:solidFill>
                    <a:srgbClr val="3333cc"/>
                  </a:solidFill>
                  <a:latin typeface="Arial Black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 Black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8510760" y="6248520"/>
            <a:ext cx="490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10760" y="6248520"/>
                      <a:ext cx="490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"/>
          <p:cNvSpPr/>
          <p:nvPr/>
        </p:nvSpPr>
        <p:spPr>
          <a:xfrm>
            <a:off x="8153280" y="571500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978200" y="2039760"/>
            <a:ext cx="60228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mparative Statistics -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480" y="18288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User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6019920"/>
            <a:ext cx="72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USER SESSIONS - count of unique IPs (users) accessing the site</a:t>
            </a: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3680" y="2413080"/>
            <a:ext cx="8756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mparative Statistics -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2760" y="182880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Average Time Sp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38320" y="2435400"/>
            <a:ext cx="686268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mparative Statistics - 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41920" y="5896080"/>
            <a:ext cx="735480" cy="961920"/>
            <a:chOff x="8341920" y="5896080"/>
            <a:chExt cx="735480" cy="961920"/>
          </a:xfrm>
        </p:grpSpPr>
        <p:sp>
          <p:nvSpPr>
            <p:cNvPr id="63" name=""/>
            <p:cNvSpPr/>
            <p:nvPr/>
          </p:nvSpPr>
          <p:spPr>
            <a:xfrm>
              <a:off x="8341920" y="589608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 Black"/>
                </a:rPr>
                <a:t>e</a:t>
              </a:r>
              <a:r>
                <a:rPr b="0" lang="en-US" sz="1000" spc="-1" strike="noStrike">
                  <a:solidFill>
                    <a:srgbClr val="3333cc"/>
                  </a:solidFill>
                  <a:latin typeface="Arial Black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 Black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8510760" y="6248520"/>
            <a:ext cx="490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10760" y="6248520"/>
                      <a:ext cx="490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" name=""/>
          <p:cNvSpPr/>
          <p:nvPr/>
        </p:nvSpPr>
        <p:spPr>
          <a:xfrm>
            <a:off x="8153280" y="571500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2166840"/>
          <a:ext cx="7315200" cy="2524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166840"/>
                    <a:ext cx="731520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one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80" y="2286000"/>
            <a:ext cx="9028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one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639613497240" y="-2070000"/>
          <a:ext cx="9672480" cy="10999800"/>
        </p:xfrm>
        <a:graphic>
          <a:graphicData uri="http://schemas.openxmlformats.org/drawingml/2006/table">
            <a:tbl>
              <a:tblPr/>
              <a:tblGrid>
                <a:gridCol w="216000"/>
                <a:gridCol w="2376360"/>
                <a:gridCol w="1414440"/>
                <a:gridCol w="1414440"/>
                <a:gridCol w="709200"/>
                <a:gridCol w="708840"/>
                <a:gridCol w="709200"/>
                <a:gridCol w="708840"/>
                <a:gridCol w="709200"/>
                <a:gridCol w="705960"/>
              </a:tblGrid>
              <a:tr h="435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otal inquiries (web and sm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,9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9,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4,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5,5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stimated equivalent </a:t>
                      </a: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man-hours per day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of customer service in reply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7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3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o cargo inquiries (delivery statu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*assumption: 2 minutes per document (cn/awb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9622641240" y="-139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622641240" y="-139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-639613497240" y="-2070000"/>
          <a:ext cx="9672480" cy="10999800"/>
        </p:xfrm>
        <a:graphic>
          <a:graphicData uri="http://schemas.openxmlformats.org/drawingml/2006/table">
            <a:tbl>
              <a:tblPr/>
              <a:tblGrid>
                <a:gridCol w="216000"/>
                <a:gridCol w="2376360"/>
                <a:gridCol w="1414440"/>
                <a:gridCol w="1414440"/>
                <a:gridCol w="709200"/>
                <a:gridCol w="708840"/>
                <a:gridCol w="709200"/>
                <a:gridCol w="708840"/>
                <a:gridCol w="709200"/>
                <a:gridCol w="705960"/>
              </a:tblGrid>
              <a:tr h="435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otal inquiries (web and sm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,9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9,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4,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5,5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stimated equivalent </a:t>
                      </a: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man-hours per day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of customer service in reply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7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3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o cargo inquiries (delivery statu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*assumption: 2 minutes per document (cn/awb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9622641240" y="-139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9622641240" y="-139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639613497240" y="-2070000"/>
          <a:ext cx="9672480" cy="10999800"/>
        </p:xfrm>
        <a:graphic>
          <a:graphicData uri="http://schemas.openxmlformats.org/drawingml/2006/table">
            <a:tbl>
              <a:tblPr/>
              <a:tblGrid>
                <a:gridCol w="216000"/>
                <a:gridCol w="2376360"/>
                <a:gridCol w="1414440"/>
                <a:gridCol w="1414440"/>
                <a:gridCol w="709200"/>
                <a:gridCol w="708840"/>
                <a:gridCol w="709200"/>
                <a:gridCol w="708840"/>
                <a:gridCol w="709200"/>
                <a:gridCol w="705960"/>
              </a:tblGrid>
              <a:tr h="435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otal inquiries (web and sm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,9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9,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4,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5,5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stimated equivalent </a:t>
                      </a: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man-hours per day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of customer service in reply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7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3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o cargo inquiries (delivery statu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*assumption: 2 minutes per document (cn/awb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9622641240" y="-139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63961342740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9622641240" y="-139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639460420920" y="-2070000"/>
          <a:ext cx="9672480" cy="10999800"/>
        </p:xfrm>
        <a:graphic>
          <a:graphicData uri="http://schemas.openxmlformats.org/drawingml/2006/table">
            <a:tbl>
              <a:tblPr/>
              <a:tblGrid>
                <a:gridCol w="216000"/>
                <a:gridCol w="2376360"/>
                <a:gridCol w="1414440"/>
                <a:gridCol w="1414440"/>
                <a:gridCol w="709200"/>
                <a:gridCol w="708840"/>
                <a:gridCol w="709200"/>
                <a:gridCol w="708840"/>
                <a:gridCol w="709200"/>
                <a:gridCol w="705960"/>
              </a:tblGrid>
              <a:tr h="435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otal inquiries (web and sm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,9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9,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4,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5,5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stimated equivalent </a:t>
                      </a: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man-hours per day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of customer service in reply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7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3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o cargo inquiries (delivery statu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*assumption: 2 minutes per document (cn/awb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63946031292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63946031292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63946031292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9469564920" y="-139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63946031292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63946031292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39460312920" y="-2070000"/>
            <a:ext cx="0" cy="9237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9469564920" y="-139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80" y="2289240"/>
            <a:ext cx="90280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one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80" y="2286000"/>
            <a:ext cx="90280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itizone.com.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5840" y="2562120"/>
            <a:ext cx="67737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7:27:54Z</dcterms:created>
  <dc:creator>AHJ565</dc:creator>
  <dc:description/>
  <dc:language>en-US</dc:language>
  <cp:lastModifiedBy>akp616</cp:lastModifiedBy>
  <dcterms:modified xsi:type="dcterms:W3CDTF">2003-10-30T01:33:00Z</dcterms:modified>
  <cp:revision>150</cp:revision>
  <dc:subject/>
  <dc:title>PowerPoint Presentation</dc:title>
</cp:coreProperties>
</file>