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224-C620-4C8A-87A0-AD35037F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636-CCF4-455C-9644-83D7DA76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921-DB71-474D-B79F-AD3FB716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6B3-9AA5-420E-8DF0-CEAFBCB2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1A27-4EC6-4D68-9DE8-3D920055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CD6B-F773-4893-B7F1-8F5CCBF5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6090-E145-4CB7-9C16-CFF9F89C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2A2B-5A7A-49FB-B96B-DCFDB1F9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2D1A-50D1-420B-B6F2-123FBB91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A6A4-3EF8-4BB9-A436-A86B8B8F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E416-0081-470F-B240-9362D759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8C2-99F9-4623-ADA1-3C0F9BF6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888E-6AF6-4306-A9CC-B5C44AC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BF6D-4085-4341-99D3-11A7D6BC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FD3A-143C-4EE2-95E5-621B987B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653D-361A-4049-A39A-27ED6BB6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869E-B390-4CD5-97D1-CD6B026E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8ED-C172-4A95-9BC8-181FA54B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F22-6E12-4810-986E-57FDAB82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57C-B9FF-40FD-9157-CD4A6D62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175-0F25-46A3-A032-487EF6C0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C18-17BC-477E-A51A-5C155655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842-9DBD-4C89-B008-C6867750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8A7-89CD-45AC-A28C-B03FF74F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59B3-C247-4B0B-8023-B99916E7B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2F5C-FDAC-41BF-AFFB-5543AA8893A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obbyMcDonaldA3@Yahoo.com" TargetMode="External"/><Relationship Id="rId2" Type="http://schemas.openxmlformats.org/officeDocument/2006/relationships/hyperlink" Target="http://www.geocities.com/BobbyMcDonaldA3/index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Fun-N-Sun Sojourn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14800" y="358092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Travel Agency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pecializing in Beach Resorts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3760" y="251460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hamas Re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tona De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West Ha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Padre Del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each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038840" cy="304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0" y="762120"/>
          <a:ext cx="5715000" cy="19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62120"/>
                    <a:ext cx="571500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286000" y="3048120"/>
          <a:ext cx="5791320" cy="2590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048120"/>
                    <a:ext cx="57913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We leave from a marina near you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264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62320" y="1828800"/>
            <a:ext cx="5339880" cy="4016160"/>
            <a:chOff x="2362320" y="1828800"/>
            <a:chExt cx="5339880" cy="4016160"/>
          </a:xfrm>
        </p:grpSpPr>
        <p:grpSp>
          <p:nvGrpSpPr>
            <p:cNvPr id="95" name=""/>
            <p:cNvGrpSpPr/>
            <p:nvPr/>
          </p:nvGrpSpPr>
          <p:grpSpPr>
            <a:xfrm>
              <a:off x="2370600" y="1835640"/>
              <a:ext cx="5321520" cy="4001400"/>
              <a:chOff x="2370600" y="1835640"/>
              <a:chExt cx="5321520" cy="40014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370600" y="1835640"/>
                <a:ext cx="1928880" cy="363240"/>
                <a:chOff x="2370600" y="1835640"/>
                <a:chExt cx="1928880" cy="3632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370600" y="1835640"/>
                  <a:ext cx="192888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370600" y="1835640"/>
                  <a:ext cx="1928520" cy="362880"/>
                  <a:chOff x="2370600" y="1835640"/>
                  <a:chExt cx="1928520" cy="362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370600" y="1835640"/>
                    <a:ext cx="192852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am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370600" y="1835640"/>
                    <a:ext cx="192852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4299840" y="1835640"/>
                <a:ext cx="1920240" cy="363240"/>
                <a:chOff x="4299840" y="1835640"/>
                <a:chExt cx="1920240" cy="363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299840" y="1835640"/>
                  <a:ext cx="192024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4299840" y="1835640"/>
                  <a:ext cx="1919880" cy="362880"/>
                  <a:chOff x="4299840" y="1835640"/>
                  <a:chExt cx="1919880" cy="3628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299840" y="1835640"/>
                    <a:ext cx="191988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ddres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299840" y="1835640"/>
                    <a:ext cx="191988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6220800" y="1835640"/>
                <a:ext cx="1471320" cy="363240"/>
                <a:chOff x="6220800" y="1835640"/>
                <a:chExt cx="1471320" cy="3632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220800" y="1835640"/>
                  <a:ext cx="147132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6220800" y="1835640"/>
                  <a:ext cx="1470960" cy="362880"/>
                  <a:chOff x="6220800" y="1835640"/>
                  <a:chExt cx="1470960" cy="36288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220800" y="1835640"/>
                    <a:ext cx="147096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220800" y="1835640"/>
                    <a:ext cx="147096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2370600" y="2199240"/>
                <a:ext cx="1928880" cy="363240"/>
                <a:chOff x="2370600" y="2199240"/>
                <a:chExt cx="1928880" cy="36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70600" y="21992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an's Dock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70600" y="21992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299840" y="2199240"/>
                <a:ext cx="1920240" cy="363240"/>
                <a:chOff x="4299840" y="2199240"/>
                <a:chExt cx="1920240" cy="363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99840" y="21992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14 Centr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99840" y="21992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220800" y="2199240"/>
                <a:ext cx="1471320" cy="363240"/>
                <a:chOff x="6220800" y="2199240"/>
                <a:chExt cx="1471320" cy="363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220800" y="21992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220800" y="21992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370600" y="2562840"/>
                <a:ext cx="1928880" cy="363240"/>
                <a:chOff x="2370600" y="2562840"/>
                <a:chExt cx="1928880" cy="3632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370600" y="25628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fton's Mar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370600" y="25628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299840" y="2562840"/>
                <a:ext cx="1920240" cy="363240"/>
                <a:chOff x="4299840" y="2562840"/>
                <a:chExt cx="1920240" cy="3632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299840" y="25628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 West 8t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99840" y="25628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220800" y="2562840"/>
                <a:ext cx="1471320" cy="363240"/>
                <a:chOff x="6220800" y="2562840"/>
                <a:chExt cx="1471320" cy="3632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220800" y="25628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en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20800" y="25628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370600" y="2926800"/>
                <a:ext cx="1928880" cy="363240"/>
                <a:chOff x="2370600" y="2926800"/>
                <a:chExt cx="1928880" cy="3632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370600" y="29268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rites Land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70600" y="29268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299840" y="2926800"/>
                <a:ext cx="1920240" cy="363240"/>
                <a:chOff x="4299840" y="2926800"/>
                <a:chExt cx="1920240" cy="3632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299840" y="29268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1 Rob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299840" y="29268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20800" y="2926800"/>
                <a:ext cx="1471320" cy="363240"/>
                <a:chOff x="6220800" y="2926800"/>
                <a:chExt cx="1471320" cy="3632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220800" y="29268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220800" y="29268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370600" y="3290400"/>
                <a:ext cx="1928880" cy="363240"/>
                <a:chOff x="2370600" y="3290400"/>
                <a:chExt cx="1928880" cy="363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370600" y="32904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end Mar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370600" y="32904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299840" y="3290400"/>
                <a:ext cx="1920240" cy="363240"/>
                <a:chOff x="4299840" y="3290400"/>
                <a:chExt cx="1920240" cy="363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299840" y="32904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2 Riv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99840" y="32904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220800" y="3290400"/>
                <a:ext cx="1471320" cy="363240"/>
                <a:chOff x="6220800" y="3290400"/>
                <a:chExt cx="1471320" cy="3632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220800" y="32904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ri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220800" y="32904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370600" y="3654360"/>
                <a:ext cx="1928880" cy="363600"/>
                <a:chOff x="2370600" y="3654360"/>
                <a:chExt cx="1928880" cy="3636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370600" y="3654360"/>
                  <a:ext cx="192888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nton's Boa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370600" y="3654360"/>
                  <a:ext cx="192888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299840" y="3654360"/>
                <a:ext cx="1920240" cy="363600"/>
                <a:chOff x="4299840" y="3654360"/>
                <a:chExt cx="1920240" cy="3636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299840" y="3654360"/>
                  <a:ext cx="192024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 Bay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99840" y="3654360"/>
                  <a:ext cx="192024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220800" y="3654360"/>
                <a:ext cx="1471320" cy="363600"/>
                <a:chOff x="6220800" y="3654360"/>
                <a:chExt cx="1471320" cy="3636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220800" y="3654360"/>
                  <a:ext cx="147132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vel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220800" y="3654360"/>
                  <a:ext cx="147132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370600" y="4018680"/>
                <a:ext cx="1928880" cy="363240"/>
                <a:chOff x="2370600" y="4018680"/>
                <a:chExt cx="1928880" cy="3632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370600" y="401868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dder Ma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370600" y="401868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299840" y="4018680"/>
                <a:ext cx="1920240" cy="363240"/>
                <a:chOff x="4299840" y="4018680"/>
                <a:chExt cx="1920240" cy="363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299840" y="401868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3 Waterfro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299840" y="401868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220800" y="4018680"/>
                <a:ext cx="1471320" cy="363240"/>
                <a:chOff x="6220800" y="4018680"/>
                <a:chExt cx="1471320" cy="36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220800" y="401868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220800" y="401868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70600" y="4382280"/>
                <a:ext cx="1928880" cy="363240"/>
                <a:chOff x="2370600" y="4382280"/>
                <a:chExt cx="1928880" cy="363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370600" y="438228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T Boat Clu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70600" y="438228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299840" y="4382280"/>
                <a:ext cx="1920240" cy="363240"/>
                <a:chOff x="4299840" y="4382280"/>
                <a:chExt cx="1920240" cy="3632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299840" y="438228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 Causew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299840" y="438228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220800" y="4382280"/>
                <a:ext cx="1471320" cy="363240"/>
                <a:chOff x="6220800" y="4382280"/>
                <a:chExt cx="1471320" cy="363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220800" y="438228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ri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220800" y="438228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370600" y="4746240"/>
                <a:ext cx="1928880" cy="363240"/>
                <a:chOff x="2370600" y="4746240"/>
                <a:chExt cx="1928880" cy="363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70600" y="47462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lson's Whar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70600" y="47462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299840" y="4746240"/>
                <a:ext cx="1920240" cy="363240"/>
                <a:chOff x="4299840" y="4746240"/>
                <a:chExt cx="1920240" cy="363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99840" y="47462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 Lak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299840" y="47462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220800" y="4746240"/>
                <a:ext cx="1471320" cy="363240"/>
                <a:chOff x="6220800" y="4746240"/>
                <a:chExt cx="1471320" cy="363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220800" y="47462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sonda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220800" y="47462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370600" y="5109840"/>
                <a:ext cx="1928880" cy="363240"/>
                <a:chOff x="2370600" y="5109840"/>
                <a:chExt cx="1928880" cy="363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370600" y="51098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ton's Mar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70600" y="51098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299840" y="5109840"/>
                <a:ext cx="1920240" cy="363240"/>
                <a:chOff x="4299840" y="5109840"/>
                <a:chExt cx="1920240" cy="3632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299840" y="51098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67 Bay Bri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299840" y="51098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220800" y="5109840"/>
                <a:ext cx="1471320" cy="363240"/>
                <a:chOff x="6220800" y="5109840"/>
                <a:chExt cx="1471320" cy="363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220800" y="51098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en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220800" y="51098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370600" y="5473800"/>
                <a:ext cx="1928880" cy="363240"/>
                <a:chOff x="2370600" y="5473800"/>
                <a:chExt cx="1928880" cy="363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370600" y="54738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e Ree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370600" y="54738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299840" y="5473800"/>
                <a:ext cx="1920240" cy="363240"/>
                <a:chOff x="4299840" y="5473800"/>
                <a:chExt cx="1920240" cy="363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99840" y="54738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 East B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99840" y="54738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220800" y="5473800"/>
                <a:ext cx="1471320" cy="363240"/>
                <a:chOff x="6220800" y="5473800"/>
                <a:chExt cx="1471320" cy="3632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220800" y="54738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od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20800" y="54738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1" name=""/>
            <p:cNvSpPr/>
            <p:nvPr/>
          </p:nvSpPr>
          <p:spPr>
            <a:xfrm>
              <a:off x="2362320" y="1828800"/>
              <a:ext cx="5339880" cy="401616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esented b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by McDon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BobbyMcDonaldA3@Yahoo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http://www.geocities.com/BobbyMcDonaldA3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0:39:11Z</dcterms:created>
  <dc:creator>AMD</dc:creator>
  <dc:description/>
  <dc:language>en-US</dc:language>
  <cp:lastModifiedBy> Debbie</cp:lastModifiedBy>
  <dcterms:modified xsi:type="dcterms:W3CDTF">2002-05-05T20:55:52Z</dcterms:modified>
  <cp:revision>4</cp:revision>
  <dc:subject/>
  <dc:title>Fun-N-Sun Sojourn</dc:title>
</cp:coreProperties>
</file>