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A43-ECFB-4389-B748-133DDD0C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FC9-C103-4300-8D98-701EF6A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2F3-2BF5-4DB7-ABD2-27CF56E0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5A6-CC01-45B7-883D-74E06454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CB22-B0FB-43FF-BABC-8E0B4EE3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A00-CB12-42AA-A942-2CC9608C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35C-C8A4-480A-99CD-3A5EB21C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38C-77BE-4EAB-89CE-C9669408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3AA-E2BA-4846-ADE9-8415EE3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9E36-5281-4A0A-88BF-8E15430A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11BF-83E2-4D96-BBA7-3CD00822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BBC-B9A1-4E9D-A7CB-AEC0F24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0B3-3D30-4F1C-B6CA-A9830FE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2FFE-9E46-4200-8957-CBA0C0C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6D92-6B92-4171-96DF-761DF264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6B5A-289B-4808-9001-B0DFA375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EB7D-03C7-472D-95E6-8739B9D4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796-FD86-40EE-97C7-E5CDD282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0A2-6473-43BD-8331-8C5E4E3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D62-2DC0-40EC-9EDD-07100AC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847-0BAF-4A29-9945-D4DE9A00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714-9282-40C7-BC7D-AE5C562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4D0-4FDD-4BD1-9385-4227EB9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6C2-4187-4BA9-9757-B20EA5A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256-AB77-46C9-98B4-BDF80E73827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BA8-D13D-4D4D-861D-A03DB44ADE0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Effective Study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99840" y="2693880"/>
            <a:ext cx="66294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 for College Success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resented b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ook" descr="book"/>
          <p:cNvPicPr/>
          <p:nvPr/>
        </p:nvPicPr>
        <p:blipFill>
          <a:blip r:embed="rId1"/>
          <a:stretch/>
        </p:blipFill>
        <p:spPr>
          <a:xfrm>
            <a:off x="3429000" y="4876920"/>
            <a:ext cx="2647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Your Tim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ke a weekly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st specific study times for all su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 time for relaxation and sle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read study time throughout the wee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ick to your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se your schedule when necessa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tending Cla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 in the front of the ro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questions at appropriate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phrase ideas in your own w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view immediately after cla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Your Textboo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vey th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d the summary and chapter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ad the chapter careful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ite the material in your own wo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rite brief notes in the margi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ew the entir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18:42Z</dcterms:created>
  <dc:creator>AMD</dc:creator>
  <dc:description/>
  <dc:language>en-US</dc:language>
  <cp:lastModifiedBy> Debbie</cp:lastModifiedBy>
  <dcterms:modified xsi:type="dcterms:W3CDTF">2002-05-05T21:03:39Z</dcterms:modified>
  <cp:revision>3</cp:revision>
  <dc:subject/>
  <dc:title>Effective Study Skills</dc:title>
</cp:coreProperties>
</file>