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B54-6286-4859-AFE6-22A35B3D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3A0-D5F6-4877-9BF8-FCCB690C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18F-135E-440E-BEC4-BE0789FA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B4B-E64F-473D-8FD9-451A21EC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A71-DF67-4CD7-8B14-B6C40964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D63-998C-46EE-9902-73DA148C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DDB-F93C-41CF-9732-349CCFC2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5B8-BB33-4847-AD0F-1B17DE2C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A7A-D6F1-42F8-A472-752565D7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D808-6ED5-4FF2-9978-80CA740F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881-A4E3-4432-B66C-B61DC7A7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B5A-B633-4D55-B0AE-B7C867D8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F70B-5D10-4BE1-B150-CF18CB727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kg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14800" y="914400"/>
            <a:ext cx="914400" cy="457200"/>
          </a:xfrm>
          <a:custGeom>
            <a:avLst/>
            <a:gdLst>
              <a:gd name="textAreaLeft" fmla="*/ 376560 w 914400"/>
              <a:gd name="textAreaRight" fmla="*/ 537840 w 9144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5T03:20:34Z</dcterms:created>
  <dc:creator>JOSE BENIGNO PITTI</dc:creator>
  <dc:description/>
  <dc:language>en-US</dc:language>
  <cp:lastModifiedBy>JOSE BENIGNO PITTI</cp:lastModifiedBy>
  <dcterms:modified xsi:type="dcterms:W3CDTF">1999-11-25T03:46:14Z</dcterms:modified>
  <cp:revision>1</cp:revision>
  <dc:subject/>
  <dc:title>Sin título de diapositiva</dc:title>
</cp:coreProperties>
</file>