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DE2-9EB8-44F7-A855-E2A6571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DA7-36D7-4043-B39B-AEA72132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AE2-4739-474F-87FD-F1427BE2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3D3-8227-489D-B06C-C56A1006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5DB-3696-48CA-9CC0-586AC4BA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A131-7CC1-42EB-91E3-2E91717E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DDCD-50D9-4E46-988B-1799EE02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6550-FF34-42A9-97A8-DB3877FE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4529-1573-4F50-8EBB-A87847E7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B14-A134-4BAD-8212-EDE6F5C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B27-5DF0-440E-8263-8913E3E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451-5B34-4C17-B1F1-5429EA20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ABA0-C5FD-40D0-9579-807E010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316-5B77-4B90-BF87-31824B7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0F1-5CE1-46C6-ADD5-94C24467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2989-6542-4F93-BB4C-A1A9ED16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DF86-7585-4DC9-B6D7-9673CFF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538-D9B4-4860-9B35-31CB20B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7AA-82BD-496F-8827-497259C6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69C-01AD-448A-A3FF-FA5A095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51A-155B-4E19-B0F9-5A5354F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89C-58D1-4702-B1C5-69CA3D7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BA8-DD96-4827-BDE7-5024496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048-1E5C-42F4-A7BA-A2E1D9A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F5F-12DC-4440-997D-82FA7F1B6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6988-65B4-4FFE-A3B2-38C4AF9E7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1066680"/>
            <a:ext cx="5975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hoolBoy"/>
              </a:rPr>
              <a:t>Vacuo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hoolBoy"/>
              <a:ea typeface="SchoolBoy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The Most Important Parts of the Cell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548784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Mark Cru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3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2160" y="4191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Ev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0" y="41911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Perio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Division of Cell Incorpor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4572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divisions of Vacuo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90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umbing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waterteach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27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920" y="3429000"/>
            <a:ext cx="452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ste Maintenance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441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ructural Support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3049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umbing Divi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057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sponsible for water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6520" y="2819520"/>
            <a:ext cx="50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ntributes to storage of foo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05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gment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267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xpel excess wa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0"/>
            <a:ext cx="45799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te Stor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hold waste 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cess and break down by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962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tects cell from cont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304920"/>
            <a:ext cx="6248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al Suppor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rge central vacuole in plant ce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urgor pressure supports cell wa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expands and contra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7652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Surviv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1905120"/>
          <a:ext cx="4876560" cy="252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487656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2209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constitute large portions of the ce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Division provides invaluable servi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1:38Z</dcterms:created>
  <dc:creator>VBPS</dc:creator>
  <dc:description/>
  <dc:language>en-US</dc:language>
  <cp:lastModifiedBy>Enriq</cp:lastModifiedBy>
  <dcterms:modified xsi:type="dcterms:W3CDTF">2001-10-19T00:25:00Z</dcterms:modified>
  <cp:revision>8</cp:revision>
  <dc:subject/>
  <dc:title>No Slide Title</dc:title>
</cp:coreProperties>
</file>