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BBD-5232-4214-BF44-7DF9FEAA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C3D-F9A3-46A8-8231-ED913DF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499-7721-425F-AEBF-1787B864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C4F-201C-4D2E-8280-9E181561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ECD-D10F-4431-8662-C7CBF9D1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D0F-A6C0-482E-B0B8-417ED5D2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381-F948-4BFC-9E2C-14FFC95B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0EF-799D-4326-8954-1C8B9E06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4EB-BCDE-46C2-92FD-C372B8D1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20D-E18D-471C-B360-648BD3A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5F0-0F0F-4BEE-866C-326A034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2CA-9F52-4A29-BFC7-311EF92E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4F97-CC07-440C-A743-AEAE2DB8A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s in 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oup of related items of different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rrays but can have multiple types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you cannot have a single array that will store name, age and marks but you can define a structure that will fulfill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reate your own datatype using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efine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 student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 name[20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ro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use a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gram you can define a variable that uses the type you defined using the structure for example, we defined a structure named studend, not that structure becomes like a datatype for me. So I define a variable of type “student”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stud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defining a variable of the structure typ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input output statement like shown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 &gt;&gt; stud1.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 &gt;&gt; stud1.ro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nt &gt;&gt; stud1.sub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use the structured data type for defining an arr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6:52:47Z</dcterms:created>
  <dc:creator>secretary</dc:creator>
  <dc:description/>
  <dc:language>en-US</dc:language>
  <cp:lastModifiedBy>secretary</cp:lastModifiedBy>
  <dcterms:modified xsi:type="dcterms:W3CDTF">1999-02-15T16:53:45Z</dcterms:modified>
  <cp:revision>1</cp:revision>
  <dc:subject/>
  <dc:title>Structures in C++</dc:title>
</cp:coreProperties>
</file>