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83A4-E289-4C5D-AC4A-457C90F7C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A27F-CE9C-4B16-8D6F-4E3059DB2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AEB7-0DD0-4A67-88AC-19A585334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B3E1-B8E8-4043-9188-8D31B12DD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86DE-43F8-4590-84A0-FF2D86D21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AABF-D50E-48FC-981F-D809F3BB5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FA54-4EC8-458D-AE1E-5D2B29E67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18D5-FFC4-41DF-8052-8087D84AF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0AA6-EA0A-449C-AA3F-4AE403B7D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CCC9-2D77-4B8F-8C7C-C333758E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4D03-645F-4FED-AF81-0C16FCBF9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D9E3-F7CC-4440-803D-5098CAD89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6CD09-04AA-405C-93AC-8B7B67908D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ber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ctal Number No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tal is 0-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ting binary to octal is eas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11001 can be grouped in two 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01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lace each group with its octal equival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is 3 and 1 we get 31 as the 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nce we write it a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1001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(31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n’t forget to go through the data representation chapter in your boo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fferent types of number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mal numbers(0-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nary numbers(represented in combinations of 1s and 0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xadecimal numbers(0-9 A-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verting Binary to Decim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each 1s pos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us 1 from th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 each 1 =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position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the end add all the 1s represen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10001001 will be calculated as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44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800" spc="-1" strike="noStrike" baseline="44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800" spc="-1" strike="noStrike" baseline="44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44000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44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44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8+8+1     so the answer is : 1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verting from Decimal to Bin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on dividing the number by 2, the remainder in reverse is your binary dig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 125  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   62   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   31  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   15  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     7  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     3  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     1  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  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67080" y="2743200"/>
            <a:ext cx="0" cy="32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952880" y="2743200"/>
            <a:ext cx="0" cy="32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9880" y="31240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9880" y="35053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09880" y="38862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9880" y="43434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09880" y="47242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09880" y="51055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9880" y="55627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le of Binary, Decimal &amp; Hexadeci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1600200"/>
          <a:ext cx="8229600" cy="49150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m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a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xadecim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version of Fractional Decimal to Fractional Bin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y the fractional decimal by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sult will be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ra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rt and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im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the integer part in a colum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raction part becomes the new f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e the process till the fraction part is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teger part column is your fractional binary dig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of fractional decimal to fractional bin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57200" y="1600200"/>
          <a:ext cx="8229600" cy="234324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ctional Decimal Nu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ctional part of produ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er part of produ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y by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do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do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441360" y="4227480"/>
            <a:ext cx="824544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ce the original number that was 0.625 was converted into a fractional binary number 0.1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sult should be written as (0.625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(0.101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version of fractional binary to fractional decim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out binary number as negative powers of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 each power of two into its decimal equiva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these to give the decimal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 number : 0.1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2T06:36:33Z</dcterms:created>
  <dc:creator>a</dc:creator>
  <dc:description/>
  <dc:language>en-US</dc:language>
  <cp:lastModifiedBy>Ritesh</cp:lastModifiedBy>
  <dcterms:modified xsi:type="dcterms:W3CDTF">2001-03-09T17:06:46Z</dcterms:modified>
  <cp:revision>6</cp:revision>
  <dc:subject/>
  <dc:title>Number Systems</dc:title>
</cp:coreProperties>
</file>