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2D8B-826D-487A-97F6-2951BD31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D06-1F59-48C6-8A67-DE2BD5E7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589-B80D-42B5-9224-179CB9C5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D22-C8BA-4668-8137-973FAB91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EEBF-5870-4A31-AB45-6A6532A1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D5CA-895C-45A4-9C1B-D6D0D8A5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7267-9B33-4F23-A09C-36EB7267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F276-2832-4E44-A528-87CDE677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88CE-0563-4B76-8839-DE7C7F54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15B3-56CF-444B-9501-9F033D09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4320-6874-48FF-A523-6A2BE284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B99-F6D5-4393-95C1-BA2767A2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890E-B8D9-41CD-B314-E0F1B662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F86F-0571-4779-B244-38102B65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1220-D8B2-452C-A743-3096E937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B8EB-258B-4183-9C0B-A126BB97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18CD-D917-460A-AB0A-56BD1D9A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27E-E58B-4F6D-B80A-6B63531E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725-CDAD-46DA-AE67-68FC4294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7F99-3DD7-4B3B-AE54-78A1B81C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0EF-0AD9-4A0E-B1E1-70D66A51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C301-4621-4F2F-9A85-FEE90B9D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8C39-DFCC-4D4E-B691-BA0F63E1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94D-6475-4693-A858-C7E0B086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F51E-830B-4345-BD44-A1B9FE90B8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916F-F58C-4941-9E73-4779921D9A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++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Oriented Programm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ments in a C++ Progra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line comments start with ‘/*’ and end with ‘*/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line comments start with ‘//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utput Manipulat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w() : can be inserted directly into a cout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 Cout &lt;&lt; “Name:” &lt;&lt; setw(10) &lt;&lt; “Jeeva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display Name: then 10 spaces and then Jeev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l Manipulator: Like pressing 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cout &lt;&lt; “Name” &lt;&lt; end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cklash  Charac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\b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serts a backspace in the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\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serts a tab in the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\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ings a bell(alert) in the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\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ke endl, new line charac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racteristics of OO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aps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 or letter used to indicate some special operation during exec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operato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thmatic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-  *  / 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ry Arithmatic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+A , --A , A--, A+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ational and Logic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compare two val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=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=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&amp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||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ditional Operat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if cond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&gt;b?a:b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ype conversion in express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convert value of a variable while performing an operat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nt 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at b=1.123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=(int) b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und State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ead of a=a+1 you can use a*=1 same with -,*,% and /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Oriented – each program is designed around the data to be processed and Object Oriented Approach defines the relationship between data and its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d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program may be divided in to many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racters used in C++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ters(Upper and Lower c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mal Dig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sic Data Typ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Major Categ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Data ty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ed Data ty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sic Data Typ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er Type(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ger(-128 to 12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er(-32768 to 3276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integer(-2147483648 to 214748364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ating Point(flo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mal form(integers with decim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nent form(e.g 1234 e 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sic Data Types(Cont…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 Type(char):  Non-numeric, numbers are not counted as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d Type(void) : Represents of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++ Toke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oup of characters that logically belong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ers : Symbolic names used by the program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words : Reserved word for c++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s : A number that doesn’t change during the execution of a progr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bles : A Location in computer’s memory that is given a symbolic name and can store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put/Outpu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sole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sole In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ndard err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ffered version of cer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ructure of a C++ Progra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include &lt;header file 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9:13:14Z</dcterms:created>
  <dc:creator>a</dc:creator>
  <dc:description/>
  <dc:language>en-US</dc:language>
  <cp:lastModifiedBy>a</cp:lastModifiedBy>
  <dcterms:modified xsi:type="dcterms:W3CDTF">2001-02-01T19:43:36Z</dcterms:modified>
  <cp:revision>3</cp:revision>
  <dc:subject/>
  <dc:title>C++</dc:title>
</cp:coreProperties>
</file>