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C24-910A-4759-99DE-EB5B5C2F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2DC-9962-4D45-B4BD-3F3AA41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31B-BA9B-48E4-8BFC-66B423A2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EBC-5DB6-4B84-A1B0-04DD9E81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6AC-8F03-44CD-89F1-A1EFD0F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923-CC18-45CB-AACA-1E39555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EA7-A7D2-4269-994B-F189E5A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B89-0480-476A-B1A3-9CF5447A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C18-022C-44BE-8103-C329F3A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DA8-618C-4259-ABF9-D72BC7A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B00-84B5-4D22-84D9-39D59F4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E53-76CA-4B39-A8FA-1159CDC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F285-A15A-4658-9A67-8B36BBDF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Mys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 &amp;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an integer variable. You can define the variable and then assign a value to it later in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you can define it and immediately initializ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t weight=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is a special function that is used to initialize the member of a class so that later you can de-initialize it(This results in efficient memory handlin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ctor function has the same name as the class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tructor function is used to destroyed the initialized variable form the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or function has the same name as the constructor function except that it has a ~ symbol before th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variables and relat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for creating a new data type, that has its own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a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tswe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efining objects from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  // Use this statement to define an object called Frisky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v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ver give a pet name to the defination of Cat, but you usually give a pet name to an animal that is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way c++ differentiates between classes an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dea of a cat 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isky is an animal of typ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Class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cess the class members you use the same method as you used with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I want to access the weight of Fr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weight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ame way if I required to call the function Meow(), then I will use the following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ky.Me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to Objects not to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you always assign values to variables not to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never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= 5;  // Compil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, you have to define a variable using int data type and then assign a valu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5;      or int x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ame way you will never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.Age=5;    //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will declare a variable of type cat and then do it the following 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Fri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Age=8;  //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s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 everything is Pri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ccessed only within the methods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 cannot wr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sky.itsAge=2; //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you have to use a function that is declared as public and then access itsAge throug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6:22:42Z</dcterms:created>
  <dc:creator>Ritesh</dc:creator>
  <dc:description/>
  <dc:language>en-US</dc:language>
  <cp:lastModifiedBy>Ritesh</cp:lastModifiedBy>
  <dcterms:modified xsi:type="dcterms:W3CDTF">2001-05-10T08:20:14Z</dcterms:modified>
  <cp:revision>5</cp:revision>
  <dc:subject/>
  <dc:title>Classes and Objects</dc:title>
</cp:coreProperties>
</file>