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A11-1DF0-4BA9-86B6-D1781A8E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1BB-F7D4-44D4-950F-55813234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CA4-2AF5-49B0-8B44-AE25999E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785-6DE4-4370-8036-C03BC275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6EE-516D-40A6-B790-926CD269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16C-E13B-4751-94D2-D1500FBF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915-9853-44AF-AF11-17953320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743-8397-4116-AB15-4D81AD7B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DCB-C428-44F2-BA1C-DCACA614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829-FBED-4A3E-8706-A39E67E1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8DF-F5C2-4B84-B793-B2867928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47D-1F6B-4A79-85DC-4E08E080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8452-155D-48DB-A4F8-23108AFD5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6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lean Variables and Exper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lean variable can have only two values: true or false, 1 or 0, closed switch or open switch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boolean variable are binary or two valued. A boolean variable is also known as lit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may write a simple boolean expression as bel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A AND B OR (NOT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X is the resulting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 , C are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 expression logical operators are represented as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  (s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 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’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ve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boolean expression will b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=A+B.C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les while solving the Complex Boolean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ould be confusion while evaluating complex Boolean expression, as to which Boolean operator should be applied fir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ts take the following 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a + b’ .  c  +  d’  +  b’  .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blem can be solved by following the order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ce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operators 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LE set :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 (This operator has highest pri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   (This operator has the lowest Pri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ULE set : 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from Left to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the expressions in parenth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all the NOT operator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Perform all AND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end Perform all the OR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Complex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Solve the following expression using the rules discus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+ b’ . c + d’ + b’ 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23880" y="3124080"/>
            <a:ext cx="762120" cy="457200"/>
            <a:chOff x="1523880" y="3124080"/>
            <a:chExt cx="762120" cy="457200"/>
          </a:xfrm>
        </p:grpSpPr>
        <p:sp>
          <p:nvSpPr>
            <p:cNvPr id="286" name=""/>
            <p:cNvSpPr/>
            <p:nvPr/>
          </p:nvSpPr>
          <p:spPr>
            <a:xfrm>
              <a:off x="1523880" y="3124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2388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3124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448640" y="35924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5760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35812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1972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82000" y="35812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2120" y="3048120"/>
            <a:ext cx="79200" cy="1447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44956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2840" y="4572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4876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5334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71800" y="30481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3200" y="54864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057400" y="5867280"/>
            <a:ext cx="2361240" cy="381240"/>
            <a:chOff x="2057400" y="5867280"/>
            <a:chExt cx="2361240" cy="381240"/>
          </a:xfrm>
        </p:grpSpPr>
        <p:sp>
          <p:nvSpPr>
            <p:cNvPr id="303" name=""/>
            <p:cNvSpPr/>
            <p:nvPr/>
          </p:nvSpPr>
          <p:spPr>
            <a:xfrm>
              <a:off x="2057400" y="58672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57400" y="6248520"/>
              <a:ext cx="236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18640" y="58672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667600" y="64612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15640" y="2286000"/>
            <a:ext cx="44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e solve the Part 1, Part 2, Part 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4 and then part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24280" y="22860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6760" y="325116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+  b’ . ( c + d’ ) + b’ .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99520" y="402264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p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31440" y="402264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+  b’ . ( c + d’ ) + b’ .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1000"/>
            <a:ext cx="878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stulates and Theorems of Boolean Algebr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logical states that can have the valu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alse)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rue)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+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·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A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28600" y="2116080"/>
          <a:ext cx="7605720" cy="1770120"/>
        </p:xfrm>
        <a:graphic>
          <a:graphicData uri="http://schemas.openxmlformats.org/drawingml/2006/table">
            <a:tbl>
              <a:tblPr/>
              <a:tblGrid>
                <a:gridCol w="527040"/>
                <a:gridCol w="2685960"/>
                <a:gridCol w="2632320"/>
                <a:gridCol w="17604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0 = 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1 = 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A’ =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A’ = 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B = B + 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B = B · 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tative la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(B + C) = (A + B) + 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B · C) = (A · B) · 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iative la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(B · C) = (A + B) · (A + C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B + C) = (A · B) + (A · C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tive la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330840" y="3155400"/>
            <a:ext cx="14670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or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28600" y="4352760"/>
          <a:ext cx="8977320" cy="2200320"/>
        </p:xfrm>
        <a:graphic>
          <a:graphicData uri="http://schemas.openxmlformats.org/drawingml/2006/table">
            <a:tbl>
              <a:tblPr/>
              <a:tblGrid>
                <a:gridCol w="547560"/>
                <a:gridCol w="4084920"/>
                <a:gridCol w="2408040"/>
                <a:gridCol w="193680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A =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A =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MPOTENT L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1 = 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0 = 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ce of 0 and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(A · B) =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 A + B) =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 l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(A’ · B) = A + 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A’ + B) = A · 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luted Theor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· B) + (A’ · C) + (B · C) = (A · B) + (A’ · C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· (B + C) = (A · B) + (A · C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 + B]’ =  A’  . B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 · B]’ = A’ + B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Morgan's theore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ms of Boolean 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Theorems are very important for the manipulation of Boolean expres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EM 1: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oolean algebra is IDEMPO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+  a  =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.  a  =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bove stated law is known as Idempotent la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EM 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- The Boolean Algebra allows the dominance of 0 and 1 suc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at  a  +  1  =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.  0  =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EM 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- The Boolean Algebra is ABSORPTIV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+  (a  .  b) =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 .  (a  +  b) =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bove stated law is known as absorption la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EM 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- The Boolean algebra is INVOL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’)’  = 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Morgan’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-45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, a friend of Boole, worked extensively in logic and mathematics, he contributed the following two very important theor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OREM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- It says that “ The complement of a sum equals the product of the compleme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 +  b)’  =  a’  . 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OREM 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- This Theorem says that “The complement of the product equals the sum of the compleme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 .  b)’  =  a’  + 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Theorems can be deduced from the basic postulates of the Boolean Alge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 a + (a’ . b) =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. b +  a’ . c  +  b . c  =  a b  +   a’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+ b) . (a + c) = a  +  b 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nciple behind Boolean Algebra is that the answers to its equations are eith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ue or 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git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letter T is used to represen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ion and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git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letter F for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itching circuits and Boolean 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gic of Boolean Algebra was used to analyze switching circuits by a mathematician Claude Shannon in 1938 at Bell Labora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witch circuit is composed of interconnected switches. A switch can either be closed (Hence electrical current passes through it, as shown in Fig-1) and when the switch is open the (current cannot pass through it, as shown in Fig-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33412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53341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5257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5257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5334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9240" y="624852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95960" y="624852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57520" y="6172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43320" y="6172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710160" y="578016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680" y="51166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86520" y="600876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560" y="6019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/OR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us consider a situation as shown in Fig 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re we have two switches S1 and S2 connected in series with a battery and electric bulb 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s determine the flow of current with regard to the following switch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86880" y="3657600"/>
            <a:ext cx="7761600" cy="2630520"/>
            <a:chOff x="686880" y="3657600"/>
            <a:chExt cx="7761600" cy="2630520"/>
          </a:xfrm>
        </p:grpSpPr>
        <p:sp>
          <p:nvSpPr>
            <p:cNvPr id="63" name=""/>
            <p:cNvSpPr/>
            <p:nvPr/>
          </p:nvSpPr>
          <p:spPr>
            <a:xfrm flipV="1">
              <a:off x="5175000" y="4001760"/>
              <a:ext cx="380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346200" y="3925440"/>
              <a:ext cx="4568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0920" y="6211800"/>
              <a:ext cx="44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126880" y="5450040"/>
              <a:ext cx="1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74600" y="5450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22320" y="529740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74600" y="514512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46000" y="49928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126880" y="4306680"/>
              <a:ext cx="144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26880" y="430704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55680" y="430704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0800" y="430704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46600" y="4307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546600" y="5525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41920" y="4822920"/>
              <a:ext cx="516960" cy="693720"/>
            </a:xfrm>
            <a:custGeom>
              <a:avLst/>
              <a:gdLst/>
              <a:ahLst/>
              <a:rect l="l" t="t" r="r" b="b"/>
              <a:pathLst>
                <a:path w="326" h="437">
                  <a:moveTo>
                    <a:pt x="0" y="40"/>
                  </a:moveTo>
                  <a:cubicBezTo>
                    <a:pt x="156" y="0"/>
                    <a:pt x="67" y="11"/>
                    <a:pt x="269" y="27"/>
                  </a:cubicBezTo>
                  <a:cubicBezTo>
                    <a:pt x="282" y="31"/>
                    <a:pt x="300" y="29"/>
                    <a:pt x="307" y="40"/>
                  </a:cubicBezTo>
                  <a:cubicBezTo>
                    <a:pt x="323" y="64"/>
                    <a:pt x="326" y="144"/>
                    <a:pt x="307" y="168"/>
                  </a:cubicBezTo>
                  <a:cubicBezTo>
                    <a:pt x="277" y="207"/>
                    <a:pt x="234" y="218"/>
                    <a:pt x="192" y="232"/>
                  </a:cubicBezTo>
                  <a:cubicBezTo>
                    <a:pt x="179" y="228"/>
                    <a:pt x="163" y="229"/>
                    <a:pt x="153" y="219"/>
                  </a:cubicBezTo>
                  <a:cubicBezTo>
                    <a:pt x="86" y="152"/>
                    <a:pt x="179" y="193"/>
                    <a:pt x="179" y="193"/>
                  </a:cubicBezTo>
                  <a:cubicBezTo>
                    <a:pt x="242" y="236"/>
                    <a:pt x="242" y="274"/>
                    <a:pt x="281" y="334"/>
                  </a:cubicBezTo>
                  <a:cubicBezTo>
                    <a:pt x="277" y="351"/>
                    <a:pt x="282" y="374"/>
                    <a:pt x="269" y="385"/>
                  </a:cubicBezTo>
                  <a:cubicBezTo>
                    <a:pt x="249" y="403"/>
                    <a:pt x="218" y="402"/>
                    <a:pt x="192" y="411"/>
                  </a:cubicBezTo>
                  <a:cubicBezTo>
                    <a:pt x="130" y="432"/>
                    <a:pt x="66" y="437"/>
                    <a:pt x="0" y="4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18000" y="4687920"/>
              <a:ext cx="9140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69880" y="42307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3400" y="4230720"/>
              <a:ext cx="151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98680" y="42307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08520" y="4230720"/>
              <a:ext cx="151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6880" y="49561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tt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71720" y="488016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ulb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400000">
              <a:off x="3669840" y="4212000"/>
              <a:ext cx="876240" cy="2437920"/>
            </a:xfrm>
            <a:custGeom>
              <a:avLst/>
              <a:gdLst>
                <a:gd name="textAreaLeft" fmla="*/ 117360 w 876240"/>
                <a:gd name="textAreaRight" fmla="*/ 758880 w 876240"/>
                <a:gd name="textAreaTop" fmla="*/ 534240 h 2437920"/>
                <a:gd name="textAreaBottom" fmla="*/ 1712520 h 24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68" stAng="-5400000" swAng="5400000"/>
                  <a:lnTo>
                    <a:pt x="21600" y="10437"/>
                  </a:lnTo>
                  <a:arcTo wR="21600" hR="9468" stAng="0" swAng="4036573"/>
                  <a:lnTo>
                    <a:pt x="3900" y="21444"/>
                  </a:lnTo>
                  <a:lnTo>
                    <a:pt x="0" y="19421"/>
                  </a:lnTo>
                  <a:lnTo>
                    <a:pt x="3900" y="17085"/>
                  </a:lnTo>
                  <a:lnTo>
                    <a:pt x="3900" y="18780"/>
                  </a:lnTo>
                  <a:arcTo wR="21600" hR="9468" stAng="4036573" swAng="-3959374"/>
                  <a:lnTo>
                    <a:pt x="21572" y="9953"/>
                  </a:lnTo>
                  <a:arcTo wR="21600" hR="9468" stAng="-77199" swAng="-5322801"/>
                  <a:close/>
                </a:path>
                <a:path fill="darkenLess" w="21600" h="21600">
                  <a:moveTo>
                    <a:pt x="0" y="0"/>
                  </a:moveTo>
                  <a:arcTo wR="21600" hR="9468" stAng="-5400000" swAng="5400000"/>
                  <a:lnTo>
                    <a:pt x="21600" y="10437"/>
                  </a:lnTo>
                  <a:arcTo wR="21600" hR="9468" stAng="0" swAng="-77199"/>
                  <a:lnTo>
                    <a:pt x="21572" y="9953"/>
                  </a:lnTo>
                  <a:arcTo wR="21600" hR="9468" stAng="-77199" swAng="-5322801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22160" y="5004000"/>
              <a:ext cx="163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rrent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03200" y="37735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84280" y="36972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65480" y="365760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0320" y="369720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040640" y="63244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2920" y="640080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connected in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as the current flows through the switches S1 and S2, lets see what happ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1)  Where S1 = Open  and  S2 = O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2)  When S1 = Open  and   S2 =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3)  When S1 = Closed and  S2 =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4)  When S1 = Closed and  S2 =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Yes   (True)    and  0 = No (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3800" y="397656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sult of the abov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4495680"/>
            <a:ext cx="46479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50292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4495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4495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9480" y="4648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7040" y="4608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7640" y="460836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Flow -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48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4048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4392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9480" y="5446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67040" y="5370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0680" y="5446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9000" y="5827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0480" y="5751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3920" y="5827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9000" y="62085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2880" y="6132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7240" y="62085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76920" y="395460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ifie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56200" y="4473720"/>
            <a:ext cx="38656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56200" y="5006880"/>
            <a:ext cx="380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1520" y="4473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48400" y="4473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3680" y="4626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640" y="4586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4586400"/>
            <a:ext cx="169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Flow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512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37680" y="504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29720" y="508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5120" y="542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31200" y="534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25040" y="542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580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37680" y="572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9720" y="58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5800" y="6186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91240" y="611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20360" y="618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for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symbolic logic, the AND operator is known as :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logical AND or logical produc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 An alternative term for logical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AND is conjug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truth table is nothing but the combination of all possible inputs and their effect on the output(s) of a switching circu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4151160"/>
            <a:ext cx="46483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6846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415116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415116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0560" y="4264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76720" y="4264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0480" y="4227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76880" y="47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8624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272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272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70600" y="47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803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864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8644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47120" y="47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5648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296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296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6240" y="365760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uth Table for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22096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S1   AND   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us consider another switching circuit, here the switches are connected in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10560" y="2666880"/>
            <a:ext cx="7936560" cy="3505320"/>
            <a:chOff x="610560" y="2666880"/>
            <a:chExt cx="7936560" cy="3505320"/>
          </a:xfrm>
        </p:grpSpPr>
        <p:sp>
          <p:nvSpPr>
            <p:cNvPr id="161" name=""/>
            <p:cNvSpPr/>
            <p:nvPr/>
          </p:nvSpPr>
          <p:spPr>
            <a:xfrm flipV="1">
              <a:off x="4267080" y="2743200"/>
              <a:ext cx="3812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267080" y="3809520"/>
              <a:ext cx="38124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67280" y="31240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31240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9680" y="6172200"/>
              <a:ext cx="44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203560" y="5181480"/>
              <a:ext cx="14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5092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98640" y="4952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5092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2320" y="4648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203560" y="3697200"/>
              <a:ext cx="1440" cy="8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03560" y="3697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37120" y="3697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2920" y="3697200"/>
              <a:ext cx="0" cy="9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622920" y="5334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29400" y="4572000"/>
              <a:ext cx="506520" cy="752400"/>
            </a:xfrm>
            <a:custGeom>
              <a:avLst/>
              <a:gdLst/>
              <a:ahLst/>
              <a:rect l="l" t="t" r="r" b="b"/>
              <a:pathLst>
                <a:path w="326" h="437">
                  <a:moveTo>
                    <a:pt x="0" y="40"/>
                  </a:moveTo>
                  <a:cubicBezTo>
                    <a:pt x="156" y="0"/>
                    <a:pt x="67" y="11"/>
                    <a:pt x="269" y="27"/>
                  </a:cubicBezTo>
                  <a:cubicBezTo>
                    <a:pt x="282" y="31"/>
                    <a:pt x="300" y="29"/>
                    <a:pt x="307" y="40"/>
                  </a:cubicBezTo>
                  <a:cubicBezTo>
                    <a:pt x="323" y="64"/>
                    <a:pt x="326" y="144"/>
                    <a:pt x="307" y="168"/>
                  </a:cubicBezTo>
                  <a:cubicBezTo>
                    <a:pt x="277" y="207"/>
                    <a:pt x="234" y="218"/>
                    <a:pt x="192" y="232"/>
                  </a:cubicBezTo>
                  <a:cubicBezTo>
                    <a:pt x="179" y="228"/>
                    <a:pt x="163" y="229"/>
                    <a:pt x="153" y="219"/>
                  </a:cubicBezTo>
                  <a:cubicBezTo>
                    <a:pt x="86" y="152"/>
                    <a:pt x="179" y="193"/>
                    <a:pt x="179" y="193"/>
                  </a:cubicBezTo>
                  <a:cubicBezTo>
                    <a:pt x="242" y="236"/>
                    <a:pt x="242" y="274"/>
                    <a:pt x="281" y="334"/>
                  </a:cubicBezTo>
                  <a:cubicBezTo>
                    <a:pt x="277" y="351"/>
                    <a:pt x="282" y="374"/>
                    <a:pt x="269" y="385"/>
                  </a:cubicBezTo>
                  <a:cubicBezTo>
                    <a:pt x="249" y="403"/>
                    <a:pt x="218" y="402"/>
                    <a:pt x="192" y="411"/>
                  </a:cubicBezTo>
                  <a:cubicBezTo>
                    <a:pt x="130" y="432"/>
                    <a:pt x="66" y="437"/>
                    <a:pt x="0" y="4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94320" y="4495680"/>
              <a:ext cx="9144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6560" y="362124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84840" y="362124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0560" y="46483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tt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70360" y="472428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ulb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3752280" y="4324320"/>
              <a:ext cx="876240" cy="2438280"/>
            </a:xfrm>
            <a:custGeom>
              <a:avLst/>
              <a:gdLst>
                <a:gd name="textAreaLeft" fmla="*/ 117360 w 876240"/>
                <a:gd name="textAreaRight" fmla="*/ 758880 w 876240"/>
                <a:gd name="textAreaTop" fmla="*/ 534240 h 2438280"/>
                <a:gd name="textAreaBottom" fmla="*/ 17125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68" stAng="-5400000" swAng="5400000"/>
                  <a:lnTo>
                    <a:pt x="21600" y="10437"/>
                  </a:lnTo>
                  <a:arcTo wR="21600" hR="9468" stAng="0" swAng="4036573"/>
                  <a:lnTo>
                    <a:pt x="3900" y="21444"/>
                  </a:lnTo>
                  <a:lnTo>
                    <a:pt x="0" y="19421"/>
                  </a:lnTo>
                  <a:lnTo>
                    <a:pt x="3900" y="17085"/>
                  </a:lnTo>
                  <a:lnTo>
                    <a:pt x="3900" y="18780"/>
                  </a:lnTo>
                  <a:arcTo wR="21600" hR="9468" stAng="4036573" swAng="-3959374"/>
                  <a:lnTo>
                    <a:pt x="21572" y="9953"/>
                  </a:lnTo>
                  <a:arcTo wR="21600" hR="9468" stAng="-77199" swAng="-5322801"/>
                  <a:close/>
                </a:path>
                <a:path fill="darkenLess" w="21600" h="21600">
                  <a:moveTo>
                    <a:pt x="0" y="0"/>
                  </a:moveTo>
                  <a:arcTo wR="21600" hR="9468" stAng="-5400000" swAng="5400000"/>
                  <a:lnTo>
                    <a:pt x="21600" y="10437"/>
                  </a:lnTo>
                  <a:arcTo wR="21600" hR="9468" stAng="0" swAng="-77199"/>
                  <a:lnTo>
                    <a:pt x="21572" y="9953"/>
                  </a:lnTo>
                  <a:arcTo wR="21600" hR="9468" stAng="-77199" swAng="-5322801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4960" y="5181480"/>
              <a:ext cx="163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rrent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79520" y="31640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60960" y="30877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3960" y="266688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40640" y="426708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3124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029200" y="3124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9000" y="41911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29200" y="41911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91120" y="30481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6920" y="411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91120" y="411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76920" y="30481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for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ee how the current flows and what is the 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 = S1  OR  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618000"/>
            <a:ext cx="411480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4151160"/>
            <a:ext cx="4114800" cy="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361800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3657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48080" y="3730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24240" y="3730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7840" y="3657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4400" y="42274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4120" y="4572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3920" y="4952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3920" y="5257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8480" y="42274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64120" y="4572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3432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4120" y="5257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2040" y="42274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35720" y="4572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5720" y="4952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35720" y="5257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4440" y="30481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ow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24280" y="3618000"/>
            <a:ext cx="411480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4151160"/>
            <a:ext cx="4114800" cy="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361800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3657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67440" y="3730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960" y="3730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26120" y="3657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4376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348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596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5960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784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4720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368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368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3140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4112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4724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4724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3440" y="30481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uth Table for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0080" y="2322360"/>
            <a:ext cx="238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  0 =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Clo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6400" y="228600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b     0 = No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Current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5943600"/>
            <a:ext cx="9420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nce OR connective is termed as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logical OR or logical su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An alternative term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Logical OR is Disjunc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us take a switching circuit where S is connected in this circuit in such a way that if it is Open then the current flows through the bulb and vise-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 Not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symbolic logic the NOT operator is termed as logical not or logical negative or in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80" y="44578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9800" y="4457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b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08320" y="3278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143000" y="3390840"/>
            <a:ext cx="3657240" cy="2285640"/>
            <a:chOff x="1143000" y="3390840"/>
            <a:chExt cx="3657240" cy="2285640"/>
          </a:xfrm>
        </p:grpSpPr>
        <p:sp>
          <p:nvSpPr>
            <p:cNvPr id="247" name=""/>
            <p:cNvSpPr/>
            <p:nvPr/>
          </p:nvSpPr>
          <p:spPr>
            <a:xfrm>
              <a:off x="2866680" y="4558680"/>
              <a:ext cx="26892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46040" y="5607720"/>
              <a:ext cx="299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396800" y="4914720"/>
              <a:ext cx="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95280" y="49147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93760" y="4776480"/>
              <a:ext cx="4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95280" y="4637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43000" y="449928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1396800" y="3875400"/>
              <a:ext cx="1080" cy="53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96800" y="3875760"/>
              <a:ext cx="25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86200" y="3875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43400" y="3875760"/>
              <a:ext cx="0" cy="5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347720" y="5016960"/>
              <a:ext cx="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40160" y="4344840"/>
              <a:ext cx="344880" cy="630360"/>
            </a:xfrm>
            <a:custGeom>
              <a:avLst/>
              <a:gdLst/>
              <a:ahLst/>
              <a:rect l="l" t="t" r="r" b="b"/>
              <a:pathLst>
                <a:path w="326" h="437">
                  <a:moveTo>
                    <a:pt x="0" y="40"/>
                  </a:moveTo>
                  <a:cubicBezTo>
                    <a:pt x="156" y="0"/>
                    <a:pt x="67" y="11"/>
                    <a:pt x="269" y="27"/>
                  </a:cubicBezTo>
                  <a:cubicBezTo>
                    <a:pt x="282" y="31"/>
                    <a:pt x="300" y="29"/>
                    <a:pt x="307" y="40"/>
                  </a:cubicBezTo>
                  <a:cubicBezTo>
                    <a:pt x="323" y="64"/>
                    <a:pt x="326" y="144"/>
                    <a:pt x="307" y="168"/>
                  </a:cubicBezTo>
                  <a:cubicBezTo>
                    <a:pt x="277" y="207"/>
                    <a:pt x="234" y="218"/>
                    <a:pt x="192" y="232"/>
                  </a:cubicBezTo>
                  <a:cubicBezTo>
                    <a:pt x="179" y="228"/>
                    <a:pt x="163" y="229"/>
                    <a:pt x="153" y="219"/>
                  </a:cubicBezTo>
                  <a:cubicBezTo>
                    <a:pt x="86" y="152"/>
                    <a:pt x="179" y="193"/>
                    <a:pt x="179" y="193"/>
                  </a:cubicBezTo>
                  <a:cubicBezTo>
                    <a:pt x="242" y="236"/>
                    <a:pt x="242" y="274"/>
                    <a:pt x="281" y="334"/>
                  </a:cubicBezTo>
                  <a:cubicBezTo>
                    <a:pt x="277" y="351"/>
                    <a:pt x="282" y="374"/>
                    <a:pt x="269" y="385"/>
                  </a:cubicBezTo>
                  <a:cubicBezTo>
                    <a:pt x="249" y="403"/>
                    <a:pt x="218" y="402"/>
                    <a:pt x="192" y="411"/>
                  </a:cubicBezTo>
                  <a:cubicBezTo>
                    <a:pt x="130" y="432"/>
                    <a:pt x="66" y="437"/>
                    <a:pt x="0" y="4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0760" y="4222080"/>
              <a:ext cx="609480" cy="9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2720" y="4878720"/>
              <a:ext cx="10152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72720" y="4463280"/>
              <a:ext cx="10152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15880" y="339084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26080" y="411660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23480" y="3839760"/>
              <a:ext cx="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23480" y="5017320"/>
              <a:ext cx="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6324480" y="3924360"/>
            <a:ext cx="2438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43815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392436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67640" y="3960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062920" y="3960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68000" y="449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43960" y="510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063280" y="449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39600" y="510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88040" y="3375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10:49:31Z</dcterms:created>
  <dc:creator>aa</dc:creator>
  <dc:description/>
  <dc:language>en-US</dc:language>
  <cp:lastModifiedBy>Ritesh</cp:lastModifiedBy>
  <dcterms:modified xsi:type="dcterms:W3CDTF">2001-05-16T18:26:20Z</dcterms:modified>
  <cp:revision>23</cp:revision>
  <dc:subject/>
  <dc:title>Boolean Algebra</dc:title>
</cp:coreProperties>
</file>